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2C56-3617-400A-AFD9-215F3EA7E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ECD9-1369-4F7A-AF1E-F8ADA2358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0C27-67FD-4583-BC22-292957ABC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4E2F-2CC4-4D5E-AEB7-EB0308905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3041-CDC4-4F98-8CFA-E9FEFB5070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9B0A-3302-43C5-A995-F47BE0886F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52B5-1C70-4255-9DAC-6764B1DEA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AB41-F9AF-42DC-A3A8-984387AA86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2163-516A-4FDF-8A9B-6D7ECBB9A0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0D6C-9A15-40D5-B2DC-5DE5865B77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CD49-4F67-4904-8BEA-BA2D32B69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DF95-5597-4B89-9C81-2DBB6314C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9FD8-B06B-4352-B975-8A37245CEB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657D-0617-43D2-A4BB-644CAC76CE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CA2F-C07C-435C-B25B-B5050295F3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7B5E-E650-4C1A-B022-ABEA09396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2C3B-BECE-42CD-B06C-4413CDC87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8F34-7560-425D-9D0A-030445585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68F2-9E11-4759-9C03-9F62E82E8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75DF-F64C-498A-BB9B-15F972153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4E57-0AD8-4EF3-8D03-444B46B4C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38A9-BE12-49A8-AB40-45423878E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B754-B343-492E-88BB-D12DB8855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D103-CA35-444A-8CAB-A41BC5220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BB42-F52F-4439-95D5-289B05977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360520"/>
            <a:ext cx="84582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i="1" lang="en-US" sz="7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E4AF-F603-489F-876F-F6749E58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F92A-7301-4EB5-B836-0729F6EDCD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Stakeholders Onboar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ot Just “A CSO Thing”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399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QS for Enterococcus - 100 geometric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74 -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580 -19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non-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55 - 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400 -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40608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CA43-703B-48F6-B0AD-F2FC5740F6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ew Castle County and DelDOT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Stormwater NPDES’s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DL will treat New Castle County as one big point sourc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PA Region 3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load reductions in TMDLs for other urbanized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peper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fax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2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lington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urban Bos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% - 99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E245-8FBE-412C-AAB8-32B243198C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the State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river and stream miles don’t support primary contac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doing TMD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water NPDE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REC looking for model to apply to other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2280" y="1981080"/>
            <a:ext cx="4876560" cy="4191120"/>
            <a:chOff x="152280" y="1981080"/>
            <a:chExt cx="4876560" cy="41911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0" t="12458" r="2200" b="7266"/>
            <a:stretch/>
          </p:blipFill>
          <p:spPr>
            <a:xfrm>
              <a:off x="595800" y="1981080"/>
              <a:ext cx="44330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52280" y="5587560"/>
              <a:ext cx="1507680" cy="57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6B3A-2BB7-44F8-9E3B-351DE2401D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EPA Region 3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shed-wi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ources - multipl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s, agriculture, suburban/urban storm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cteria, nutrients, sediment,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upport key leg of CSO Policy - WQS reviews and LTC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cience for UAA leads to better TMDL and leverage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5E57-59EB-4AE0-9563-0B912D6A97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- consensus workplan for scientifically-based UAA and TMDL based on appropriate wet weather water qualit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stakeholder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team - regulators and 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 Advisory Group - citizen, special interes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37E3-5BAE-46FB-8628-DB5A50DE2C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ssessment and gap analysis - data needs t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A based on goo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attainment of current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feasible, appropriat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DL based on goo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plan for UAA and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0DE2-EACF-4F9B-A957-A897C03905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Advisory Group - establish issues and priorities across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people want to spend thei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s CSOs in perspective with other watersh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F716-BE27-4FEA-8519-C20DDB77AC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UAA with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d analyses for UAA will be improvement over many TMDL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- do UAA, revise WQS, do TM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nsitive option - phased TMDL implementation with completion of UAA, WQS revision and non-point BMP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B8FA-EE40-4C92-854B-F91349EB52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outre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A/TMDL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AA81-E983-4FB3-B870-50CB4C1A63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302920"/>
            <a:ext cx="807732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Arial Narrow"/>
              </a:rPr>
              <a:t>                 </a:t>
            </a: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Put it In the Plan: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City of Wilmington Links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CSO Controls and Designated Use Reviews</a:t>
            </a:r>
            <a:endParaRPr b="1" i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952880"/>
            <a:ext cx="830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ley and Hansen,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4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472B-2F31-49B6-AA76-9A1031E65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ity of Wilmington, Delawar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2520" y="1981080"/>
            <a:ext cx="384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residents - largest city in Delaware and in the Christina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f 2 CSO communities in Del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of a diverse watershed (agriculture, rural, suburban/ur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384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F54E-BCF1-4FD4-AF72-DB3B1CB990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 CSS at a Glanc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54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compr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70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 miles combined s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C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NMC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expansion of WW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ed XP-SW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erformance - 7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7B3E-EB81-4559-A8CA-5BB6DC2885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’s Plan Guided B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the CSO Task Forc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wide stakeholder group recommends an LTCP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priority C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es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upstream pollutio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BADF-8AAB-4346-81CC-17621E1CA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Evolution of CSO Planning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3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lanning focused on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 weather exclusion for primary contact use in Delaware W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lanning addresses wa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QS revision removed wet weathe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flow” TMDL for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ECEC-2DD9-4A09-BE13-DF50DBD997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’s Enhanced LTCP Links Projects to WQ Objective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 key CSO projects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urrent UAA and WQS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she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 additional CSO controls and other projects based on outcome of UAA and TMD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9355-EF20-4C8D-AFCE-89C13D477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Key CSO Project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3080" y="1981080"/>
            <a:ext cx="2392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that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Task Force’s priority C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&gt; 85%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b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172200" cy="457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A167-3A31-403D-A0C4-CC7CD27AD7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Team of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epartment of Natural Resources and Environmental Control (DNR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Reg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astle County,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of Wilm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E5AA-B60B-4251-A4EB-A1879F25D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3:36:41Z</dcterms:created>
  <dc:creator>mpaist</dc:creator>
  <dc:description/>
  <dc:language>en-US</dc:language>
  <cp:lastModifiedBy> </cp:lastModifiedBy>
  <cp:lastPrinted>1999-10-14T21:27:08Z</cp:lastPrinted>
  <dcterms:modified xsi:type="dcterms:W3CDTF">2004-10-19T11:11:29Z</dcterms:modified>
  <cp:revision>257</cp:revision>
  <dc:subject/>
  <dc:title>City of Wilmington Department of Public Works</dc:title>
</cp:coreProperties>
</file>