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8B114-DA37-4439-807B-8DEA1826AF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6DCF4-C470-4E2D-890C-F55A357590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E9A1E-735A-484C-9976-A14E4C09A4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27754-4FDC-406C-BE55-03F9911288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E0A6A-A367-44AC-9CA3-28EBC39A73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75B7B-F82B-45A5-90E5-5DFA8C6717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8CA77-7704-43D4-894D-A9C1E6A8EE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4ACDA-2582-4383-81F7-68108DF863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968B9-3AB1-40FE-969C-CCAFA42010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057400" y="76320"/>
            <a:ext cx="69343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D1E6E-B61B-4368-97AD-4474A252E4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1533C-6A24-4809-BD42-94B97B2C2E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6DF9E-173C-4B98-9749-3433D7F24B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98E84-52A6-441C-A644-B411450A43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6DF5D-787E-4C4E-A76A-55378462E5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47CF0-EB4F-480D-B3B1-8CCA7CAF22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DEE0D-68A7-4570-B6CC-7749518CD2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8C7CB-121E-4616-BED6-4EBA14FE29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DB69D-8B61-4096-80B4-2DFDE0178C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EB5F0-F75C-4A78-A9BB-D2975DE884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1EF1F-EB20-4324-92CE-A66FF61C82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057400" y="76320"/>
            <a:ext cx="69343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495BC-9486-47B6-B2A5-2B1064C47C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EBB5C-7569-437E-A452-6C7325734C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5FC83-2D17-474C-85CA-DD1AF302D7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CB810-97AF-4366-BF64-8966E536AA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0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0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89BB-7D2E-4C3B-9567-D40B0872B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2360520"/>
            <a:ext cx="8458200" cy="18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3366"/>
                </a:solidFill>
                <a:latin typeface="Arial Narrow"/>
              </a:rPr>
              <a:t>Click to edit the title text format</a:t>
            </a:r>
            <a:endParaRPr b="1" i="1" lang="en-US" sz="7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5855-CDCE-447E-90D6-29439479A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751"/>
              </a:spcBef>
              <a:buClr>
                <a:srgbClr val="99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624"/>
              </a:spcBef>
              <a:buClr>
                <a:srgbClr val="99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624"/>
              </a:spcBef>
              <a:buClr>
                <a:srgbClr val="99cc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D3AD8-817A-479E-A715-8CA1F868585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Getting Stakeholders Onboard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Not Just “A CSO Thing”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23920" y="2133720"/>
            <a:ext cx="399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QS for Enterococcus - 100 geometric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CSO wa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 range 74 - 2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th % range 580 -19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non-CSO wa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 range 55 - 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th % range 400 -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4060800" cy="472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7FE34-3B46-4BB0-B6C1-69AEFD7EF7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New Castle County and DelDOT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Stormwater NPDES’s Onboard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MDL will treat New Castle County as one big point source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 EPA Region 3,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load reductions in TMDLs for other urbanized ar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peper, 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5%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fax Co., 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2% - 98%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lington Co., 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5% - 98%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urban Bos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2% - 99%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F8194-6144-454C-BB97-6D690534D7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Getting the State Onboard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68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% of river and stream miles don’t support primary contact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doing TMD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mwater NPDES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REC looking for model to apply to other watersh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52280" y="1981080"/>
            <a:ext cx="4876560" cy="4191120"/>
            <a:chOff x="152280" y="1981080"/>
            <a:chExt cx="4876560" cy="419112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rcRect l="0" t="12458" r="2200" b="7266"/>
            <a:stretch/>
          </p:blipFill>
          <p:spPr>
            <a:xfrm>
              <a:off x="595800" y="1981080"/>
              <a:ext cx="443304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52280" y="5587560"/>
              <a:ext cx="1507680" cy="57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57309-6E45-4E1E-9F51-88DBF75EFF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Getting EPA Region 3 Onboard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l Case Stu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shed-wide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sources - multiple 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Os, agriculture, suburban/urban storm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bacteria, nutrients, sediment, habi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support key leg of CSO Policy - WQS reviews and LTCP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science for UAA leads to better TMDL and leverages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E29B3-C168-471A-81EF-0F723B29E9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Intgrated UAA and TMDL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Phase 1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- consensus workplan for scientifically-based UAA and TMDL based on appropriate wet weather water quality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 stakeholder ef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ion team - regulators and regu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keholder Advisory Group - citizen, special interest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F9FBB-3DBC-450A-93CB-4C66EE1BC1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Intgrated UAA and TMDL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Phase 1 Scope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assessment and gap analysis - data needs to suppo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AA based on good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of attainment of current 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st feasible, appropriate 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MDL based on good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collection plan for UAA and TM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95584-1C0D-47BF-8310-AE9A600E40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Intgrated UAA and TMDL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Phase 1 Scope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keholder Advisory Group - establish issues and priorities across water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do people want to spend their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s CSOs in perspective with other watershed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8E1DA-9D46-4D04-9E63-AFE1CE51B8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Intgrated UAA and TMDL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Phase 1 Scope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ng UAA with TM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and analyses for UAA will be improvement over many TMDLs to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l - do UAA, revise WQS, do TM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sensitive option - phased TMDL implementation with completion of UAA, WQS revision and non-point BMP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8E258-13B3-4686-B614-AED223EBC3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Intgrated UAA and TMDL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Phase 1 Scope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outre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outreach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AA/TMDL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66063-0AAC-46E8-9D57-2EF57195A9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2302920"/>
            <a:ext cx="8077320" cy="17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3366"/>
                </a:solidFill>
                <a:latin typeface="Arial Narrow"/>
              </a:rPr>
              <a:t>                 </a:t>
            </a:r>
            <a:r>
              <a:rPr b="0" lang="en-US" sz="3600" spc="-1" strike="noStrike">
                <a:solidFill>
                  <a:srgbClr val="003366"/>
                </a:solidFill>
                <a:latin typeface="Arial Narrow"/>
              </a:rPr>
              <a:t>Put it In the Plan: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Narrow"/>
              </a:rPr>
              <a:t>City of Wilmington Links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 Narrow"/>
              </a:rPr>
              <a:t>CSO Controls and Designated Use Reviews</a:t>
            </a:r>
            <a:endParaRPr b="1" i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4952880"/>
            <a:ext cx="83059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eeley and Hansen, L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4120" y="3049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86169-0110-4568-8A8A-F2396B6984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City of Wilmington, Delaware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2520" y="1981080"/>
            <a:ext cx="384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2,000 residents - largest city in Delaware and in the Christina Ba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of 2 CSO communities in Dela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tom of a diverse watershed (agriculture, rural, suburban/urb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038480" cy="449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0FADB-3375-41ED-B396-5821781948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Wilmington CSS at a Glance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954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S compri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700 ac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0 miles combined se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 C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hensive NMC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nt expansion of WW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ibrated XP-SW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performance - 75% cap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F29FC-D1F3-4407-A4E7-F0BE14042E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Wilmington’s Plan Guided By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the CSO Task Force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3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ewide stakeholder group recommends an LTCP tha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es priority C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85% cap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ies with TMD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es upstream pollution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E5BD2-5A7A-40B4-9DEF-12CD352DE8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Evolution of CSO Planning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833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planning focused on 85% cap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t weather exclusion for primary contact use in Delaware WQ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planning addresses water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QS revision removed wet weather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flow” TMDL for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A63BB-4204-404D-B6E9-3C1B5AEA45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Wilmington’s Enhanced LTCP Links Projects to WQ Objectives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83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ild key CSO projects 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urrent UAA and WQS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shed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with TMD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aluate additional CSO controls and other projects based on outcome of UAA and TMD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7347E-0031-4BB6-A80B-A2E8390B1E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Key CSO Projects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53080" y="1981080"/>
            <a:ext cx="23925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s that make s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Task Force’s priority C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&gt; 85%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27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by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6172200" cy="457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C4CA8-4D02-4E17-AD04-0D51DD242F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7400" y="763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Integrated UAA and TMDL</a:t>
            </a:r>
            <a:endParaRPr b="1" i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ion Team of key stakeh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Department of Natural Resources and Environmental Control (DNRE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A Reg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Castle County,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D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y of Wilm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D8FF5-6C41-4DDC-9ED0-B927B7A60C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3T13:36:41Z</dcterms:created>
  <dc:creator>mpaist</dc:creator>
  <dc:description/>
  <dc:language>en-US</dc:language>
  <cp:lastModifiedBy> </cp:lastModifiedBy>
  <cp:lastPrinted>1999-10-14T21:27:08Z</cp:lastPrinted>
  <dcterms:modified xsi:type="dcterms:W3CDTF">2004-10-19T11:11:29Z</dcterms:modified>
  <cp:revision>257</cp:revision>
  <dc:subject/>
  <dc:title>City of Wilmington Department of Public Works</dc:title>
</cp:coreProperties>
</file>