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B1AF3-9F0A-4277-ACCA-5FC96FD7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157F4-7E2A-46D1-931E-8B180ABC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FAD93-F6F7-4F40-B771-7556017D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751A3-6B1D-484E-9008-6BA8C67C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7674F-71ED-405D-928F-48570C58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0D164-F3B6-4525-B107-B396E4CD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1F7A8-196C-41B1-B9B9-5DF66315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8C9D8-AC53-4ED8-AD6F-C7DB3DD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7D3FF-26E1-4A9D-8829-9B067D58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7831B-188F-49FE-90C7-827114A4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55582-B20C-4B53-90AD-CD485EB6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82AD9-2AE0-4FC1-BF22-EAA433AD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404640"/>
            <a:ext cx="438120" cy="474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40464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830160"/>
            <a:ext cx="422280" cy="474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7320" y="830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54200"/>
            <a:ext cx="560520" cy="42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2970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087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4647960" y="6476760"/>
            <a:ext cx="4267080" cy="759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29160" bIns="29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915400" y="4191120"/>
            <a:ext cx="7632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36960" y="646596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MicrogrammaDBolExt"/>
              </a:rPr>
              <a:t>Greeley and Hansen </a:t>
            </a:r>
            <a:r>
              <a:rPr b="0" lang="en-US" sz="700" spc="-1" strike="noStrike">
                <a:solidFill>
                  <a:srgbClr val="008000"/>
                </a:solidFill>
                <a:latin typeface="MicrogrammaDBolExt"/>
              </a:rPr>
              <a:t>LL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2438280"/>
            <a:ext cx="9009000" cy="1052640"/>
            <a:chOff x="135000" y="2438280"/>
            <a:chExt cx="9009000" cy="1052640"/>
          </a:xfrm>
        </p:grpSpPr>
        <p:sp>
          <p:nvSpPr>
            <p:cNvPr id="49" name=""/>
            <p:cNvSpPr/>
            <p:nvPr/>
          </p:nvSpPr>
          <p:spPr>
            <a:xfrm>
              <a:off x="425520" y="2546280"/>
              <a:ext cx="438120" cy="47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8200" y="25462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9360" y="2968560"/>
              <a:ext cx="422280" cy="474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7120" y="2971800"/>
              <a:ext cx="3682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500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51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0DAF-098A-4040-9979-AD6D93F199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9840" y="636120"/>
            <a:ext cx="67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41338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resented By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yde Wilb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01 817 372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wilber@greeley-hansen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icrogrammaDBolExt"/>
              </a:rPr>
              <a:t>Greeley and Hansen </a:t>
            </a:r>
            <a:r>
              <a:rPr b="1" lang="en-US" sz="1200" spc="-1" strike="noStrike">
                <a:solidFill>
                  <a:srgbClr val="000099"/>
                </a:solidFill>
                <a:latin typeface="MicrogrammaDBolExt"/>
              </a:rPr>
              <a:t>LL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October, 200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46360"/>
            <a:ext cx="91440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  <a:ea typeface="Times New Roman"/>
              </a:rPr>
              <a:t>Simplified UA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  <a:ea typeface="Times New Roman"/>
              </a:rPr>
              <a:t>Do they exist?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ansas Economic Consideration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What activities are apparent along the stream that might impact the water quality of the stream segment, i.e. discharges, cropland, grazing activities,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DHE Over 3 years…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cording to KDHE, "Four hundred twenty seven stream segments and 45 lakes have been evaluated by a use attainability analysis (UAA) to determine the appropriate recreational use design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souri Department of Natural Resourc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ter Protection Program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creational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 Attainability Analysi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7128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ated Purpose of MDNR UAA WBC Protocol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ly with federal requirements for the designation of recreational uses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sist in identifying waters of the State which support recreational uses,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pond to the changes in capacity of surface waters to support recreational uses, and/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view and modify, as appropriate, the recreational designation of surface wa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DN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ecklists very similar to KDHE  - but…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41200" y="2906640"/>
            <a:ext cx="191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y interested person may conduc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Attainability Analysis (UAA) and submi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ulting report to the Department of Natu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urces (the department).  An internal UA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iew committee will meet periodically,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eded, to review completed UAA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uracy, completeness, and adequ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1360" y="347760"/>
            <a:ext cx="35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DNR – HELP 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DNR WBC Protocol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r the 6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s the Federal Register Language – but adds to Natural and Low Flow Criteri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DNR – WBC Natural Condition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watersheds contain both natural and anthropogenic sources of bacteria, the UAA must separately quantify the bacterial contributions from natural sources and show through science that the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  <a:ea typeface="Times New Roman"/>
              </a:rPr>
              <a:t>natural contribution alon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ause for the water quality to exceed the bacterial standard. 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ow-Flow Conditions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892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maximum depth of at least one (1.0) meter (3.28 feet) in the deepest pool or an average depth of at least one-half (0.5) meter (1.64 feet) must be maintained during base flow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Observation Checklist similar to Kansa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4504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wimm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kin div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UBA div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ub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 ski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ind surfing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ayak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at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67120" y="1218960"/>
            <a:ext cx="414504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ad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af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un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rapp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ish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ne of the abov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: (include number of individuals recreating, frequency of use, photo-documentation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vidence of recreational uses, etc.)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Complicated does a UAA need to be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9040" y="222048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nnsylvani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ansa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ssour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4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ut….*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00200" y="184320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nformation is not to be used solely for removal of whole body contact recreation but rather is to provide a more comprehensive understanding of water conditions.  Consequently, this information is not intended to directly influence a decision on the recreation use analysis but may point to conditions that need further analysis or that effect another us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re these drive by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-site data collection of stream character – intended to be less than a day –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t may require repea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sence of incompatible conditions (Agriculture, discharges) taken into consider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pth and Flow alone can preclude the us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isting Use definition unresolve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453760"/>
            <a:ext cx="914400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333399"/>
                </a:solidFill>
                <a:latin typeface="Comic Sans MS"/>
              </a:rPr>
              <a:t>QUESTIONS </a:t>
            </a:r>
            <a:br>
              <a:rPr sz="8500"/>
            </a:br>
            <a:r>
              <a:rPr b="1" lang="en-US" sz="85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1" lang="en-US" sz="85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e have approved 100’s of UAAs in Pennsylvania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904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st are actually Upgrad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ld to Warm Water Fisheri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 a bit more scrutiny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rejected – but not because it was a downgrade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9360" y="163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Kansas Department of Health and Environmen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Bureau of Environmental Field Services</a:t>
            </a:r>
            <a:br>
              <a:rPr sz="2800"/>
            </a:b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USE ATTAINABILITY ANALYSIS (UAA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F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PRIMARY AND SECONDARY CONTACT RECRE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DH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checklist approa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61960" y="9360"/>
            <a:ext cx="622008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ansas Primary Contact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isting Use Checklis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Primary contact recreation use shall be considered existing in streams in which indications of the following uses are evident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swimm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skin div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boa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waterski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mussel harves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windsurf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or which were used for this purpose on or after November 28, 1975 (based on interviews with streamside landowners or other knowledgeable individuals or other dated documentation)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ansas Secondary Contact Existing Use Checklis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wad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trapp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Fish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PTypographicSymbol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hunt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or which were used for this purpose on or after November 28, 1975 (based on interviews with streamside landowners or other knowledgeable individuals or other dated documentation)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ansas Primary Contact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Flow Criteria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An average depth of at least 0.5 meter or a maximum depth of at least 1.0 meter at base flow conditions is considered minimal for primary contact recreation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Base = Fair Weather Fl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4:25:33Z</dcterms:created>
  <dc:creator>Valued Gateway Client</dc:creator>
  <dc:description/>
  <dc:language>en-US</dc:language>
  <cp:lastModifiedBy> </cp:lastModifiedBy>
  <dcterms:modified xsi:type="dcterms:W3CDTF">2004-10-15T20:27:40Z</dcterms:modified>
  <cp:revision>54</cp:revision>
  <dc:subject/>
  <dc:title>PowerPoint Presentation</dc:title>
</cp:coreProperties>
</file>