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62AB-C6F4-4082-B0F6-A227D9FD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A8B-BD83-4A0A-AFA1-78CFE9D4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CBE-317A-4712-99CE-DA8C5C62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442-1127-4221-B96A-B04506B3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75DF-6B67-4598-82F8-CF6A514E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5720-D2A3-41CF-9748-F9DE8ED0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6F9B-6EF7-4962-A9DE-246312F2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D8D5-06DB-4005-A4E3-6C8BC8A3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1DA8-FEA6-464D-8FE9-C923DE06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EF6D-BB57-4F16-A52F-CB36FBCD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5B88-7303-40B7-A35A-23102513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5FC-3E35-4F1E-BAA8-98DD769D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811D-21AF-4BF3-A5C6-540FFD7B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0E95-9438-4F72-955B-83BBA208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FE4F-5103-4C3B-81CB-DAD05018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443A-0778-4447-8527-5ED20BCA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6B62-4347-4BB0-8C20-C8F9D8CC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0E2-B3B4-48B3-8CF3-A5AEC730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BEE-4348-48FD-BAB3-05FEF9B7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645-27E2-44A1-850F-093631D5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4119-CF9A-4801-ABA3-B8AC33A9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20C-BFE6-45C8-833A-118646B2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342-EF61-44DE-86C5-5B97BB6B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ADD-41AC-4781-95FE-AD462658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0CBD-25A7-4302-B769-E1CBF5D9943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B11B-1B95-4E1A-83E8-1559F822EDF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FUNDING WQ STUDIES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acking the UAA Code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ago, October 18 &amp; 19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 Weaver, Kelly &amp; Weaver P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ational Clean &amp; Safe Water Trust Fund</a:t>
            </a:r>
            <a:br>
              <a:rPr sz="3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Sustainable Program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e water &amp; wastewater infrastructure construction – grants &amp; lo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tershed planning,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, demon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management Progra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rces: All Americans Benef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Excise Fee on Related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544-C2D3-4776-9E38-724B78DBB2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Funding WQ Studie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C. We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ly &amp; Weaver P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e 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Dupont Circle, N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ton, D.C. 200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 797-7100, fax 939-69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ver@kellyweave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BCB-3AF6-48F1-BF21-BD15C3053D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er Quality Standa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teria: narrative, numer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ministrative/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Sche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mporary WQ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tidegradation Poli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84E8-E0E0-4859-A063-E9000A5250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QS Implementation Schedules</a:t>
            </a:r>
            <a:br>
              <a:rPr sz="38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Implemented Through NPDES Permit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e WQSs Include Schedule Authority – EPA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ar-Kist Carib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lemented Through WQMPs and NPDES Perm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mits Include Many Ongoing, Enforceable Requirement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more Stringent WQ Effluent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O NM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ly Operate &amp;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s for “effluent limitation, other limitation, prohibition or 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PDES Permits Remain Effective, Enforceable Until Chang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8A7-D50C-47E4-944B-A6311AEA5F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WQS Reviews/UAA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ential use assess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uses, subcateg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ary, secondary recre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d, warm water aquatic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A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6A9-7AC8-440F-907A-9BEA99A8AF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WQ Studies - Review/UAAs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ed scientific assess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existing and attainable u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stated uses are appropri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e potential uses by exam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ological characterist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economic constr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516-09E4-4421-A010-1855B72960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WQ Studies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-  EPA,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, chemical, bio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: magnitude, frequency, du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ources of pollution/pollu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or TMDL determ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or Effluent lim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23A-E8B3-4C4E-BB3A-6D02A29959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WQS Review - Referenc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PA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Water Quality Standards Handboo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PA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Guidance for Coordinating CSO Long-Term Planning with Water Quality Standards Review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July 2001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PA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nsolidated Assessment and Listing Methodology (“CALM”) , Toward a Compendium of Best Practic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First Edition, July 200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PA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echnical Support Document for Water Quality-based Toxics Contro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March 1991, and draft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mplementation Guidance for Ambient Water Quality Criteria for Bacteria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ay 200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hio EPA, other state guidan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PA case studies: “Plan for Supporting States and Tribes on Designated Use Issues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ther scientifically defensible approa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BC7-0C9A-43C4-B1DD-FF44A590CC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unding WQ Stud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a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ct Public Health/Environm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te-Specific Sc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tershed, Partn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ehensive CWA Fra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,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ientific Peer 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23A-8D89-47C0-9323-6E4FA1CBF7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unding WQ Stud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tential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shed partners, local gover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ed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DI – USGS, FWS, Bur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DA --  N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HS - F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ies, colleges, research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nonprofit groups - WERF, AWW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48A-8E9D-4156-887A-1BF97AB574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4:12:28Z</dcterms:created>
  <dc:creator>Bob Weaver</dc:creator>
  <dc:description/>
  <dc:language>en-US</dc:language>
  <cp:lastModifiedBy> </cp:lastModifiedBy>
  <dcterms:modified xsi:type="dcterms:W3CDTF">2004-10-15T20:28:50Z</dcterms:modified>
  <cp:revision>6</cp:revision>
  <dc:subject/>
  <dc:title>FUNDING WQS REVIEWES</dc:title>
</cp:coreProperties>
</file>