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EFF-33DE-4EBF-B70E-9D12A29D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946-E1B0-4CFD-85E9-1A4C51A1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EF6-C258-477F-929A-747AFBEF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FC3-4F42-47FF-B5AE-33C7561F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D5C9-0A4B-4B97-8BEC-7B9AB519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2CE6-FE38-4883-9712-2831F6EF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300E-93AD-4BA7-AEEF-412BCF61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3E9F-9A48-4410-8B99-C56BEEB2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A746-459A-439C-8B8B-84284380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0C5A-6496-433E-AC02-9D4CBDBA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D30A-F926-4C6C-A871-55A6E909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BA3-3185-4476-9D36-5C63594A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1F04-705C-4197-9786-36B34A2A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087D-1F8C-441E-9384-52CDD5C5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807C-0074-4795-BD4A-E88AAF4B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E39F-53A8-41E9-839E-ADDF6FE4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9DCC-6D67-44F0-9F13-39A67D58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5F2-BF15-4035-BB5A-DE6FBACD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005-C17C-4166-A9FE-1608A344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5CF-71F1-466B-BF3D-031A1647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A0B-5C8F-4605-8401-A27D6D09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902-8000-4F14-9001-3183A1E0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C1C-3356-4D25-8B24-E5584893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017-BB46-4DB6-9D1B-1B3563D9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EF45-8C26-4AFC-A0DE-086E5CB049F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3867-C2DC-4D41-982F-C1C2A0D595F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FUNDING WQ STUDIES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acking the UAA Code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ago, October 18 &amp; 19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 Weaver, Kelly &amp; Weaver P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ational Clean &amp; Safe Water Trust Fund</a:t>
            </a:r>
            <a:br>
              <a:rPr sz="3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Sustainable Program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e water &amp; wastewater infrastructure construction – grants &amp; lo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tershed planning,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, demon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management Progra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rces: All Americans Benef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Excise Fee on Related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26E-C2FD-433A-856B-A34ACAE9CB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Funding WQ Studie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C. We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ly &amp; Weaver P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e 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Dupont Circle, N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ton, D.C. 200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 797-7100, fax 939-69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ver@kellyweave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797-006F-4AA9-ABB6-02E42D8BCC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er Quality Standa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teria: narrative, numer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ministrative/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Sche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mporary WQ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tidegradation Poli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B63-67D6-4133-BC3E-109B44FBF4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QS Implementation Schedules</a:t>
            </a:r>
            <a:br>
              <a:rPr sz="38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Implemented Through NPDES Permit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e WQSs Include Schedule Authority – EPA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ar-Kist Carib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lemented Through WQMPs and NPDES Perm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mits Include Many Ongoing, Enforceable Requirement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more Stringent WQ Effluent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O NM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ly Operate &amp;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s for “effluent limitation, other limitation, prohibition or 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PDES Permits Remain Effective, Enforceable Until Chang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03D5-1C50-4829-B2E6-27BA8B66BC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WQS Reviews/UAA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ential use assess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uses, subcateg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ary, secondary recre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d, warm water aquatic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A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BA2-2ADC-4917-B151-17528655F9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Q Studies - Review/UAAs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ed scientific assess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existing and attainable u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stated uses are appropri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e potential uses by exam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ological characterist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economic constr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D25-3B09-4262-B571-C9EEFC2289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WQ Studi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-  EPA,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, chemical, bio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: magnitude, frequency, du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ources of pollution/pollu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or TMDL determ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or Effluent lim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843-F2FC-46BC-8238-94A4FADFD4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WQS Review - Referenc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PA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Water Quality Standards Handboo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PA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Guidance for Coordinating CSO Long-Term Planning with Water Quality Standards Review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July 2001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PA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nsolidated Assessment and Listing Methodology (“CALM”) , Toward a Compendium of Best Practic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First Edition, July 200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PA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echnical Support Document for Water Quality-based Toxics Contro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March 1991, and draft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mplementation Guidance for Ambient Water Quality Criteria for Bacteria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ay 200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hio EPA, other state guidan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PA case studies: “Plan for Supporting States and Tribes on Designated Use Issues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ther scientifically defensible approa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328-4256-4035-B035-D463E13A5D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unding WQ Stud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a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ct Public Health/Environm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te-Specific Sc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tershed, Partn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ehensive CWA Fra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,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ientific Peer 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B07-3B07-47D9-81DF-3FD53826CA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unding WQ Stud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tential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shed partners, local gover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ed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DI – USGS, FWS, Bur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DA --  N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HS - F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ies, colleges, research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nonprofit groups - WERF, AWW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F50-AF94-45DB-8834-F15AA4A475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4:12:28Z</dcterms:created>
  <dc:creator>Bob Weaver</dc:creator>
  <dc:description/>
  <dc:language>en-US</dc:language>
  <cp:lastModifiedBy> </cp:lastModifiedBy>
  <dcterms:modified xsi:type="dcterms:W3CDTF">2004-10-15T20:28:50Z</dcterms:modified>
  <cp:revision>6</cp:revision>
  <dc:subject/>
  <dc:title>FUNDING WQS REVIEWES</dc:title>
</cp:coreProperties>
</file>