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6FC01-F72E-453F-B4AB-A2C442F61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460D5-58C6-4710-AEDD-B980FE340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6F143-07A2-4A31-9BBA-CAA4C7537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1E117-1D6C-446E-871F-5DB19EB68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3309EE-DD90-405B-A207-982BF2F811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CBAB2-F1F8-4533-8BB7-A8FE1F291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6DFBA-EED4-4607-BCB7-DA7E1A299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C7CA0-7DCD-4340-90BD-2D1369348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8DE0C-E880-4249-82F2-54B342505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BCFAC-C070-42F7-B2B7-9C4A70681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FA4D6-9E1D-405E-89C8-129967AF0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35BAE-DAE9-4D31-98A3-B16430F42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FBADE-C263-41D1-BDE0-B71B1A9D7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A2AE4-741A-4BF8-AF46-F23CB2E61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A9A41-729F-4264-8920-76358CC62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24A2D2-A3BC-4C51-AA4A-4D4741747D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6E9914-C836-4DFA-A1B3-2AAC75E361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226A2-7974-434A-8CE1-A17DF18E0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A1B8A-55F6-4509-A453-6FE32E813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7DC00-EBAB-45F8-9F74-79A97E9F3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6F8BA-666A-4AEC-B86E-2CD5FF268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56889-AE5F-434C-B525-DE426A299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F7296-FC01-4F69-ADA9-FB3D55E53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B6A6B-5214-4909-8E72-9791CD1CB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C54D-6ACC-426A-9FCE-1AAA5B229A2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11366-4960-4F98-8E94-2C6E160AC29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61760"/>
            <a:ext cx="9066240" cy="1523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ccecff"/>
                </a:solidFill>
                <a:latin typeface="Arial"/>
              </a:rPr>
              <a:t>Cracking the UAA Code</a:t>
            </a:r>
            <a:br>
              <a:rPr sz="4800"/>
            </a:br>
            <a:br>
              <a:rPr sz="4800"/>
            </a:br>
            <a:r>
              <a:rPr b="0" lang="en-US" sz="4800" spc="-1" strike="noStrike">
                <a:solidFill>
                  <a:srgbClr val="ccecff"/>
                </a:solidFill>
                <a:latin typeface="Arial"/>
              </a:rPr>
              <a:t>Locking in the Result</a:t>
            </a:r>
            <a:endParaRPr b="0" lang="en-US" sz="4800" spc="-1" strike="noStrike">
              <a:solidFill>
                <a:srgbClr val="ccecff"/>
              </a:solidFill>
              <a:latin typeface="Arial"/>
            </a:endParaRPr>
          </a:p>
        </p:txBody>
      </p:sp>
      <p:sp>
        <p:nvSpPr>
          <p:cNvPr id="212" name="PlaceHolder 2"/>
          <p:cNvSpPr>
            <a:spLocks noGrp="1"/>
          </p:cNvSpPr>
          <p:nvPr>
            <p:ph type="subTitle"/>
          </p:nvPr>
        </p:nvSpPr>
        <p:spPr>
          <a:xfrm>
            <a:off x="685440" y="3429000"/>
            <a:ext cx="80773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Calamit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quaLaw</a:t>
            </a: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91A3AA17-8226-40F9-9607-B63911AE2F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chanisms</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O Policy – Mentions Judicial Order</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 to note limitations of “policy”</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 primac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 law (India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634E82E-6BAB-4C26-82DD-00A0DB301A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chanisms</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depend on whether CSOs are illegal</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view on CSO Policy</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A dispute over mechanism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s weigh i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gress weighs i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B98FD8C-13F9-4EA6-A471-54035EDC11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B. - VA HUD Language</a:t>
            </a: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mittee clarifies that “shall conform” in Clean Water Act (CWA) Section 402(q)  means that National Pollution Discharge Elimination System (NPDES) permitting authorities should evaluate the facts and circumstances of each CSO community’s program against the CSO Control Policy’s themes of flexibility, site-specificity, cost-effectiveness, and water quality standards achievement after long-term control plan implementation (LTCP).  NPDES permits should be used to impose LTCP obligations whenever possible.  In authorized states, state administrative orders or state judicial orders should be the primary alternative mechanism to NPDES permits for imposing LTCP obligations.  This clarification does not preclude state and/or federal enforcement actions where appropriate.</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4D47F8F-BC3F-4DD9-9B78-661D3C31D6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tting Agencies to Commit</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f us have timing issu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agencies prefer to date endlessl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would like to defer any hard decis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CSO community that is at risk</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E7C3A33-DB3C-451C-8BEC-2A5F444A90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TCP Approval</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includ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QS Determination</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nation of how the result will be locked in and implemented</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6C700BB-5A46-4FD1-8162-12FA8ADC75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wo Step Process</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Water Quality Standards Compliance Determination</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needs to be in writing</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go in all subsequent permits and accompanying fact sheet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s agencies to stand with you</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B:  This is especially appropriate if you will use a consent decre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F4A1365-E43F-4DD4-A2E2-99BDB9A243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king in the Result – Step 2</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WQS Regulation should address required level of CSO control</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s LTCP and WQS Regulation</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your compliance strategy that the 7</a:t>
            </a:r>
            <a:r>
              <a:rPr b="0" lang="en-US" sz="2800" spc="-1" strike="noStrike" baseline="30000">
                <a:solidFill>
                  <a:srgbClr val="ffffff"/>
                </a:solidFill>
                <a:latin typeface="Arial"/>
              </a:rPr>
              <a:t>th</a:t>
            </a:r>
            <a:r>
              <a:rPr b="0" lang="en-US" sz="2800" spc="-1" strike="noStrike">
                <a:solidFill>
                  <a:srgbClr val="ffffff"/>
                </a:solidFill>
                <a:latin typeface="Arial"/>
              </a:rPr>
              <a:t> Circuit was looking fo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establishes CSO level of control for all purposes, such as TMDL</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can do this via State Legislatio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E898CBE-F1B9-4683-9B62-B744F2936E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king in the Result</a:t>
            </a: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QS regulation Option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performance standards in the regul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events in average year</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eric limits</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et WQS 95% of the time - Mas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4E230EA-4B67-4B8D-82ED-CFD78CC6E4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king in the Result</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QS regulation Option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narrative performance standard </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O discharges shall be consistent with an approved LTCP</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74CBF17-04D6-43A0-A9EC-4059D997F8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king in the Result</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QS regulation Options</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interpretive Standard</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ation that CSOs consistent with approved LTCP will not interfere with designated uses</a:t>
            </a: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C7CE5D2-2317-4DFF-8467-128C0A668E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chanisms</a:t>
            </a:r>
            <a:endParaRPr b="0" lang="en-US" sz="4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mi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de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es</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to have your state law/regs resolve this</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3CEBC31-7C27-4DAB-A426-DF766595FA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4-10-19T12:01:44Z</dcterms:modified>
  <cp:revision>30</cp:revision>
  <dc:subject/>
  <dc:title>PowerPoint Presentation</dc:title>
</cp:coreProperties>
</file>