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73FCF0-4315-456E-AE32-2F7C3AC3DA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B6FE26-0880-4818-B3A0-AB4CF6F593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993B43-B4C6-412B-91ED-FA67B2F12E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BCDA9E-3B93-45C2-8056-E0164CFC15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B04C12-38E0-43B2-A660-671A3D66D6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EF9576-AB49-41AC-903A-370832C798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1C89AE-2F7A-4C69-8D1A-9B2BE57037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5567AF-BE57-4C69-84E4-13068BA9AA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14F5E9-243E-48C5-81E0-BEF4E19410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585286-83CE-4C9D-AF3D-854931629D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60CC03-1368-4151-B5E2-A145009831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4A868F-D589-46DC-85A8-2C6BF21571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10CECD-394E-4DCD-8276-0CD71DDA50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BE70BE-E7E1-44E8-8700-D3E95A2CC0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79F515-CBAB-40AD-A0B9-189FC18885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F35411-1C65-4517-A494-E68055E9FE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FB2C3E-07A9-42E6-9DF9-AA8D9D0367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2EAF40-18CF-47A1-AD48-27CA87ACF5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451999-3024-41F3-AFDA-4F33405B26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25A6A2-73C8-4135-9287-4415045C10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EBF081-B40B-44F2-B072-B2A126A671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E1C023-05A1-4D8B-BF2E-FCEDCF0363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66EEBB-039A-4DC9-BD80-638B58E46E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3F3932-5393-4A07-B582-3F690002CE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2400" spc="-1" strike="noStrike">
                    <a:solidFill>
                      <a:srgbClr val="ffffff"/>
                    </a:solidFill>
                    <a:latin typeface="Times New Roman"/>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4921C-684E-4793-8523-60F4A8283482}"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2400" spc="-1" strike="noStrike">
                    <a:solidFill>
                      <a:srgbClr val="ffffff"/>
                    </a:solidFill>
                    <a:latin typeface="Times New Roman"/>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754D4-2FEC-4CA5-AF82-53442E8B26B0}"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0" y="761760"/>
            <a:ext cx="9066240" cy="15238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0" lang="en-US" sz="4800" spc="-1" strike="noStrike">
                <a:solidFill>
                  <a:srgbClr val="ccecff"/>
                </a:solidFill>
                <a:latin typeface="Arial"/>
              </a:rPr>
              <a:t>Cracking the UAA Code</a:t>
            </a:r>
            <a:br>
              <a:rPr sz="4800"/>
            </a:br>
            <a:br>
              <a:rPr sz="4800"/>
            </a:br>
            <a:r>
              <a:rPr b="0" lang="en-US" sz="4800" spc="-1" strike="noStrike">
                <a:solidFill>
                  <a:srgbClr val="ccecff"/>
                </a:solidFill>
                <a:latin typeface="Arial"/>
              </a:rPr>
              <a:t>Locking in the Result</a:t>
            </a:r>
            <a:endParaRPr b="0" lang="en-US" sz="4800" spc="-1" strike="noStrike">
              <a:solidFill>
                <a:srgbClr val="ccecff"/>
              </a:solidFill>
              <a:latin typeface="Arial"/>
            </a:endParaRPr>
          </a:p>
        </p:txBody>
      </p:sp>
      <p:sp>
        <p:nvSpPr>
          <p:cNvPr id="212" name="PlaceHolder 2"/>
          <p:cNvSpPr>
            <a:spLocks noGrp="1"/>
          </p:cNvSpPr>
          <p:nvPr>
            <p:ph type="subTitle"/>
          </p:nvPr>
        </p:nvSpPr>
        <p:spPr>
          <a:xfrm>
            <a:off x="685440" y="3429000"/>
            <a:ext cx="807732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ul Calamita</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quaLaw</a:t>
            </a:r>
            <a:endParaRPr b="0" lang="en-US" sz="3200" spc="-1" strike="noStrike">
              <a:solidFill>
                <a:srgbClr val="ffffff"/>
              </a:solidFill>
              <a:latin typeface="Arial"/>
            </a:endParaRPr>
          </a:p>
        </p:txBody>
      </p:sp>
      <p:sp>
        <p:nvSpPr>
          <p:cNvPr id="4" name="PlaceHolder 3"/>
          <p:cNvSpPr>
            <a:spLocks noGrp="1"/>
          </p:cNvSpPr>
          <p:nvPr>
            <p:ph type="sldNum" idx="6"/>
          </p:nvPr>
        </p:nvSpPr>
        <p:spPr/>
        <p:txBody>
          <a:bodyPr/>
          <a:p>
            <a:fld id="{AA739D9C-A70F-45CF-B417-E36A92202DD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Mechanisms</a:t>
            </a:r>
            <a:endParaRPr b="0" lang="en-US" sz="4400" spc="-1" strike="noStrike">
              <a:solidFill>
                <a:srgbClr val="ccecff"/>
              </a:solidFill>
              <a:latin typeface="Arial"/>
            </a:endParaRPr>
          </a:p>
        </p:txBody>
      </p:sp>
      <p:sp>
        <p:nvSpPr>
          <p:cNvPr id="2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SO Policy – Mentions Judicial Order</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p. to note limitations of “policy”</a:t>
            </a:r>
            <a:endParaRPr b="0" lang="en-US" sz="28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ate primacy</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ate law (Indiana)</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9805EBAF-5333-4A14-8E4E-78FB757669B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Mechanisms</a:t>
            </a:r>
            <a:endParaRPr b="0" lang="en-US" sz="4400" spc="-1" strike="noStrike">
              <a:solidFill>
                <a:srgbClr val="ccecff"/>
              </a:solidFill>
              <a:latin typeface="Arial"/>
            </a:endParaRPr>
          </a:p>
        </p:txBody>
      </p:sp>
      <p:sp>
        <p:nvSpPr>
          <p:cNvPr id="2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y depend on whether CSOs are illegal</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ul’s view on CSO Policy</a:t>
            </a:r>
            <a:endParaRPr b="0" lang="en-US" sz="28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PA dispute over mechanism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ates weigh in?</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gress weighs in….</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878B671E-4E7B-4947-817B-1F6AC25E62C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N.B. - VA HUD Language</a:t>
            </a:r>
            <a:endParaRPr b="0" lang="en-US" sz="4400" spc="-1" strike="noStrike">
              <a:solidFill>
                <a:srgbClr val="ccecff"/>
              </a:solidFill>
              <a:latin typeface="Arial"/>
            </a:endParaRPr>
          </a:p>
        </p:txBody>
      </p:sp>
      <p:sp>
        <p:nvSpPr>
          <p:cNvPr id="2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ommittee clarifies that “shall conform” in Clean Water Act (CWA) Section 402(q)  means that National Pollution Discharge Elimination System (NPDES) permitting authorities should evaluate the facts and circumstances of each CSO community’s program against the CSO Control Policy’s themes of flexibility, site-specificity, cost-effectiveness, and water quality standards achievement after long-term control plan implementation (LTCP).  NPDES permits should be used to impose LTCP obligations whenever possible.  In authorized states, state administrative orders or state judicial orders should be the primary alternative mechanism to NPDES permits for imposing LTCP obligations.  This clarification does not preclude state and/or federal enforcement actions where appropriate.</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C390898F-2031-43CC-B7A7-607F1376817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Getting Agencies to Commit</a:t>
            </a:r>
            <a:endParaRPr b="0" lang="en-US" sz="4400" spc="-1" strike="noStrike">
              <a:solidFill>
                <a:srgbClr val="ccecff"/>
              </a:solidFill>
              <a:latin typeface="Arial"/>
            </a:endParaRPr>
          </a:p>
        </p:txBody>
      </p:sp>
      <p:sp>
        <p:nvSpPr>
          <p:cNvPr id="2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l of us have timing issue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me agencies prefer to date endlessly</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would like to defer any hard decision</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the CSO community that is at risk</a:t>
            </a:r>
            <a:endParaRPr b="0" lang="en-US" sz="32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06F181F5-1296-4E73-97B5-A01946CB37D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LTCP Approval</a:t>
            </a:r>
            <a:endParaRPr b="0" lang="en-US" sz="4400" spc="-1" strike="noStrike">
              <a:solidFill>
                <a:srgbClr val="ccecff"/>
              </a:solidFill>
              <a:latin typeface="Arial"/>
            </a:endParaRPr>
          </a:p>
        </p:txBody>
      </p:sp>
      <p:sp>
        <p:nvSpPr>
          <p:cNvPr id="2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ould include:</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QS Determination</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planation of how the result will be locked in and implemented</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09A0CC4B-54E9-4D35-843F-05F0A865A2D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wo Step Process</a:t>
            </a:r>
            <a:endParaRPr b="0" lang="en-US" sz="4400" spc="-1" strike="noStrike">
              <a:solidFill>
                <a:srgbClr val="ccecff"/>
              </a:solidFill>
              <a:latin typeface="Arial"/>
            </a:endParaRPr>
          </a:p>
        </p:txBody>
      </p:sp>
      <p:sp>
        <p:nvSpPr>
          <p:cNvPr id="2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rst: Water Quality Standards Compliance Determination</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needs to be in writing</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ould go in all subsequent permits and accompanying fact sheets</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ces agencies to stand with you</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B:  This is especially appropriate if you will use a consent decree</a:t>
            </a: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1B17DB64-5548-40E5-BCBF-3161D692C3B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Locking in the Result – Step 2</a:t>
            </a:r>
            <a:endParaRPr b="0" lang="en-US" sz="4400" spc="-1" strike="noStrike">
              <a:solidFill>
                <a:srgbClr val="ccecff"/>
              </a:solidFill>
              <a:latin typeface="Arial"/>
            </a:endParaRPr>
          </a:p>
        </p:txBody>
      </p:sp>
      <p:sp>
        <p:nvSpPr>
          <p:cNvPr id="2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WQS Regulation should address required level of CSO control</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grates LTCP and WQS Regulation</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is your compliance strategy that the 7</a:t>
            </a:r>
            <a:r>
              <a:rPr b="0" lang="en-US" sz="2800" spc="-1" strike="noStrike" baseline="30000">
                <a:solidFill>
                  <a:srgbClr val="ffffff"/>
                </a:solidFill>
                <a:latin typeface="Arial"/>
              </a:rPr>
              <a:t>th</a:t>
            </a:r>
            <a:r>
              <a:rPr b="0" lang="en-US" sz="2800" spc="-1" strike="noStrike">
                <a:solidFill>
                  <a:srgbClr val="ffffff"/>
                </a:solidFill>
                <a:latin typeface="Arial"/>
              </a:rPr>
              <a:t> Circuit was looking for</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establishes CSO level of control for all purposes, such as TMDL</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e: can do this via State Legislation</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C9DF3FA1-CA27-4BF4-9B97-9B74B693039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Locking in the Result</a:t>
            </a:r>
            <a:endParaRPr b="0" lang="en-US" sz="4400" spc="-1" strike="noStrike">
              <a:solidFill>
                <a:srgbClr val="ccecff"/>
              </a:solidFill>
              <a:latin typeface="Arial"/>
            </a:endParaRPr>
          </a:p>
        </p:txBody>
      </p:sp>
      <p:sp>
        <p:nvSpPr>
          <p:cNvPr id="2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QS regulation Options</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t performance standards in the regulation</a:t>
            </a:r>
            <a:endParaRPr b="0" lang="en-US" sz="2800" spc="-1" strike="noStrike">
              <a:solidFill>
                <a:srgbClr val="ffffff"/>
              </a:solidFill>
              <a:latin typeface="Arial"/>
            </a:endParaRPr>
          </a:p>
          <a:p>
            <a:pPr lvl="2" marL="1143000" indent="-228600">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umber of events in average year</a:t>
            </a:r>
            <a:endParaRPr b="0" lang="en-US" sz="2400" spc="-1" strike="noStrike">
              <a:solidFill>
                <a:srgbClr val="ffffff"/>
              </a:solidFill>
              <a:latin typeface="Arial"/>
            </a:endParaRPr>
          </a:p>
          <a:p>
            <a:pPr lvl="2" marL="1143000" indent="-228600">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umeric limits</a:t>
            </a:r>
            <a:endParaRPr b="0" lang="en-US" sz="2400" spc="-1" strike="noStrike">
              <a:solidFill>
                <a:srgbClr val="ffffff"/>
              </a:solidFill>
              <a:latin typeface="Arial"/>
            </a:endParaRPr>
          </a:p>
          <a:p>
            <a:pPr lvl="2" marL="1143000" indent="-228600">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et WQS 95% of the time - Mass</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9F367465-A588-4474-A4B4-F01EB841C6A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Locking in the Result</a:t>
            </a:r>
            <a:endParaRPr b="0" lang="en-US" sz="4400" spc="-1" strike="noStrike">
              <a:solidFill>
                <a:srgbClr val="ccecff"/>
              </a:solidFill>
              <a:latin typeface="Arial"/>
            </a:endParaRPr>
          </a:p>
        </p:txBody>
      </p:sp>
      <p:sp>
        <p:nvSpPr>
          <p:cNvPr id="2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QS regulation Options</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t narrative performance standard </a:t>
            </a:r>
            <a:endParaRPr b="0" lang="en-US" sz="2800" spc="-1" strike="noStrike">
              <a:solidFill>
                <a:srgbClr val="ffffff"/>
              </a:solidFill>
              <a:latin typeface="Arial"/>
            </a:endParaRPr>
          </a:p>
          <a:p>
            <a:pPr lvl="2" marL="1143000" indent="-228600">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SO discharges shall be consistent with an approved LTCP</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8F4AE812-432E-4392-82BD-FCD013794EA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Locking in the Result</a:t>
            </a:r>
            <a:endParaRPr b="0" lang="en-US" sz="4400" spc="-1" strike="noStrike">
              <a:solidFill>
                <a:srgbClr val="ccecff"/>
              </a:solidFill>
              <a:latin typeface="Arial"/>
            </a:endParaRPr>
          </a:p>
        </p:txBody>
      </p:sp>
      <p:sp>
        <p:nvSpPr>
          <p:cNvPr id="2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QS regulation Options</a:t>
            </a:r>
            <a:endParaRPr b="0" lang="en-US" sz="32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t interpretive Standard</a:t>
            </a:r>
            <a:endParaRPr b="0" lang="en-US" sz="2800" spc="-1" strike="noStrike">
              <a:solidFill>
                <a:srgbClr val="ffffff"/>
              </a:solidFill>
              <a:latin typeface="Arial"/>
            </a:endParaRPr>
          </a:p>
          <a:p>
            <a:pPr lvl="2" marL="1143000" indent="-228600">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termination that CSOs consistent with approved LTCP will not interfere with designated uses</a:t>
            </a:r>
            <a:endParaRPr b="0" lang="en-US" sz="24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CDEDB72A-C188-4889-9ADB-2F6BAAF9447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Mechanisms</a:t>
            </a:r>
            <a:endParaRPr b="0" lang="en-US" sz="4400" spc="-1" strike="noStrike">
              <a:solidFill>
                <a:srgbClr val="ccecff"/>
              </a:solidFill>
              <a:latin typeface="Arial"/>
            </a:endParaRPr>
          </a:p>
        </p:txBody>
      </p:sp>
      <p:sp>
        <p:nvSpPr>
          <p:cNvPr id="2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mit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der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crees</a:t>
            </a:r>
            <a:endParaRPr b="0" lang="en-US" sz="32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ok to have your state law/regs resolve this</a:t>
            </a:r>
            <a:endParaRPr b="0" lang="en-US" sz="32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E0456AA2-15A8-4926-94B5-DE2143DBA32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lastModifiedBy>
  <dcterms:modified xsi:type="dcterms:W3CDTF">2004-10-19T12:01:44Z</dcterms:modified>
  <cp:revision>30</cp:revision>
  <dc:subject/>
  <dc:title>PowerPoint Presentation</dc:title>
</cp:coreProperties>
</file>