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C9DC-1621-49DF-9E2C-3B7BDF00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69E5-7917-4BE5-A0EF-5499CF15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610F-199B-41FE-89A1-0A6181EF4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E85E-5ADA-47D6-A91D-ABE3FCFC3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C6F8-AB79-427F-A572-C1424999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6A63-7A8A-4D04-9F7F-ED89CF45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3AF1-5BB3-4A21-808E-B9B35464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727A-EA86-488B-B509-60F56B49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1B75-D1A3-4549-8322-F4A8ECD6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5DF8-788C-48C9-BAE5-6927F540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0078-A65B-47F8-BA61-CA208008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C9A3-DDF4-4099-8681-34418FFB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381B-9A06-47DB-B9BB-C2230B73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227A-1A78-4E07-AD80-BA41C35E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4E4A-DEC6-4565-83DA-9753FAD9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C7A7-AD5E-444A-84B2-44823EACC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0687-7A6C-43FD-AE2F-C04C3CD7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3624-BE2A-4184-A6B2-0260E0F9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4D7C-9879-4E73-AB65-A38C0B93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7A13-7B84-4748-BA54-8C129024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B5A9-3C0F-491E-B764-297154EE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0A9A-DC3E-4B60-8DDE-371134DE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AB3A-A630-4982-9B42-3B3E2259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862D-66F8-4E79-B610-EF94965E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2513-4E31-4358-8A70-5C70F4D437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8C95-FE82-449F-9384-668B7D94C0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066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Cracking the UAA Code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UAA Timing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440" y="34290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 Calami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quaLa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BEEA-9EEB-44DE-A4D3-C2E0BA971D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tcher Insis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ty develops LTCP to very high level of control (96-98% captu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ty refuses to proceed until EPA and State agree to provide WQS deter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356E-C715-4C39-9858-B01E2A0EA1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ox Sco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stops half-way because it realizes it can do better for 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is challenged half way by EP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is stopped near the goal line by citizen group and may be subject to loss of control of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ED9F-A322-4AB9-BFA9-7A689494C5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ox Sco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is raises ultimate compliance issues after LTCP appro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raises ultimate compliance issues with LTCP appro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raises ultimate compliance issues after achieving the presumptive level of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9D0C-B658-4378-A488-9AAD1806E5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ss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ran into issues because the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ed major planning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most cases major capital constr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FORE seeking to integrate CSO level of control with WQ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7250-C192-44D7-8844-955878EECF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ere do you want to b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9E31-ABBA-453C-95E5-87E72C68A5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iming of UAA is Critic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general o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LTCP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some point during phased constr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or near the end of your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tages and disadvantages to 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76CA-A46F-4626-B7B5-691EE43E2D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AA During LTCP Develop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make the largest public works investment in your community’s history without knowing the ultimate legal/regulatory requ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7A2C-63FD-4FFB-9C17-48531D3017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AA During LTCP Develop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able leverage becau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what the Policy calls for (with LTCP developm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law may mirror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gest costs are ahead at this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gest rate increases are ahead at this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itting to enormous pollution re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DBC2-939E-425A-BF97-93459CFC75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AA During LTCP Develop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-effectiveness should be compelling at this stage of decision-ma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may not support your program if you can’t forcefully tell them the result will comply with federal and state 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mize/eliminate legal risk to final program (political challenge always an op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approach usually makes the bond agencies the happiest because it limits the possibility for adverse financial surpr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0034-E373-4BF4-B5DC-5C852C6E1C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AA During LTCP Develop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view that you have not yet “antied” 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s and benefits may be speculative at this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avigation within your program is almost cert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find you have put a level of control out there you can’t achieve – can be highly problematic with public/special interest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ee of the curve may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ctiveness of other controls may be uncert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20A9-83B4-4867-B509-A0CF431D91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ep Thoughts About Tim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tch in time saves n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 has left the s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rse is out of the ba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bird gets the w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mouse gets the chee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time is the cha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put off for tomorrow what you can do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4066-8C8A-4FFD-90DC-4D0190015D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dway or so in your Progra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a leap of faith unless your progra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distinct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readily expandable/agile to change dir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5AE0-F1CE-45FD-95DC-CFB7BC2BF7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dway or so in your Progra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k i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of presumption approach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confident in UAA outcom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, and your program is expandable just in case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tage:  you have “antied”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may have a better feel for what is attainable in your system and from other source redu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1BD0-C16B-4309-9976-262DB94D37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t or Near the “End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have the best and most information about cost and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great deal of progress and credibility under your be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s may blaze the trail allowing you to ride their coat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ss leverage because cost-effectiveness is no longer significa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generation of regulators, special interest folk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of those working on the residual overflows may not have perspective of when the program was developed and approv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approach can make the bond agencies nerv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s might screw it up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7FEB-CFCB-4BFF-B1F6-F8E63C34F7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im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tical landscape at the local, state, and EPA Regional level always mat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ways best to be making progress on the ground while seeking UA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2E0A-B15B-41F4-871D-D0C53BA68F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iming Matt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8646-FDD7-4666-99FB-20295D2482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 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of Six CSO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EE1B-FE03-4250-ADDE-AC44259A5D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me Stretch Curve Bal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 community with a $3 billion investment and a $1 billion enhancement, which is referred to as a “stalling tactic and not a compliance strateg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ential loss of control over future enhancements to LTCP to special interests and federal cou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BA84-5D6A-41BC-A7F2-11462109CD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 community, 10-years into 20-year program with state-approved LTCP implemented via state 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A Regional Office raises fundamental concerns about approach taken to 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1301-BD62-42A7-B966-DAB773EB23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ddle Inning Relief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 NE community 10 years into 20 years separation program implemented via EPA consent 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p in mid-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ieve net reduction of bacteria by ceasing separation and doing retention and 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30% less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32A9-9088-4198-9419-4211BF7A8D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ooking for a Clos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O Community is poised to achieve presumption level of control and, having “antied up.” is seeking EPA UAA assist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5F6F-ECDD-4F4A-8616-DE8DB73B2D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itcher Waives of the Catch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st City in State develops LTCP, which is approved by the State.  City decides to seek EPA concur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A does not concur; raises fundamental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6668-768F-4589-856C-8406EA54DB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4-10-19T11:36:43Z</dcterms:modified>
  <cp:revision>27</cp:revision>
  <dc:subject/>
  <dc:title>PowerPoint Presentation</dc:title>
</cp:coreProperties>
</file>