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E0A-41E8-4AB1-B234-F84F8F5E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396-B452-496B-8AD2-96257AD6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FCE-F1DE-4FE5-842F-2917B597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534-7C13-4143-9067-74BF1A7B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218A-9DA4-4B44-B233-E098C6D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30A3-CCDE-409E-88BE-562CD48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10BF-8A62-48BA-B8FC-777C61E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9536-C3DA-4C4C-B884-A321D0B7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FC1-8C4A-47F2-901D-FAFACF0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6CF7-C6BB-45A4-BE85-D9C03B06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3F73-3D4E-416E-A7C3-F3B970A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FCD-3E96-4C43-87F9-518218B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2224-A272-4ED9-9129-F3F9524D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1A3D-D64F-447B-8442-1292015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7AD3-0EBA-460C-A473-1AF3476C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F20-B8E3-42CF-88A2-30E7C75E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0CF-F76E-4D44-A598-0A602A57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BF2-80C5-4A66-978E-4106DB10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E76-2040-4214-8EB7-52308FD5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C19-DBAA-4B93-A486-865A7885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2D1-81B9-4AD4-8E85-557FF6EB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2F7-3757-4EB8-BC8C-311A394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174-4A80-4A62-A0EF-6E6149D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5AA-98D8-4E00-915F-B6D5E58D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8F77-7DF9-4775-B9BA-7CFD4E2368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FAB4-DD61-465F-B5F0-C4611793C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066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racking the UAA Cod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UAA Tim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Calam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a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9E02-EB46-457C-8313-0640387AA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tcher Ins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develops LTCP to very high level of control (96-98% cap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fuses to proceed until EPA and State agree to provide WQ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D74-36C6-430E-A90A-04187A8AAE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x Sc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ops half-way because it realizes it can do better for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challenged half way by E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stopped near the goal line by citizen group and may be subject to loss of control of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3AA-F833-456D-8D9F-6DE11DB29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x Sco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is raises ultimate compliance issues after LTCP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aises ultimate compliance issues with LTCP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aises ultimate compliance issues after achieving the presumptive level of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425-6477-4598-834E-FA2B4AAB18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an into issues because th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d major planning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st cases major capital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seeking to integrate CSO level of control with WQ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55F-2E8F-4A83-BFB4-8A8CBBA0DF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do you want to b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D54-2FD2-495B-814C-516BC0334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 of UAA is Critic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eneral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TCP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some point during phased 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or near the end of your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and disadvantages to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9D0-1D89-4E82-9CB4-F66717CB95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make the largest public works investment in your community’s history without knowing the ultimate legal/regulatory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227-F28D-4A74-BCCE-A7AFA0A90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able leverage beca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what the Policy calls for (with LTCP develo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law may mirror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st costs are ahea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st rate increases are ahea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ing to enormous pollution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FF3-B1E5-4761-AF3E-81EE03ACE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effectiveness should be compelling at this stage of decision-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may not support your program if you can’t forcefully tell them the result will comply with federal and state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/eliminate legal risk to final program (political challenge always an o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pproach usually makes the bond agencies the happiest because it limits the possibility for adverse financial sur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D10-633B-415A-A8CF-5899631604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AA During LTCP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view that you have not yet “antied”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 and benefits may be speculative at this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vigation within your program is almost cer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find you have put a level of control out there you can’t achieve – can be highly problematic with public/special interest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 of the curve ma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ness of other controls may be uncer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C9C-4BFD-48C8-830F-545B3E76BE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ep Thoughts About Ti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tch in time saves 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 has left the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se is out of the b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bird gets the w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mouse gets the che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time is the ch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off for tomorrow what you can do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801-708C-480E-B7D8-381977D31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way or so in your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a leap of faith unless your progra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distinc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readily expandable/agile to change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D2C-C761-491D-8013-FA27B8446A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way or so in your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presumption approach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confident in UAA outc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and your program is expandable just in case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:  you have “antied”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have a better feel for what is attainable in your system and from other source re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887-9E2B-4531-85AB-2BCB58DEC8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 or Near the “End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have the best and most information about cost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reat deal of progress and credibility under your b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may blaze the trail allowing you to ride their coat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leverage because cost-effectiveness is no longer significa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generation of regulators, special interest fol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of those working on the residual overflows may not have perspective of when the program was developed and appr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pproach can make the bond agencies nerv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 might screw it up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137-A2B3-45D3-8421-A467D78004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landscape at the local, state, and EPA Regional level always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best to be making progress on the ground while seeking U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8A7-4244-49E6-88A3-8FEFE4438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ing Mat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235-0713-438C-8276-DEB9B860A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Six CSO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D74-79DD-492F-9E7A-A48DFAEB0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 Stretch Curve Ba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community with a $3 billion investment and a $1 billion enhancement, which is referred to as a “stalling tactic and not a compliance strateg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loss of control over future enhancements to LTCP to special interests and federal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DE1-34BB-4D7F-A01F-64859AAEA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community, 10-years into 20-year program with state-approved LTCP implemented via stat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Regional Office raises fundamental concerns about approach taken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A07-8C23-44CC-91AD-9AD583892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Inning Relie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NE community 10 years into 20 years separation program implemented via EPA consent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in mid-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 net reduction of bacteria by ceasing separation and doing retention and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30% les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D19-EC2A-4D04-BFDA-DA756BE776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oking for a Clos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O Community is poised to achieve presumption level of control and, having “antied up.” is seeking EPA UAA ass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762-8B94-407F-98A7-853BE08C46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tcher Waives of the Catc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City in State develops LTCP, which is approved by the State.  City decides to seek EPA concur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 does not concur; raises fundament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51F-74AF-40AF-8607-3BB32B2C84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10-19T11:36:43Z</dcterms:modified>
  <cp:revision>27</cp:revision>
  <dc:subject/>
  <dc:title>PowerPoint Presentation</dc:title>
</cp:coreProperties>
</file>