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ABCB-B92A-47AE-8AC3-3E4FCAF79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FA43-198C-4F0D-91AA-9C33FA83E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8CC1-7F14-4A47-9530-B393896A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EC62-5A4F-45B7-835F-D6D0D3AC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A28A0-C036-4CB0-8A08-14368B34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782E0-7AEB-477F-814A-B1753FE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B7612-D893-426D-8AB7-58E7191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6736A-C014-441C-AFFA-50BCF726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1EB17-B4CD-41E9-884A-5A32509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37FC0-110A-4502-95C8-3724243F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ED3DA-6747-4821-AC5E-9E822962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B93-C68D-4956-BE9A-633300CE9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F299E-AA0B-4817-BA3A-EE2C67E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ABB8-E2F2-4EB9-9D4F-2A6ED69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F0052-EB2C-4131-B7EC-F146851D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2CAB-D73F-448F-A453-6F0DB5EA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9C3F-E1E1-46F6-A1F6-594FF5E5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A54A-12CD-4660-AD0C-810C0BE05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E424-11E8-496A-BA74-35E4B5F41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737E-D5C7-4D05-8E29-88ED3C981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10C7-CF86-4491-BB98-FD604BA3F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07E1-6205-47FE-A651-351962FB1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95B8-9EA6-48DC-A0D3-3185C9B12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2009-E4C2-46C9-952D-22B557911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19320"/>
            <a:ext cx="9142560" cy="152280"/>
            <a:chOff x="0" y="121932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21932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3344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57840" y="634356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EEC-1FCF-41CC-A7A9-795490E474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0FB-D492-4AAA-A562-1ECBB3A8F3E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2743200"/>
            <a:ext cx="9137880" cy="152280"/>
            <a:chOff x="4680" y="274320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274320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285732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89D-81FD-488F-860E-EA2DA5F088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77560"/>
            <a:ext cx="667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of New Yor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Environmental Prote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3560" y="5856120"/>
            <a:ext cx="237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ctober 18-19, 200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83822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City’s Workplan f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O Water Quality Assessments and UA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SA / CSOP / EPA Worksho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cago, Illino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7840" y="838080"/>
            <a:ext cx="1909800" cy="136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48720" y="582948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ttainability in Paerdegat Basi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3 – Human-caused condi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vious pavement, sewering and storm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 in non-attainment of aquatic life protection, primary contact and aesthetic us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ear to cause adverse and irreversible impacts on benthic habitat/biota and affect aquatic life protec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4 - Dams, diversions and … hydrologic modifica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ydrologic modification to Paerdegat Bas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iminated natural runoff which dilutes and transports pollutant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geometry and depth which impacts tidal flushing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contiguous wetlands/habita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ed in significant impervious drainage are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D35A-0423-4783-9DFA-E59D832D19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7353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uman-Caused Conditions …to the Watershe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4920" y="502884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rbanization Has Increa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inage area imperviousn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loa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itude and intensity of discharg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317840" y="2057400"/>
            <a:ext cx="4673880" cy="2792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3200" y="4511520"/>
            <a:ext cx="23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aerdegat Basin Watersh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76440" y="2048040"/>
            <a:ext cx="3429000" cy="237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CC95-DB57-4E8C-8770-557C0C323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 (continued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80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ydrologic Modifications … to Paerdegat Basi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0488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ysical Chang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banization altered base freshwater fl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body channelized and dredg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ed from tidal creek to dredged drainage chann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ed shorel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ed wetla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u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tion of natural flus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ation of estuarine ex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tation and formation of sand ba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ion of original habit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8640" y="4038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irca 19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0200" y="6456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944800" cy="203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3057480" cy="2022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B8EE-1D01-441C-BA83-116BB67392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Water Use /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 WQS Recommendation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rove UA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stablish a Mixing Zone at the Head End for “Benthic Organism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Upper Basin for “Fish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Lower Basin for “Fish and Aquatic Life Propag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Entire Basin for “Modified Primary Contact Recre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bath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rict other primary contact uses during wet weather ev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 advisory indicating use limit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05280" y="1447920"/>
            <a:ext cx="5238720" cy="3646440"/>
            <a:chOff x="3905280" y="1447920"/>
            <a:chExt cx="5238720" cy="3646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905280" y="1447920"/>
              <a:ext cx="523872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003080" y="204480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p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43160" y="4057560"/>
              <a:ext cx="120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220800" y="3777840"/>
              <a:ext cx="1024200" cy="3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091200" y="2225160"/>
              <a:ext cx="849600" cy="83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83480" y="3221640"/>
              <a:ext cx="109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SO Stora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753440" y="2661480"/>
              <a:ext cx="154080" cy="572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29040" y="168696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xing Zon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96800" y="1865880"/>
              <a:ext cx="6678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63840" y="1984680"/>
              <a:ext cx="1673640" cy="98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00000">
              <a:off x="5646600" y="2206800"/>
              <a:ext cx="85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,250 fee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227120" y="5307120"/>
            <a:ext cx="458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Recommended Aquatic Life Use Classific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C01D-9741-4585-862D-8E0AF47774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Recommended Modifications to State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 Classifications and Standard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reate “Urban Tributary” Classific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gnize wet weather conditions when designating uses and applying water quality standar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ble to waterbodies that satisfy any UAA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ider developing generic procedure for testing with UAA cri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 water us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sh and aquatic life surviv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conda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tact recre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attainable higher uses to be dependent upon effectiveness of CSO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ility Plan requir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ased on knee-of-the-cur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chnical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asible and implement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ify  Narrative Standards for Floating Materials and Settleable Solids To Limit “Amounts Which Impair Waters For Their Best Uses”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B593-9AE6-4FCC-8C12-814AB2D81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Regulatory Reaction to USA Project /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UAA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YSDEC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d waterbody/watershed facility plan (LTCP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iewing draft UAA but has not commen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PA Region 2 (Letter to NYSDEC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A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USA Project very valuable for WQSR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complete revisions to WQS as applicable for harbor-wide TMD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completion of Paerdegat Basin Plan significant with possible application to other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erdegat Bas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adopt modified aquatic life use designations with application to other modified and altered urban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to consider one of four primary contact recreational categories with possible suspension for specified wet ev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revise narrative criteria to protect best uses rather than require “none, in any amount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0E43-EB89-4707-8CDF-2D166FDAD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Agency and Public Participatio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vernment Steering Committe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program oversight with periodic meet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resents EPA regional office, NYSDEC, and other federal, interstate and City agenc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aterbody / Watershed Stakeholder Team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 community representation, local riparian and waterbody users, non-governmental organizations, and civic lea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 local uses and impair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and prioritize local water u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 on pla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48C8-64F0-45F4-B6F0-0B3E6442A9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Ecosystem and Recreational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osystem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ze current cond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benthic diversity (TOC reduc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fish diversity / abund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habitat for spawning (suitability and significanc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o referenc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reational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stakeholders’ current and desired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potential suitability for primary cont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al nature (bulkheads, acces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liance with city / state regulations (e.g. beache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fety (conflicts with recreational and commercial marine traffic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21CB-64EB-4F2C-9CB5-8C008F042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A / LTCP Data Program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(Historical and Current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oal: Characterize Current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/ Waterbod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y and wet weather, short- and long-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ile past CSO facility planning projects’ and others’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 as necessary for USA / LT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ystem configuration and perform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harge volumes and pollutant loads (BOD,  TSS, bacteria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al (dye, geometry, surficial geology, floatab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ical (DO, BOD, nutrients, Chl-a, TSS, SOD, bacteria, toxics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logical (fish, icthyo, benthic infauna/epifauna, habita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5E15-26DE-48BB-B4B3-5DBA2EF98B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/Watershed Mathematical Modeling Analysi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eling 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-Waters for regional and harbor-wide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butaries for priority CSO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Models of Combined and Separate Sewer System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ty-year eff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runoff to complex hydraulics (rational method, SWMM, InfoWork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Models of Open Waters and Urban Tributar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-dimensional and time vary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ydrodynamics, eutrophication, DO balance, solids deposition, bac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nual and multi-year simul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ion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Facility Plans (up to 100% CSO abatemen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epa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FDBA-F2BA-4275-8AD7-580E8BE27D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ew York City’s Approach to 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SO Water Quality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ginning in 1983, Efforts Focused on Priority CSO Tributaries with Significant Water Use Problem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xia, bacteria, odors, floatab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form Detailed Data Collection, Modeling and Engineering To Define Knee-of-the-Curve Facility Pla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ulting Issu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ated Water Quality Standards (WQS) may or would not be attain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ll designated uses are “fishable / swimmable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rn that additional investment may be requi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stions on permit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proach – Conduct Use and Standards Attainment (USA) Project and Long Term Control Plan (LTCP) Proj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0D3E-4860-42E5-869F-0D897FD94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omprehensive Engineering Evaluations for Long Term Control Planning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ne Minimum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imize flow to WPCPs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itional CSO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 / retention - inline, interceptors, tanks, conduits, tunne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Treatment - disinfection, high rate physical-chemic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DA / Real Time Contr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eam aeration / destratif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edging / re-contou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-of-Pipe floatables netting/booming and skimmer boa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ther Best Management Practic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ize runo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n solu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DCBB-8380-4509-8E27-48C23563E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Features of NYC’s USA and LTCP Projec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609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monstration/Watershed Approach for LTCP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body / Watershed Assessmen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urban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 open water are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Goa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current and desired water-based and shorelin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ppropriate attainable uses with public/community involv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cile water quality standards to highest reasonably attainabl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 basis for potential U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Long Term Control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22880" y="1403280"/>
            <a:ext cx="3741840" cy="5149800"/>
            <a:chOff x="5222880" y="1403280"/>
            <a:chExt cx="3741840" cy="5149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222880" y="1403280"/>
              <a:ext cx="374184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222880" y="1403280"/>
              <a:ext cx="3741840" cy="514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cc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EDED-7095-4671-94DA-6FA7FDD8E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5662440" cy="262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body/Watershed Assessmen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body-specific information and historical data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WQS, policies, local concerns/interests/issues,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, prioritize and rank all issue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d execute waterbody/watershed-specific data analysi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pproaches to attain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 to achieve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 uses and Water Quality Standard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waterbody/watershed plan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preliminary environmental review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129120"/>
            <a:ext cx="2552760" cy="15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body and Watershed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Modeling and GI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y Plan Assess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Use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833480"/>
            <a:ext cx="2552760" cy="11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Water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and Habita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eline Characteriz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881600"/>
            <a:ext cx="2552760" cy="16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Technolog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ve Approach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Management Pract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shed Contr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Rank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081160"/>
            <a:ext cx="4147920" cy="58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 Steering Committe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body/Watershed Stakeholder Team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600" y="388620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67280" y="2590920"/>
            <a:ext cx="4572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518148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A / LTCP Project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erbody/Watershed Assessmen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248520"/>
            <a:ext cx="4148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 Long Term Control Pla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1981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QSRR / UA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654520"/>
            <a:ext cx="0" cy="60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1400040"/>
            <a:ext cx="41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Waterbody / Watershed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704960"/>
            <a:ext cx="0" cy="393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94360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4E1E-7520-4D22-A8F4-455C30049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Historical / USA / LTCP Sampling Locations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" y="6324120"/>
            <a:ext cx="370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Qua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68760" y="6324120"/>
            <a:ext cx="251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Biolog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0880" y="1447920"/>
            <a:ext cx="345276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97520" y="1447920"/>
            <a:ext cx="3452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79D0-0D5C-4707-9DA2-1E5C64033E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318440" y="38862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YC Receiving Water Model System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971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03760" y="4495680"/>
            <a:ext cx="3429000" cy="2011320"/>
            <a:chOff x="5603760" y="4495680"/>
            <a:chExt cx="3429000" cy="2011320"/>
          </a:xfrm>
        </p:grpSpPr>
        <p:pic>
          <p:nvPicPr>
            <p:cNvPr id="123" name="" descr=""/>
            <p:cNvPicPr/>
            <p:nvPr/>
          </p:nvPicPr>
          <p:blipFill>
            <a:blip r:embed="rId1">
              <a:lum bright="-10000"/>
            </a:blip>
            <a:stretch/>
          </p:blipFill>
          <p:spPr>
            <a:xfrm>
              <a:off x="6165720" y="4495680"/>
              <a:ext cx="2305080" cy="1501920"/>
            </a:xfrm>
            <a:prstGeom prst="rect">
              <a:avLst/>
            </a:prstGeom>
            <a:ln w="28440">
              <a:solidFill>
                <a:srgbClr val="ff0033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5603760" y="6019920"/>
              <a:ext cx="3429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Paerdegat Basin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Receiving Water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38400" y="1447920"/>
            <a:ext cx="3105000" cy="4906440"/>
            <a:chOff x="1238400" y="1447920"/>
            <a:chExt cx="3105000" cy="4906440"/>
          </a:xfrm>
        </p:grpSpPr>
        <p:pic>
          <p:nvPicPr>
            <p:cNvPr id="126" name="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1238400" y="1447920"/>
              <a:ext cx="3105000" cy="4289400"/>
            </a:xfrm>
            <a:prstGeom prst="rect">
              <a:avLst/>
            </a:prstGeom>
            <a:ln w="12600">
              <a:solidFill>
                <a:srgbClr val="ff0033"/>
              </a:solidFill>
              <a:miter/>
            </a:ln>
          </p:spPr>
        </p:pic>
        <p:sp>
          <p:nvSpPr>
            <p:cNvPr id="127" name=""/>
            <p:cNvSpPr/>
            <p:nvPr/>
          </p:nvSpPr>
          <p:spPr>
            <a:xfrm>
              <a:off x="1371600" y="5867280"/>
              <a:ext cx="2743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System-Wid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27760" y="1371600"/>
            <a:ext cx="2781000" cy="2610000"/>
            <a:chOff x="5927760" y="1371600"/>
            <a:chExt cx="2781000" cy="2610000"/>
          </a:xfrm>
        </p:grpSpPr>
        <p:pic>
          <p:nvPicPr>
            <p:cNvPr id="129" name="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5927760" y="1905120"/>
              <a:ext cx="278100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213240" y="1371600"/>
              <a:ext cx="2210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Jamaica Bay 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1C82-E091-4D22-B09D-4388CF07D1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rban Tributary Example: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Waterbody/Watershed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114800"/>
            <a:ext cx="3657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aterbody/Watershed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,600 feet long, 500 feet wid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freshwater flo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,500 combined sewer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75 separately sewered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roximately 70% imperviou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pulation = 470,0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523880"/>
            <a:ext cx="2666880" cy="2415960"/>
            <a:chOff x="457200" y="1523880"/>
            <a:chExt cx="2666880" cy="2415960"/>
          </a:xfrm>
        </p:grpSpPr>
        <p:sp>
          <p:nvSpPr>
            <p:cNvPr id="134" name=""/>
            <p:cNvSpPr/>
            <p:nvPr/>
          </p:nvSpPr>
          <p:spPr>
            <a:xfrm>
              <a:off x="1447920" y="2819160"/>
              <a:ext cx="914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57200" y="1523880"/>
              <a:ext cx="2666880" cy="2415960"/>
              <a:chOff x="457200" y="1523880"/>
              <a:chExt cx="2666880" cy="241596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2666880" cy="2415960"/>
              </a:xfrm>
              <a:prstGeom prst="rect">
                <a:avLst/>
              </a:prstGeom>
              <a:ln w="19080">
                <a:solidFill>
                  <a:srgbClr val="800000"/>
                </a:solidFill>
                <a:miter/>
              </a:ln>
            </p:spPr>
          </p:pic>
          <p:grpSp>
            <p:nvGrpSpPr>
              <p:cNvPr id="137" name=""/>
              <p:cNvGrpSpPr/>
              <p:nvPr/>
            </p:nvGrpSpPr>
            <p:grpSpPr>
              <a:xfrm>
                <a:off x="1282680" y="1662480"/>
                <a:ext cx="993240" cy="537840"/>
                <a:chOff x="1282680" y="1662480"/>
                <a:chExt cx="993240" cy="537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345680" y="1662480"/>
                  <a:ext cx="930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bined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342800" y="1925280"/>
                  <a:ext cx="83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82680" y="1702080"/>
                  <a:ext cx="126720" cy="13140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282680" y="1965240"/>
                  <a:ext cx="126720" cy="131760"/>
                </a:xfrm>
                <a:prstGeom prst="rect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1981080" y="2742840"/>
              <a:ext cx="609840" cy="457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581280" y="1523880"/>
            <a:ext cx="2655360" cy="2317680"/>
            <a:chOff x="3581280" y="1523880"/>
            <a:chExt cx="2655360" cy="23176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3581280" y="1577880"/>
              <a:ext cx="2590560" cy="2263680"/>
            </a:xfrm>
            <a:prstGeom prst="rect">
              <a:avLst/>
            </a:prstGeom>
            <a:ln w="19080">
              <a:solidFill>
                <a:srgbClr val="9933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3809880" y="1654200"/>
              <a:ext cx="228600" cy="30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560" y="1730160"/>
              <a:ext cx="22860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809880" y="2034720"/>
              <a:ext cx="152280" cy="228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114440" y="226332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190400" y="18064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320" y="20350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6200" y="22636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257440" y="249228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758000">
              <a:off x="3730680" y="2651400"/>
              <a:ext cx="174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aerdegat Basi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851720" y="1523880"/>
              <a:ext cx="1384920" cy="481320"/>
              <a:chOff x="4851720" y="1523880"/>
              <a:chExt cx="1384920" cy="48132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851720" y="1866960"/>
                <a:ext cx="344880" cy="5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866840" y="1666800"/>
                <a:ext cx="33912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16680" y="1523880"/>
                <a:ext cx="558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O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108040" y="1730160"/>
                <a:ext cx="112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m sewer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3505320" y="411480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served Waterbody Us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reational Boat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oeing &amp; Kayak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s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horeline Activiti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rd watc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ing trail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na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524640" y="1523880"/>
            <a:ext cx="2390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404C-CBBC-4EF6-859B-4F19134E5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CSO Control Pla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lan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 MG in-line storage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 MG off-line facilit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redging as needed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iparian park design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horeline mitig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unity facil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357,000,000 total cos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n Developed Using Knee-of-the-Curve Procedure Consistent with EPA Guidan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aerdegat Basin was presented by EPA as a CSO Control Policy case stud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Resul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mproved dissolved oxyge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indicator bacteri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sediment deposi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manent floatables control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8120" cy="2424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2962440" cy="2374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2999-E766-4CF1-BB31-44CCB66CE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es Projected After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SO Control Plan Implementa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5200" y="5181480"/>
            <a:ext cx="4024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acility Plan Also Reduc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able Materials by 9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leable Solids by 8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1814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maining Issue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eria for selecting use attainment level?? KOTC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erdegat Basin (Head End) for an Average Precipitation Ye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4560" y="6507000"/>
            <a:ext cx="231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2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100% Compliance at Mou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408480" y="1981080"/>
          <a:ext cx="24685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1981080"/>
                    <a:ext cx="246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16200000">
            <a:off x="2440080" y="3605400"/>
            <a:ext cx="183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tandards Compli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4200" y="6278400"/>
            <a:ext cx="434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1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Draft Proposed NYSDEC Chronic (Propagation)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6668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981080"/>
            <a:ext cx="2743200" cy="3029040"/>
            <a:chOff x="304920" y="1981080"/>
            <a:chExt cx="2743200" cy="3029040"/>
          </a:xfrm>
        </p:grpSpPr>
        <p:graphicFrame>
          <p:nvGraphicFramePr>
            <p:cNvPr id="176" name=""/>
            <p:cNvGraphicFramePr/>
            <p:nvPr/>
          </p:nvGraphicFramePr>
          <p:xfrm>
            <a:off x="522360" y="1981080"/>
            <a:ext cx="2468520" cy="302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236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 rot="16200000">
              <a:off x="-381240" y="3540240"/>
              <a:ext cx="1678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riteria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29718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2362320"/>
              <a:ext cx="3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Modern"/>
                </a:rPr>
                <a:t>(1)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90720" y="4770360"/>
              <a:ext cx="2057400" cy="212760"/>
              <a:chOff x="990720" y="4770360"/>
              <a:chExt cx="2057400" cy="212760"/>
            </a:xfrm>
          </p:grpSpPr>
          <p:sp>
            <p:nvSpPr>
              <p:cNvPr id="182" name=""/>
              <p:cNvSpPr/>
              <p:nvPr/>
            </p:nvSpPr>
            <p:spPr>
              <a:xfrm>
                <a:off x="99072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0020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3372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590920" y="27432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486400" y="2666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4770360"/>
            <a:ext cx="2057400" cy="212760"/>
            <a:chOff x="3886200" y="4770360"/>
            <a:chExt cx="2057400" cy="212760"/>
          </a:xfrm>
        </p:grpSpPr>
        <p:sp>
          <p:nvSpPr>
            <p:cNvPr id="188" name=""/>
            <p:cNvSpPr/>
            <p:nvPr/>
          </p:nvSpPr>
          <p:spPr>
            <a:xfrm>
              <a:off x="3886200" y="4770360"/>
              <a:ext cx="761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Base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5680" y="4770360"/>
              <a:ext cx="762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acility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9200" y="477036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Sewer Separatio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18200" y="1981080"/>
            <a:ext cx="2720880" cy="3029040"/>
            <a:chOff x="6118200" y="1981080"/>
            <a:chExt cx="2720880" cy="3029040"/>
          </a:xfrm>
        </p:grpSpPr>
        <p:graphicFrame>
          <p:nvGraphicFramePr>
            <p:cNvPr id="192" name=""/>
            <p:cNvGraphicFramePr/>
            <p:nvPr/>
          </p:nvGraphicFramePr>
          <p:xfrm>
            <a:off x="6294600" y="1981080"/>
            <a:ext cx="2468520" cy="302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60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 rot="16200000">
              <a:off x="5335560" y="3605400"/>
              <a:ext cx="1839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tandards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48720" y="33526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37339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781680" y="4770360"/>
              <a:ext cx="2057400" cy="212760"/>
              <a:chOff x="6781680" y="4770360"/>
              <a:chExt cx="2057400" cy="212760"/>
            </a:xfrm>
          </p:grpSpPr>
          <p:sp>
            <p:nvSpPr>
              <p:cNvPr id="198" name=""/>
              <p:cNvSpPr/>
              <p:nvPr/>
            </p:nvSpPr>
            <p:spPr>
              <a:xfrm>
                <a:off x="678168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9116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468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056A-3CA3-4F45-9425-471B7F638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5:10Z</dcterms:created>
  <dc:creator/>
  <dc:description>for 10/18/04 conference</dc:description>
  <dc:language>en-US</dc:language>
  <cp:lastModifiedBy> </cp:lastModifiedBy>
  <cp:lastPrinted>1999-02-02T22:32:14Z</cp:lastPrinted>
  <dcterms:modified xsi:type="dcterms:W3CDTF">2004-10-19T03:45:26Z</dcterms:modified>
  <cp:revision>500</cp:revision>
  <dc:subject/>
  <dc:title>New York City's Approach to CSO Water Quality Assessments and the U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hydroqual.com</vt:lpwstr>
  </property>
  <property fmtid="{D5CDD505-2E9C-101B-9397-08002B2CF9AE}" pid="9" name="LinkColor">
    <vt:r8>16711782</vt:r8>
  </property>
  <property fmtid="{D5CDD505-2E9C-101B-9397-08002B2CF9AE}" pid="10" name="MailAddress">
    <vt:lpwstr>wmcmillin@hydroqua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wmcmillin\99NYWEA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