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8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73F2-19C8-44A2-8833-5646D6186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7AAE-AC59-46D3-95D6-77FF1B481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8110-560C-449A-9125-885043BE5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C40E-A2AB-4BA2-99A5-0422804F8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A6DA9-70BE-40AF-8F11-66FBB960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3C83F-C406-4F8D-9F7A-57EF05EA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B0658-7FEA-4E01-8D65-CA98F60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405EE-7658-4B17-A70F-4F91D3E4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B2058-6DF4-4802-83E0-76D0F9D7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7FAA0-18EF-4C60-B996-7EE2F42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17151-69B8-43FC-BBCB-DF31947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0E20-5D9B-47AF-9B62-4168BBDB1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D7A06-6231-422E-B7A9-B3ADB3B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B3FAD-996D-4E08-9BBE-902408FD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3F24-9000-432D-8BF5-D363090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E3719-F90E-48A4-9713-346FA6FA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27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2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27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33EF5-5ED8-486D-A83B-03A255A0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5F21-31DD-4068-BFF1-1A3DBA624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4CF0-2FC0-4668-8005-62A541F21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37E9-98F8-47AB-A4A7-A8046F0F9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0A3C-F9ED-4258-9668-1EF8ED0F6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A4D8-B8A8-4851-ACD1-C509A11C4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0D95-ADF0-4821-AFE2-987FC480E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A68F-3A12-42DE-A9A7-E3DBAD876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19320"/>
            <a:ext cx="9142560" cy="152280"/>
            <a:chOff x="0" y="121932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21932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3344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457840" y="634356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2689-E755-4E5A-B00F-D5D9FAC928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3398-67AE-43E9-9505-0FFBC25A5F1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2743200"/>
            <a:ext cx="9137880" cy="152280"/>
            <a:chOff x="4680" y="274320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274320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285732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4A3A-47B3-4604-84FF-3F4456E131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cccc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1177560"/>
            <a:ext cx="667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 of New Yor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Environmental Prote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3560" y="5856120"/>
            <a:ext cx="237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October 18-19, 200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83822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York City’s Workplan for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O Water Quality Assessments and UA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SA / CSOP / EPA Worksho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cago, Illino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7840" y="838080"/>
            <a:ext cx="1909800" cy="136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48720" y="5829480"/>
            <a:ext cx="13716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ttainability in Paerdegat Basi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3 – Human-caused condi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vious pavement, sewering and storm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 in non-attainment of aquatic life protection, primary contact and aesthetic us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ear to cause adverse and irreversible impacts on benthic habitat/biota and affect aquatic life protec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ctor 4 - Dams, diversions and … hydrologic modifications …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ydrologic modification to Paerdegat Bas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liminated natural runoff which dilutes and transports pollutant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geometry and depth which impacts tidal flushing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ltered the natural contiguous wetlands/habita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ulted in significant impervious drainage are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326E-FC3F-4BC8-8A34-7F4803D132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7353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uman-Caused Conditions …to the Watershe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04920" y="5028840"/>
            <a:ext cx="4495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rbanization Has Increa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inage area imperviousn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loa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gnitude and intensity of discharg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317840" y="2057400"/>
            <a:ext cx="4673880" cy="2792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3200" y="4511520"/>
            <a:ext cx="23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aerdegat Basin Watershed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76440" y="2048040"/>
            <a:ext cx="3429000" cy="237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04A6-59BF-4E2C-82B8-FA38686D15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hysical Factors (continued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800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ydrologic Modifications … to Paerdegat Basi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04880" y="19047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ysical Chang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banization altered base freshwater flo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body channelized and dredg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ormed from tidal creek to dredged drainage chann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ed shorelin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ed wetlan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used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tion of natural flush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ation of estuarine excha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ltation and formation of sand ba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mination of original habit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68640" y="403848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Circa 19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0200" y="6456240"/>
            <a:ext cx="52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944800" cy="203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3057480" cy="2022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ECF2-8B33-4601-AA05-0EABE0DE0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Water Use /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 WQS Recommendation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960" y="14479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pprove UA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stablish a Mixing Zone at the Head End for “Benthic Organism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Upper Basin for “Fish Survival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Lower Basin for “Fish and Aquatic Life Propag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assify Entire Basin for “Modified Primary Contact Recreation”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bath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trict other primary contact uses during wet weather ev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 advisory indicating use limita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05280" y="1447920"/>
            <a:ext cx="5238720" cy="3646440"/>
            <a:chOff x="3905280" y="1447920"/>
            <a:chExt cx="5238720" cy="364644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3905280" y="1447920"/>
              <a:ext cx="523872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003080" y="2044800"/>
              <a:ext cx="119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p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43160" y="4057560"/>
              <a:ext cx="120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er Basin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220800" y="3777840"/>
              <a:ext cx="1024200" cy="3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091200" y="2225160"/>
              <a:ext cx="849600" cy="835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83480" y="3221640"/>
              <a:ext cx="1099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SO Storage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753440" y="2661480"/>
              <a:ext cx="154080" cy="5720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29040" y="168696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xing Zon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996800" y="1865880"/>
              <a:ext cx="6678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63840" y="1984680"/>
              <a:ext cx="1673640" cy="98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800000">
              <a:off x="5646600" y="2206800"/>
              <a:ext cx="85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,250 feet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227120" y="5307120"/>
            <a:ext cx="458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Arial"/>
              </a:rPr>
              <a:t>Recommended Aquatic Life Use Classific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8E8B-0007-4D5B-A11B-B0795987F7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Recommended Modifications to State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 Classifications and Standard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reate “Urban Tributary” Classific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gnize wet weather conditions when designating uses and applying water quality standar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ble to waterbodies that satisfy any UAA criter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ider developing generic procedure for testing with UAA cri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 water uses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sh and aquatic life surviv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conda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tact recreatio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attainable higher uses to be dependent upon effectiveness of CSO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ility Plan requir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ased on knee-of-the-curv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chnicall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asible and implement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73080"/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ify  Narrative Standards for Floating Materials and Settleable Solids To Limit “Amounts Which Impair Waters For Their Best Uses”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A683-2081-4832-928A-1A1C851ED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Regulatory Reaction to USA Project /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aerdegat Basin UAA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YSDEC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d waterbody/watershed facility plan (LTCP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viewing draft UAA but has not commen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SEPA Region 2 (Letter to NYSDEC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A Proje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USA Project very valuable for WQSR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complete revisions to WQS as applicable for harbor-wide TMD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iders completion of Paerdegat Basin Plan significant with possible application to other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erdegat Bas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rges NYSDEC to adopt modified aquatic life use designations with application to other modified and altered urban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to consider one of four primary contact recreational categories with possible suspension for specified wet ev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mmends NYSDEC revise narrative criteria to protect best uses rather than require “none, in any amount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CF65-5BD9-41B0-B833-8619FFD5B0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Agency and Public Participatio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overnment Steering Committe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s program oversight with periodic meet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resents EPA regional office, NYSDEC, and other federal, interstate and City agenc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aterbody / Watershed Stakeholder Team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 community representation, local riparian and waterbody users, non-governmental organizations, and civic lead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 local uses and impair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and prioritize local water u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nt on pla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8847-5508-424D-BD50-4EBBAEA4AE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Ecosystem and Recreational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e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osystem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acterize current condi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benthic diversity (TOC reduc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 in fish diversity / abund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habitat for spawning (suitability and significanc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to referenc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reational Use Evaluation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stakeholders’ current and desired u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potential suitability for primary conta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al nature (bulkheads, acces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pliance with city / state regulations (e.g. beache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afety (conflicts with recreational and commercial marine traffic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4EEF-C069-4818-A0EF-924553DEA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SA / LTCP Data Program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(Historical and Current)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oal: Characterize Current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shed / Waterbod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y and wet weather, short- and long-ter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ile past CSO facility planning projects’ and others’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 as necessary for USA / LTCP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ystem configuration and perform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harge volumes and pollutant loads (BOD,  TSS, bacteria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Investigation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ical (dye, geometry, surficial geology, floatab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ical (DO, BOD, nutrients, Chl-a, TSS, SOD, bacteria, toxics, other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ological (fish, icthyo, benthic infauna/epifauna, habita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1A73-BD31-43D9-A896-0BD6E5F302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Waterbody/Watershed Mathematical Modeling Analysi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deling Methodology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-Waters for regional and harbor-wide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ibutaries for priority CSO plan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shed Models of Combined and Separate Sewer System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ty-year effor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runoff to complex hydraulics (rational method, SWMM, InfoWork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Models of Open Waters and Urban Tributar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-dimensional and time vary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ydrodynamics, eutrophication, DO balance, solids deposition, bacte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tailed calibration to dat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nual and multi-year simula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ion Condi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eli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Facility Plans (up to 100% CSO abatement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wer Separ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65BC-05CF-4ACF-B7EB-3BDE58AA9B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ew York City’s Approach to 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CSO Water Quality Assessment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ginning in 1983, Efforts Focused on Priority CSO Tributaries with Significant Water Use Problem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oxia, bacteria, odors, floatab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rform Detailed Data Collection, Modeling and Engineering To Define Knee-of-the-Curve Facility Pla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ulting Issu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ated Water Quality Standards (WQS) may or would not be attain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ll designated uses are “fishable / swimmable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rn that additional investment may be requir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estions on permit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proach – Conduct Use and Standards Attainment (USA) Project and Long Term Control Plan (LTCP) Proj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6B56-0804-4F62-9AED-0496AB5AC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omprehensive Engineering Evaluations for Long Term Control Planning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ine Minimum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ximize flow to WPCPs, et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ditional CSO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 / retention - inline, interceptors, tanks, conduits, tunnel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Treatment - disinfection, high rate physical-chemic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DA / Real Time Contr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ceiving Water Contro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tream aeration / destratific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edging / re-contour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-of-Pipe floatables netting/booming and skimmer boa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ther Best Management Practic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er conserv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ize runof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en solu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A36B-5780-4313-97CF-927399B4C1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Features of NYC’s USA and LTCP Projec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4609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monstration/Watershed Approach for LTCP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terbody / Watershed Assessmen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urban tributar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 open water are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Goal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current and desired water-based and shorelin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appropriate attainable uses with public/community involve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oncile water quality standards to highest reasonably attainable us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 basis for potential UA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 Long Term Control Pla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22880" y="1403280"/>
            <a:ext cx="3741840" cy="5149800"/>
            <a:chOff x="5222880" y="1403280"/>
            <a:chExt cx="3741840" cy="5149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222880" y="1403280"/>
              <a:ext cx="3741840" cy="51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5222880" y="1403280"/>
              <a:ext cx="3741840" cy="514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cccc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F061-CEA1-47B5-8A01-3D850A8C0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5662440" cy="262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body/Watershed Assessmen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body-specific information and historical data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WQS, policies, local concerns/interests/issues,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, prioritize and rank all issue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d execute waterbody/watershed-specific data analysi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pproaches to attain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lternatives to achieve goal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 uses and Water Quality Standards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waterbody/watershed plan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preliminary environmental review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129120"/>
            <a:ext cx="2552760" cy="157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body and Watershed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Modeling and GI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y Plan Assessmen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 Use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1833480"/>
            <a:ext cx="2552760" cy="11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ing Water Quality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and Habita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eline Characterizatio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4881600"/>
            <a:ext cx="2552760" cy="166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Analy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Technologi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ve Approach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Management Practic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shed Contr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Rankin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081160"/>
            <a:ext cx="4147920" cy="58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vernment Steering Committe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body/Watershed Stakeholder Team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266688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600" y="388620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67280" y="2590920"/>
            <a:ext cx="457200" cy="457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600" y="5181480"/>
            <a:ext cx="3808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A / LTCP Project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erbody/Watershed Assessments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6248520"/>
            <a:ext cx="41482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 Long Term Control Pla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791320"/>
            <a:ext cx="1981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QSRR / UA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654520"/>
            <a:ext cx="0" cy="603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1400040"/>
            <a:ext cx="4147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Waterbody / Watershed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704960"/>
            <a:ext cx="0" cy="3938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94360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10BF-2C12-44C6-BDC4-1F4173EF3B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Historical / USA / LTCP Sampling Locations</a:t>
            </a:r>
            <a:endParaRPr b="0" lang="en-US" sz="28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" y="6324120"/>
            <a:ext cx="370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Qua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68760" y="6324120"/>
            <a:ext cx="251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Arial"/>
              </a:rPr>
              <a:t>Receiving Water Biolog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0880" y="1447920"/>
            <a:ext cx="345276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97520" y="1447920"/>
            <a:ext cx="34527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05C0-3790-4851-B16A-68C116716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318440" y="38862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NYC Receiving Water Model Systems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97180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03760" y="4495680"/>
            <a:ext cx="3429000" cy="2011320"/>
            <a:chOff x="5603760" y="4495680"/>
            <a:chExt cx="3429000" cy="2011320"/>
          </a:xfrm>
        </p:grpSpPr>
        <p:pic>
          <p:nvPicPr>
            <p:cNvPr id="123" name="" descr=""/>
            <p:cNvPicPr/>
            <p:nvPr/>
          </p:nvPicPr>
          <p:blipFill>
            <a:blip r:embed="rId1">
              <a:lum bright="-10000"/>
            </a:blip>
            <a:stretch/>
          </p:blipFill>
          <p:spPr>
            <a:xfrm>
              <a:off x="6165720" y="4495680"/>
              <a:ext cx="2305080" cy="1501920"/>
            </a:xfrm>
            <a:prstGeom prst="rect">
              <a:avLst/>
            </a:prstGeom>
            <a:ln w="28440">
              <a:solidFill>
                <a:srgbClr val="ff0033"/>
              </a:solidFill>
              <a:miter/>
            </a:ln>
          </p:spPr>
        </p:pic>
        <p:sp>
          <p:nvSpPr>
            <p:cNvPr id="124" name=""/>
            <p:cNvSpPr/>
            <p:nvPr/>
          </p:nvSpPr>
          <p:spPr>
            <a:xfrm>
              <a:off x="5603760" y="6019920"/>
              <a:ext cx="3429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Paerdegat Basin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Receiving Water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38400" y="1447920"/>
            <a:ext cx="3105000" cy="4906440"/>
            <a:chOff x="1238400" y="1447920"/>
            <a:chExt cx="3105000" cy="4906440"/>
          </a:xfrm>
        </p:grpSpPr>
        <p:pic>
          <p:nvPicPr>
            <p:cNvPr id="126" name="" descr=""/>
            <p:cNvPicPr/>
            <p:nvPr/>
          </p:nvPicPr>
          <p:blipFill>
            <a:blip r:embed="rId2">
              <a:lum bright="-10000"/>
            </a:blip>
            <a:stretch/>
          </p:blipFill>
          <p:spPr>
            <a:xfrm>
              <a:off x="1238400" y="1447920"/>
              <a:ext cx="3105000" cy="4289400"/>
            </a:xfrm>
            <a:prstGeom prst="rect">
              <a:avLst/>
            </a:prstGeom>
            <a:ln w="12600">
              <a:solidFill>
                <a:srgbClr val="ff0033"/>
              </a:solidFill>
              <a:miter/>
            </a:ln>
          </p:spPr>
        </p:pic>
        <p:sp>
          <p:nvSpPr>
            <p:cNvPr id="127" name=""/>
            <p:cNvSpPr/>
            <p:nvPr/>
          </p:nvSpPr>
          <p:spPr>
            <a:xfrm>
              <a:off x="1371600" y="5867280"/>
              <a:ext cx="27432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System-Wide</a:t>
              </a:r>
              <a:br>
                <a:rPr sz="1600"/>
              </a:b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27760" y="1371600"/>
            <a:ext cx="2781000" cy="2610000"/>
            <a:chOff x="5927760" y="1371600"/>
            <a:chExt cx="2781000" cy="2610000"/>
          </a:xfrm>
        </p:grpSpPr>
        <p:pic>
          <p:nvPicPr>
            <p:cNvPr id="129" name="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5927760" y="1905120"/>
              <a:ext cx="278100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213240" y="1371600"/>
              <a:ext cx="2210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Jamaica Bay Eutrophication Mode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ED60-CFF7-4322-BB14-F3F443E495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Urban Tributary Example:</a:t>
            </a:r>
            <a:br>
              <a:rPr sz="3600"/>
            </a:b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Waterbody/Watershed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114800"/>
            <a:ext cx="3657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aterbody/Watershed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,600 feet long, 500 feet wid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freshwater flo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,500 combined sewer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75 separately sewered acre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roximately 70% imperviou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0720" indent="-280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pulation = 470,000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523880"/>
            <a:ext cx="2666880" cy="2415960"/>
            <a:chOff x="457200" y="1523880"/>
            <a:chExt cx="2666880" cy="2415960"/>
          </a:xfrm>
        </p:grpSpPr>
        <p:sp>
          <p:nvSpPr>
            <p:cNvPr id="134" name=""/>
            <p:cNvSpPr/>
            <p:nvPr/>
          </p:nvSpPr>
          <p:spPr>
            <a:xfrm>
              <a:off x="1447920" y="2819160"/>
              <a:ext cx="914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57200" y="1523880"/>
              <a:ext cx="2666880" cy="2415960"/>
              <a:chOff x="457200" y="1523880"/>
              <a:chExt cx="2666880" cy="241596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523880"/>
                <a:ext cx="2666880" cy="2415960"/>
              </a:xfrm>
              <a:prstGeom prst="rect">
                <a:avLst/>
              </a:prstGeom>
              <a:ln w="19080">
                <a:solidFill>
                  <a:srgbClr val="800000"/>
                </a:solidFill>
                <a:miter/>
              </a:ln>
            </p:spPr>
          </p:pic>
          <p:grpSp>
            <p:nvGrpSpPr>
              <p:cNvPr id="137" name=""/>
              <p:cNvGrpSpPr/>
              <p:nvPr/>
            </p:nvGrpSpPr>
            <p:grpSpPr>
              <a:xfrm>
                <a:off x="1282680" y="1662480"/>
                <a:ext cx="993240" cy="537840"/>
                <a:chOff x="1282680" y="1662480"/>
                <a:chExt cx="993240" cy="537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345680" y="1662480"/>
                  <a:ext cx="930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bined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342800" y="1925280"/>
                  <a:ext cx="83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</a:t>
                  </a:r>
                  <a:endParaRPr b="0" lang="en-US" sz="1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82680" y="1702080"/>
                  <a:ext cx="126720" cy="131400"/>
                </a:xfrm>
                <a:prstGeom prst="rect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282680" y="1965240"/>
                  <a:ext cx="126720" cy="131760"/>
                </a:xfrm>
                <a:prstGeom prst="rect">
                  <a:avLst/>
                </a:prstGeom>
                <a:solidFill>
                  <a:srgbClr val="99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1981080" y="2742840"/>
              <a:ext cx="609840" cy="457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581280" y="1523880"/>
            <a:ext cx="2655360" cy="2317680"/>
            <a:chOff x="3581280" y="1523880"/>
            <a:chExt cx="2655360" cy="231768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3581280" y="1577880"/>
              <a:ext cx="2590560" cy="2263680"/>
            </a:xfrm>
            <a:prstGeom prst="rect">
              <a:avLst/>
            </a:prstGeom>
            <a:ln w="19080">
              <a:solidFill>
                <a:srgbClr val="993300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3809880" y="1654200"/>
              <a:ext cx="228600" cy="30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560" y="1730160"/>
              <a:ext cx="228600" cy="3049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809880" y="2034720"/>
              <a:ext cx="152280" cy="2286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114440" y="226332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190400" y="18064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320" y="20350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6200" y="2263680"/>
              <a:ext cx="1522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257440" y="2492280"/>
              <a:ext cx="1526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758000">
              <a:off x="3730680" y="2651400"/>
              <a:ext cx="174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aerdegat Basin</a:t>
              </a:r>
              <a:endParaRPr b="0" lang="en-US" sz="1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4851720" y="1523880"/>
              <a:ext cx="1384920" cy="481320"/>
              <a:chOff x="4851720" y="1523880"/>
              <a:chExt cx="1384920" cy="48132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851720" y="1866960"/>
                <a:ext cx="344880" cy="57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4866840" y="1666800"/>
                <a:ext cx="339120" cy="0"/>
              </a:xfrm>
              <a:prstGeom prst="line">
                <a:avLst/>
              </a:prstGeom>
              <a:ln w="381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16680" y="1523880"/>
                <a:ext cx="5587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SO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108040" y="1730160"/>
                <a:ext cx="112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m sewer</a:t>
                </a:r>
                <a:endParaRPr b="0" lang="en-US" sz="1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3505320" y="4114800"/>
            <a:ext cx="3657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bserved Waterbody Us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reational Boat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noeing &amp; Kayak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s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horeline Activities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rd watchin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king trail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461880" indent="-171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ina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524640" y="1523880"/>
            <a:ext cx="239076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24B4-1AC3-4BE7-9FE8-9CBE374B18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Paerdegat Basin CSO Control Plan</a:t>
            </a:r>
            <a:endParaRPr b="0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lan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 MG in-line storage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 MG off-line facilit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redging as needed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iparian park design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horeline mitiga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unity facil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357,000,000 total cos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lan Developed Using Knee-of-the-Curve Procedure Consistent with EPA Guidan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aerdegat Basin was presented by EPA as a CSO Control Policy case study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Resul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mproved dissolved oxyge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indicator bacteria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duced sediment deposition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manent floatables control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048120" cy="2424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2962440" cy="2374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9D4D-74A4-45C3-9040-551342CC52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Uses Projected After </a:t>
            </a:r>
            <a:br>
              <a:rPr sz="32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SO Control Plan Implementa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5200" y="5181480"/>
            <a:ext cx="4024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acility Plan Also Reduces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able Materials by 9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leable Solids by 8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18148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maining Issue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iteria for selecting use attainment level?? KOTC?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erdegat Basin (Head End) for an Average Precipitation Ye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4560" y="6507000"/>
            <a:ext cx="231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2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100% Compliance at Mout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408480" y="1981080"/>
          <a:ext cx="246852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1981080"/>
                    <a:ext cx="2468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16200000">
            <a:off x="2440080" y="3605400"/>
            <a:ext cx="1839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tandards Complianc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4200" y="6278400"/>
            <a:ext cx="434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00"/>
                </a:solidFill>
                <a:latin typeface="Arial"/>
              </a:rPr>
              <a:t>(1)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Draft Proposed NYSDEC Chronic (Propagation) Criteria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26668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981080"/>
            <a:ext cx="2743200" cy="3029040"/>
            <a:chOff x="304920" y="1981080"/>
            <a:chExt cx="2743200" cy="3029040"/>
          </a:xfrm>
        </p:grpSpPr>
        <p:graphicFrame>
          <p:nvGraphicFramePr>
            <p:cNvPr id="176" name=""/>
            <p:cNvGraphicFramePr/>
            <p:nvPr/>
          </p:nvGraphicFramePr>
          <p:xfrm>
            <a:off x="522360" y="1981080"/>
            <a:ext cx="2468520" cy="302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236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 rot="16200000">
              <a:off x="-381240" y="3540240"/>
              <a:ext cx="1678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riteria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29718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86000" y="2362320"/>
              <a:ext cx="38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Modern"/>
                </a:rPr>
                <a:t>(1)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990720" y="4770360"/>
              <a:ext cx="2057400" cy="212760"/>
              <a:chOff x="990720" y="4770360"/>
              <a:chExt cx="2057400" cy="212760"/>
            </a:xfrm>
          </p:grpSpPr>
          <p:sp>
            <p:nvSpPr>
              <p:cNvPr id="182" name=""/>
              <p:cNvSpPr/>
              <p:nvPr/>
            </p:nvSpPr>
            <p:spPr>
              <a:xfrm>
                <a:off x="99072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0020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3372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590920" y="27432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486400" y="26668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4770360"/>
            <a:ext cx="2057400" cy="212760"/>
            <a:chOff x="3886200" y="4770360"/>
            <a:chExt cx="2057400" cy="212760"/>
          </a:xfrm>
        </p:grpSpPr>
        <p:sp>
          <p:nvSpPr>
            <p:cNvPr id="188" name=""/>
            <p:cNvSpPr/>
            <p:nvPr/>
          </p:nvSpPr>
          <p:spPr>
            <a:xfrm>
              <a:off x="3886200" y="4770360"/>
              <a:ext cx="761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Base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5680" y="4770360"/>
              <a:ext cx="7621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acility</a:t>
              </a:r>
              <a:br>
                <a:rPr sz="1000"/>
              </a:b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9200" y="4770360"/>
              <a:ext cx="914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Sewer Separation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118200" y="1981080"/>
            <a:ext cx="2720880" cy="3029040"/>
            <a:chOff x="6118200" y="1981080"/>
            <a:chExt cx="2720880" cy="3029040"/>
          </a:xfrm>
        </p:grpSpPr>
        <p:graphicFrame>
          <p:nvGraphicFramePr>
            <p:cNvPr id="192" name=""/>
            <p:cNvGraphicFramePr/>
            <p:nvPr/>
          </p:nvGraphicFramePr>
          <p:xfrm>
            <a:off x="6294600" y="1981080"/>
            <a:ext cx="2468520" cy="302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4600" y="1981080"/>
                      <a:ext cx="2468520" cy="30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 rot="16200000">
              <a:off x="5335560" y="3605400"/>
              <a:ext cx="1839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Standards Complianc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48720" y="33526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37339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(2)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781680" y="4770360"/>
              <a:ext cx="2057400" cy="212760"/>
              <a:chOff x="6781680" y="4770360"/>
              <a:chExt cx="2057400" cy="212760"/>
            </a:xfrm>
          </p:grpSpPr>
          <p:sp>
            <p:nvSpPr>
              <p:cNvPr id="198" name=""/>
              <p:cNvSpPr/>
              <p:nvPr/>
            </p:nvSpPr>
            <p:spPr>
              <a:xfrm>
                <a:off x="6781680" y="4770360"/>
                <a:ext cx="7617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Base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Case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91160" y="4770360"/>
                <a:ext cx="7621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Facility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Pla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24680" y="4770360"/>
                <a:ext cx="9144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00"/>
                    </a:solidFill>
                    <a:latin typeface="Arial"/>
                  </a:rPr>
                  <a:t>Sewer Separation</a:t>
                </a:r>
                <a:endParaRPr b="0" lang="en-US" sz="1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226D-4A3C-426D-A1F1-E28F034209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5:10Z</dcterms:created>
  <dc:creator/>
  <dc:description>for 10/18/04 conference</dc:description>
  <dc:language>en-US</dc:language>
  <cp:lastModifiedBy> </cp:lastModifiedBy>
  <cp:lastPrinted>1999-02-02T22:32:14Z</cp:lastPrinted>
  <dcterms:modified xsi:type="dcterms:W3CDTF">2004-10-19T03:45:26Z</dcterms:modified>
  <cp:revision>500</cp:revision>
  <dc:subject/>
  <dc:title>New York City's Approach to CSO Water Quality Assessments and the U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www.hydroqual.com</vt:lpwstr>
  </property>
  <property fmtid="{D5CDD505-2E9C-101B-9397-08002B2CF9AE}" pid="9" name="LinkColor">
    <vt:r8>16711782</vt:r8>
  </property>
  <property fmtid="{D5CDD505-2E9C-101B-9397-08002B2CF9AE}" pid="10" name="MailAddress">
    <vt:lpwstr>wmcmillin@hydroqua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wmcmillin\99NYWEA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