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BA1F1-2A12-4AC3-974C-3697D19B4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6FF9B-D394-4321-9D9A-A97CBCD19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24C82-1199-4CB8-A3B0-3F8B4537B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73375-FF85-40FB-8929-C464DB6F45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7B00D-F9CC-4E74-A847-74E5C9EE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26793-0024-4DF5-893D-CE31FFA3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DC512-F479-4429-B3D9-AD6558E0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354D6-E4E9-4ED9-A64A-2DE503A5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E53CC-EDD8-4923-AEFF-4C6FDED2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6705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9B54A-86AE-40AF-928C-F7962A24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19A20-E999-4225-A450-02886098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B7106-06AF-4BA3-932A-AD909B9275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36F3E-F7F9-4AA6-A43F-544E2929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8087F-3FFD-4E07-B9A4-5F559A07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4E5C8-A763-43C8-909D-D6E609EC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AFE93-4CEE-4378-A79B-84E5F6CC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F87A5-DE3C-4FBE-A55D-35CC6297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EBD0F-9D01-4CF5-8D2F-6EF12946D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5AA92-CC96-4B9A-A78E-C0432020A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0ABCB-99EB-4865-BB0D-973AC60EC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6705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B3454-9F38-46C0-9074-31B1E4E2C8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99383-5B31-4C05-9788-4365AFC1E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135A5-F112-498C-8E51-916298B71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D3906-12A0-46A5-91EF-CD447A72C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90000"/>
              <a:buFont typeface="CommonBulle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295280"/>
            <a:ext cx="777240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743200" y="6248160"/>
            <a:ext cx="3581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&lt;footer&gt;</a:t>
            </a: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Office of Science and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5E9F-BA40-46A5-A2A6-4E542C357118}" type="slidenum"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0"/>
          <a:ext cx="1752480" cy="119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75248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4893-C7A0-4221-AE9D-F0E94FD4845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0"/>
          <a:ext cx="1752480" cy="119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75248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2" marL="914400" algn="ctr">
              <a:spcBef>
                <a:spcPts val="451"/>
              </a:spcBef>
              <a:buClr>
                <a:srgbClr val="3333cc"/>
              </a:buClr>
              <a:buSzPct val="90000"/>
              <a:buFont typeface="CommonBullets" charset="2"/>
              <a:buChar char="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lvl="3" marL="1371600" algn="ctr">
              <a:spcBef>
                <a:spcPts val="400"/>
              </a:spcBef>
              <a:buClr>
                <a:srgbClr val="3333cc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1" lang="en-US" sz="1600" spc="-1" strike="noStrike">
              <a:solidFill>
                <a:srgbClr val="3333cc"/>
              </a:solidFill>
              <a:latin typeface="Comic Sans MS"/>
            </a:endParaRPr>
          </a:p>
          <a:p>
            <a:pPr lvl="4" marL="182880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Water Quality Standards and CSO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U.S. EPA Perspectives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Fred Leutner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Office of Science and Technology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October 18, 2004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5F3A1-A96D-405D-82C0-7E01C3FA23F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1/8/01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trategic Direction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omic Sans MS"/>
              </a:rPr>
              <a:t>Guidance: Coordinating CSO Long-Term Planning with WQ Standards Reviews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(2001)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omic Sans MS"/>
              </a:rPr>
              <a:t>Strategy for WQ Standards and Criteria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(2003)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Vision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…Each water body…will have…standards that defines its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highest attainable use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nd the water quality required to support the uses.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D8CBE-D724-4146-A520-06BE9100F6E4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Designated Uses Plan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(July 2004)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80880" indent="-380880">
              <a:spcBef>
                <a:spcPts val="601"/>
              </a:spcBef>
              <a:buClr>
                <a:srgbClr val="3333c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EPA UAA workshop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Sep 2004)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80880" indent="-380880">
              <a:spcBef>
                <a:spcPts val="601"/>
              </a:spcBef>
              <a:buClr>
                <a:srgbClr val="3333c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Co-regulator workshops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005-early 2006) 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80880" indent="-380880">
              <a:spcBef>
                <a:spcPts val="601"/>
              </a:spcBef>
              <a:buClr>
                <a:srgbClr val="3333c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Pilot projects involving CSOs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004-2005)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80880" indent="-380880">
              <a:spcBef>
                <a:spcPts val="601"/>
              </a:spcBef>
              <a:buClr>
                <a:srgbClr val="3333c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Methods for using bioassessments to refine aquatic life use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004)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80880" indent="-380880">
              <a:spcBef>
                <a:spcPts val="601"/>
              </a:spcBef>
              <a:buClr>
                <a:srgbClr val="3333c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Information clearinghouse for Regions, states, tribes and municipalities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004)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C2E4F-9DF1-418C-9C14-C726DE69D27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EPA Workshop (Sep 2004)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Existing uses”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Mechanisms for short-term goals other than use removal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Attainability” and NPS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Human caused conditions”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Substantial and widespread economic and social impact” 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ata sufficiency for UAAs, variances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B65FC-31A3-4ABE-A751-BED3DD3FD3B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Existing Use Question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ype of evidence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Q? Actual use? Both? Either?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Analysis of evidence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ow to analyze WQ or actual use since 1975?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Prohibition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 removal? Use subcategorizing?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Scope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ngle policy? Policies for different use situations? Case by case?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Partial use?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emporal and spatial variations? 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ata: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vailable data? New data?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9B72E-2BBB-44D4-BB2C-D03704090EA8}" type="slidenum">
              <a:t>5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Economic and Social Impact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What are the frustrations with this analysis?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Are there limitations in EPA’s guidance?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What would make sense?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332BC-3D6E-4D94-B3ED-5BAB75B816AA}" type="slidenum">
              <a:t>6</a:t>
            </a:fld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8T13:57:43Z</dcterms:created>
  <dc:creator>A satisfied Microsoft Office User</dc:creator>
  <dc:description/>
  <dc:language>en-US</dc:language>
  <cp:lastModifiedBy> </cp:lastModifiedBy>
  <cp:lastPrinted>2002-02-07T14:38:56Z</cp:lastPrinted>
  <dcterms:modified xsi:type="dcterms:W3CDTF">2004-10-19T03:46:04Z</dcterms:modified>
  <cp:revision>164</cp:revision>
  <dc:subject/>
  <dc:title>PowerPoint Presentation</dc:title>
</cp:coreProperties>
</file>