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9A8B-E21D-458A-99DF-D0DBFC879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FFD0-D8C6-41BA-A19F-B1D691E48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D448-91E4-415B-93AC-9CDE48609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9C23-6982-4154-BD29-D77EEA3A2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36E92-AAC9-4448-8FEA-87ACADBC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69C7F-0455-463C-9C73-E552E9A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46ED-5F70-4840-9770-0285838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21400-78BD-439B-BEC1-49D694D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20670-2D40-4936-8B08-B9A75678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C311-55C5-4F69-9D84-BA6F081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87BE3-FD1A-4876-830A-C2EDA0E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368C-8A54-45D1-BC9B-A4832C98D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54CF5-FDBD-4C94-B2C7-DDEA65D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9103C-8FD8-4CB1-8DBC-42EACA5F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BB5D1-42DE-4244-B8AD-A39C7689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9AED-9879-4851-976E-965F7C1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22FA6-9314-491A-92FC-07C4D39D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DA40-39F8-4AA6-99EE-F2E228479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B487-10F0-4A39-9CD3-3E130EA7A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2723-23E8-43B0-8224-FBD7CDE56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8D7F-8C97-4DC2-A560-E1708DC4C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90B3-7B1A-43E5-A5DA-54269BB07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7C6A-133D-4F6C-817E-7D8432487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D2C1-6F71-42D7-BED5-EF8BEDC5D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90000"/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95280"/>
            <a:ext cx="777240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743200" y="62481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Office of Science an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8D6-9A12-43D5-B120-3600DE6893BB}" type="slidenum"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175248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7524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9E5-F273-4EC9-A729-F007EC7262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175248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7524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90000"/>
              <a:buFont typeface="CommonBullet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ater Quality Standards and CS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U.S. EPA Perspective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red Leutne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ffice of Science and Technolog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ctober 18, 2004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8E902-F557-4660-8745-55CAC18C358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8/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rategic Direction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Guidance: Coordinating CSO Long-Term Planning with WQ Standards Review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200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Strategy for WQ Standards and Criteria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2003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Visio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…Each water body…will have…standards that defines it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highest attainable us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the water quality required to support the use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9C14-608C-474C-8C90-BF4ED41775C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esignated Uses Pla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July 2004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PA UAA workshop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Sep 2004)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-regulator workshop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5-early 2006)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ilot projects involving CSO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-2005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ethods for using bioassessments to refine aquatic life us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nformation clearinghouse for Regions, states, tribes and municipalitie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A3A3-4662-4813-999F-06815A8276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PA Workshop (Sep 2004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xisting uses”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echanisms for short-term goals other than use remova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ttainability” and NP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uman caused conditions”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ubstantial and widespread economic and social impact”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ata sufficiency for UAAs, variance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B489-7E7C-4A7C-8533-C6836B75D7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isting Use Question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ype of evidenc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Q? Actual use? Both? Either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nalysis of evidenc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to analyze WQ or actual use since 1975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hibitio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emoval? Use subcategorizing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cop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olicy? Policies for different use situations? Case by cas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artial use?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mporal and spatial variations?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ata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vailable data? New dat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6ACE-703B-47B3-90F7-8F04A9D36B4C}" type="slidenum">
              <a:t>5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conomic and Social Impac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hat are the frustrations with this analysis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re there limitations in EPA’s guidanc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hat would make sens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E8DF-5351-4878-B6EF-DFE1D66864AD}" type="slidenum">
              <a:t>6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3:57:43Z</dcterms:created>
  <dc:creator>A satisfied Microsoft Office User</dc:creator>
  <dc:description/>
  <dc:language>en-US</dc:language>
  <cp:lastModifiedBy> </cp:lastModifiedBy>
  <cp:lastPrinted>2002-02-07T14:38:56Z</cp:lastPrinted>
  <dcterms:modified xsi:type="dcterms:W3CDTF">2004-10-19T03:46:04Z</dcterms:modified>
  <cp:revision>164</cp:revision>
  <dc:subject/>
  <dc:title>PowerPoint Presentation</dc:title>
</cp:coreProperties>
</file>