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48A14-4C85-4FEE-A6E7-E64321F1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C4527-7F31-4F53-90DE-B34460CA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352EF-ECEB-4764-966B-6BE04E88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883B2-C4E3-4A58-B05D-89EF0AD4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21A13-90DB-4BE0-ADF9-E485F1A2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EE677-497A-49D7-87F2-DDC35F55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6C970-38D5-418B-B716-EBEEE9D8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C8E7D-794B-400D-B2E7-B2FD69BB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59C7D-5E6F-4796-9569-051CA83F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85024-420F-4FB7-9257-1B6928F6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63AAE-1AC4-4EED-9B3A-7AA8AB5C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3194B-D10D-4B6A-8E0A-D93B9670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404640"/>
            <a:ext cx="438120" cy="474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73200" y="40464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4360" y="830160"/>
            <a:ext cx="422280" cy="474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7320" y="8301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54200"/>
            <a:ext cx="560520" cy="42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5040" y="2970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1087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4647960" y="6476760"/>
            <a:ext cx="4267080" cy="759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0000" rIns="90000" tIns="29160" bIns="29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915400" y="4191120"/>
            <a:ext cx="7632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36960" y="646596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MicrogrammaDBolExt"/>
              </a:rPr>
              <a:t>Greeley and Hansen </a:t>
            </a:r>
            <a:r>
              <a:rPr b="0" lang="en-US" sz="700" spc="-1" strike="noStrike">
                <a:solidFill>
                  <a:srgbClr val="008000"/>
                </a:solidFill>
                <a:latin typeface="MicrogrammaDBolExt"/>
              </a:rPr>
              <a:t>LL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35000" y="2438280"/>
            <a:ext cx="9009000" cy="1052640"/>
            <a:chOff x="135000" y="2438280"/>
            <a:chExt cx="9009000" cy="1052640"/>
          </a:xfrm>
        </p:grpSpPr>
        <p:sp>
          <p:nvSpPr>
            <p:cNvPr id="49" name=""/>
            <p:cNvSpPr/>
            <p:nvPr/>
          </p:nvSpPr>
          <p:spPr>
            <a:xfrm>
              <a:off x="425520" y="2546280"/>
              <a:ext cx="438120" cy="474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08200" y="2546280"/>
              <a:ext cx="32868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9360" y="2968560"/>
              <a:ext cx="422280" cy="474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97120" y="2971800"/>
              <a:ext cx="36828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500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451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A6F8-B3E4-419D-8A5F-FA4492DD62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8000"/>
              </a:buClr>
              <a:buSzPct val="50000"/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6920" y="26784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UAA’s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Data Need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522760" y="2273400"/>
            <a:ext cx="312768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lyde Wilb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23840" y="-76320"/>
            <a:ext cx="83520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Flow conditions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, water levels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prevent attainment</a:t>
            </a:r>
            <a:br>
              <a:rPr sz="3200"/>
            </a:b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issouri and Kansas 0.5-1 Meter depth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igh Flow/Low Flow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locity 2-3 ft/sec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Human caused conditions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that cannot be remedied or would cause more environmental damage to correct than to leave in place;</a:t>
            </a:r>
            <a:endParaRPr b="1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ltra-Urban Area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reet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entration of Wildlif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Removing the Channel =Flooding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6400" y="3746520"/>
            <a:ext cx="8067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5492160" y="1935000"/>
            <a:ext cx="3655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tin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560" y="1995480"/>
            <a:ext cx="247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od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451400" cy="3429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48160" y="3429000"/>
            <a:ext cx="4695840" cy="3429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994120" y="2479680"/>
            <a:ext cx="1481040" cy="1455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448160" y="2487600"/>
            <a:ext cx="1467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ams, diversions or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hydrologic modifications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prevent the use, and it is not feasible to restore the water body to its original condition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l-Sag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Physical conditions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related to the natural features of the water body,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ontrols would result in substantial and widespread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economic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and social impact.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PA Guidanc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pact on a Commun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5-2% MHI-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e Histo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dustry Surve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OK – We can’t get ther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here should we go?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9040" y="141084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mit of Financial Capabilit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nee of the Curv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st/Loa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st/Benefi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st comparable to POTW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usag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3960" y="-60480"/>
            <a:ext cx="8264520" cy="6918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82880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9560" y="1295280"/>
            <a:ext cx="1143000" cy="824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TCP Consent OR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38720" y="1257480"/>
            <a:ext cx="1143000" cy="82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MC Done Efficac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72080" y="1143000"/>
            <a:ext cx="1238040" cy="8240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QS Review TEAM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62160" y="1314360"/>
            <a:ext cx="1238400" cy="580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Team Approva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640" y="885960"/>
            <a:ext cx="1343160" cy="1310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ni Develops Plan – Request Appro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19920" y="5010120"/>
            <a:ext cx="1143000" cy="82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Controls Bui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17960" y="5062680"/>
            <a:ext cx="121788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der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98560" y="5145120"/>
            <a:ext cx="923760" cy="580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QS Not M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1920" y="3287880"/>
            <a:ext cx="1400040" cy="580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 Rej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0800" y="3005280"/>
            <a:ext cx="129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73160" y="2278080"/>
            <a:ext cx="3019680" cy="2685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095880" y="5195880"/>
            <a:ext cx="770040" cy="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596960" y="1989000"/>
            <a:ext cx="5224680" cy="1276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 rot="5400000">
            <a:off x="4313520" y="2068560"/>
            <a:ext cx="135720" cy="6131520"/>
          </a:xfrm>
          <a:prstGeom prst="curvedConnector5">
            <a:avLst>
              <a:gd name="adj1" fmla="val -169148"/>
              <a:gd name="adj2" fmla="val 49997"/>
              <a:gd name="adj3" fmla="val -169148"/>
            </a:avLst>
          </a:prstGeom>
          <a:ln w="82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 flipV="1">
            <a:off x="1015920" y="3860640"/>
            <a:ext cx="73080" cy="127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Level of Data Needs 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your state agrees to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How Complicated does a UAA need to be?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9040" y="222048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13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4005360" y="3135240"/>
            <a:ext cx="1728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781520" y="6059520"/>
            <a:ext cx="1728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he Six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hen is a Use Unattainable?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3040" y="14112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554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turally occurring pollutan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concentrations prevent attainment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( No Trout in the OHIO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554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condition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water levels prevent the attainm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54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No fishing when the creek is dry or swimming in a hurrican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554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3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uman caused condition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that cannot be remedied or would cause more environmental damage to correct than to leave in place;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(Streets?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554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4) Dams, diversions o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ydrologic modification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prevent the use, and it is not feasible to restore the water body to its original condition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(Ohio Flood Control and Navigation Systems?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554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5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condition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related to the natural features of the water body, such as the lack of a proper substrate, cover, flow, depth, pools, riffles, and the like, unrelated to water quality, preclude attainment of aquatic life protection uses; or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(See No. 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554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6) Controls would result in substantial and widespread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conomic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and social impact.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(Asked to Pay would people and jobs go elsewhere?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2" dur="1" fill="hold"/>
                                  <p:tgtEl>
                                    <p:spTgt spid="12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9600" y="55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udience Participa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24160" y="1652760"/>
            <a:ext cx="5572080" cy="38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23840" y="-7668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Naturally occurring pollutant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concentrations prevent attainment</a:t>
            </a:r>
            <a:endParaRPr b="1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454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ference Stream with High Bacteriological Contamination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1T14:25:33Z</dcterms:created>
  <dc:creator>Valued Gateway Client</dc:creator>
  <dc:description/>
  <dc:language>en-US</dc:language>
  <cp:lastModifiedBy> </cp:lastModifiedBy>
  <dcterms:modified xsi:type="dcterms:W3CDTF">2004-10-19T22:08:04Z</dcterms:modified>
  <cp:revision>58</cp:revision>
  <dc:subject/>
  <dc:title>PowerPoint Presentation</dc:title>
</cp:coreProperties>
</file>