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000000"/>
                </a:solidFill>
                <a:latin typeface="Swis721 Ex B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Ex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Ex B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Ex B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Ex B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Ex B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Ex B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Ex B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Ex B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Ex B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Ex B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Ex B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Ex B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520" y="413064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3320" y="198108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520" y="413064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33320" y="413064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11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88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5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711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188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5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33320" y="198108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3320" y="198108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520" y="413064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3320" y="198108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33320" y="413064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3320" y="198108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520" y="413064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wis721 Ex B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Ex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Ex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Ex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Ex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Ex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Ex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Ex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5238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wis721 Ex BT"/>
              </a:rPr>
              <a:t>Challenges Facing Portland’s Post-Implement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wis721 Ex BT"/>
              </a:rPr>
              <a:t>CSO Discharges</a:t>
            </a: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s721 Ex BT"/>
              </a:rPr>
              <a:t>Jan Betz &amp; Virgil Adderley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Swis721 Ex BT"/>
              </a:rPr>
              <a:t>October 18, 200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Swis721 Ex BT"/>
              </a:rPr>
              <a:t>CSO Partnership Workshop, Chicago</a:t>
            </a:r>
            <a:endParaRPr b="0" lang="en-US" sz="16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477120"/>
            <a:ext cx="8991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CSO Partnership UAA Workshop 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       October 18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wis721 Ex BT"/>
              </a:rPr>
              <a:t>Other Parameters of Concern</a:t>
            </a: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Ex BT"/>
              </a:rPr>
              <a:t>Narrative Standard prohibiting offensive discharges</a:t>
            </a: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Ex BT"/>
              </a:rPr>
              <a:t>General language, maybe difficult to meet with any CSO discharge</a:t>
            </a:r>
            <a:endParaRPr b="0" lang="en-US" sz="2800" spc="-1" strike="noStrike">
              <a:solidFill>
                <a:srgbClr val="000000"/>
              </a:solidFill>
              <a:latin typeface="Swis721 Ex B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Ex BT"/>
              </a:rPr>
              <a:t>Floatables and debris controls may not be sufficient to fully cover elements of narrative standard</a:t>
            </a:r>
            <a:endParaRPr b="0" lang="en-US" sz="28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6477120"/>
            <a:ext cx="8991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CSO Partnership UAA Workshop 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       October 18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wis721 Ex BT"/>
              </a:rPr>
              <a:t>CSO Legal Challenge Summary</a:t>
            </a: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1523880"/>
            <a:ext cx="76960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Ex BT"/>
              </a:rPr>
              <a:t>Piecemeal approach thus f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Bacteria Management Plan in W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Mixing Zones in Permit for Copper &amp; L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Floatables Control for remaining CSO dis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Ex BT"/>
              </a:rPr>
              <a:t>Next Ste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Consider UAA for a wet-weather beneficial use allowing C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8445" t="0" r="11475" b="0"/>
          <a:stretch/>
        </p:blipFill>
        <p:spPr>
          <a:xfrm>
            <a:off x="0" y="2089080"/>
            <a:ext cx="5562720" cy="476892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19800" y="0"/>
            <a:ext cx="3724200" cy="7010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wis721 Ex BT"/>
              </a:rPr>
              <a:t>Questions?</a:t>
            </a:r>
            <a:br>
              <a:rPr sz="3600"/>
            </a:br>
            <a:br>
              <a:rPr sz="3600"/>
            </a:br>
            <a:r>
              <a:rPr b="0" i="1" lang="en-US" sz="2400" spc="-1" strike="noStrike">
                <a:solidFill>
                  <a:srgbClr val="000000"/>
                </a:solidFill>
                <a:latin typeface="Swis721 Ex BT"/>
              </a:rPr>
              <a:t>Nicolai Shaft</a:t>
            </a:r>
            <a:endParaRPr b="0" lang="en-US" sz="24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477120"/>
            <a:ext cx="8991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CSO Partnership UAA Workshop 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       October 18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wis721 Ex BT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Ex BT"/>
              </a:rPr>
              <a:t>Portland's CSO Program Accomplishments &amp; Status</a:t>
            </a:r>
            <a:endParaRPr b="0" lang="en-US" sz="2800" spc="-1" strike="noStrike">
              <a:solidFill>
                <a:srgbClr val="000000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Ex BT"/>
              </a:rPr>
              <a:t>CSO Bacteria Addressed in State WQS</a:t>
            </a:r>
            <a:endParaRPr b="0" lang="en-US" sz="2800" spc="-1" strike="noStrike">
              <a:solidFill>
                <a:srgbClr val="000000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Bacteria Management Plan”</a:t>
            </a:r>
            <a:endParaRPr b="0" lang="en-US" sz="2400" spc="-1" strike="noStrike">
              <a:solidFill>
                <a:srgbClr val="000000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Currently questioned by EPA</a:t>
            </a:r>
            <a:endParaRPr b="0" lang="en-US" sz="2400" spc="-1" strike="noStrike">
              <a:solidFill>
                <a:srgbClr val="000000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Ex BT"/>
              </a:rPr>
              <a:t>Other Parameters of Concern</a:t>
            </a:r>
            <a:endParaRPr b="0" lang="en-US" sz="2800" spc="-1" strike="noStrike">
              <a:solidFill>
                <a:srgbClr val="000000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Copper and Lead</a:t>
            </a:r>
            <a:endParaRPr b="0" lang="en-US" sz="2400" spc="-1" strike="noStrike">
              <a:solidFill>
                <a:srgbClr val="000000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Narrative Standard prohibiting offensive discharges includes floatables &amp; debris</a:t>
            </a:r>
            <a:endParaRPr b="0" lang="en-US" sz="2400" spc="-1" strike="noStrike">
              <a:solidFill>
                <a:srgbClr val="000000"/>
              </a:solidFill>
              <a:latin typeface="Swis721 Ex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47920"/>
            <a:ext cx="9144000" cy="51051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77120"/>
            <a:ext cx="8991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CSO Partnership UAA Workshop 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       October 18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wis721 Ex BT"/>
              </a:rPr>
              <a:t>Portland's 20-Year CSO Program</a:t>
            </a: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1617480"/>
            <a:ext cx="9131040" cy="3663720"/>
            <a:chOff x="0" y="1617480"/>
            <a:chExt cx="9131040" cy="3663720"/>
          </a:xfrm>
        </p:grpSpPr>
        <p:sp>
          <p:nvSpPr>
            <p:cNvPr id="55" name=""/>
            <p:cNvSpPr/>
            <p:nvPr/>
          </p:nvSpPr>
          <p:spPr>
            <a:xfrm>
              <a:off x="6776280" y="2592360"/>
              <a:ext cx="13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201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5920" y="388944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 Black"/>
                </a:rPr>
                <a:t>199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97320" y="28429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 Black"/>
                </a:rPr>
                <a:t>199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33720" y="392436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 Black"/>
                </a:rPr>
                <a:t>19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46080" y="27594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 Black"/>
                </a:rPr>
                <a:t>2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81480" y="3841920"/>
              <a:ext cx="16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200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7080" y="3489120"/>
              <a:ext cx="757296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4584600"/>
              <a:ext cx="238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DEQ Issues SFO CSO Program Initiate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76600" y="2103120"/>
              <a:ext cx="231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CSO Facilities Plan Comple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32000" y="4584600"/>
              <a:ext cx="253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Focused Willamette River Planning Begi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27920" y="1783800"/>
              <a:ext cx="286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Columbia Slough and 7 Willamette Outfalls Controlle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03040" y="4364280"/>
              <a:ext cx="2737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Willamette River West Side Outfalls Controlled (16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38000" y="1617480"/>
              <a:ext cx="2856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Willamette River East Side CSO Outfalls Control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54360" y="4583520"/>
              <a:ext cx="187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 Black"/>
                </a:rPr>
                <a:t>CSO Program Compl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56520" y="3489120"/>
              <a:ext cx="0" cy="41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72520" y="3239280"/>
              <a:ext cx="0" cy="49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07480" y="3489120"/>
              <a:ext cx="0" cy="41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58800" y="3489120"/>
              <a:ext cx="0" cy="41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2000" y="3239280"/>
              <a:ext cx="0" cy="49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93760" y="3072960"/>
              <a:ext cx="0" cy="74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54360" y="3738600"/>
              <a:ext cx="876600" cy="749160"/>
            </a:xfrm>
            <a:prstGeom prst="irregularSeal2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105520" y="5410080"/>
            <a:ext cx="38098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FO Allowable Overflo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nter: 4 per year               Summer: 1 Every 3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477120"/>
            <a:ext cx="8991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CSO Partnership UAA Workshop 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       October 18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wis721 Ex BT"/>
              </a:rPr>
              <a:t>Portland's CSO Control Program</a:t>
            </a: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Ex BT"/>
              </a:rPr>
              <a:t>Cornerstone Projects</a:t>
            </a:r>
            <a:endParaRPr b="0" lang="en-US" sz="2800" spc="-1" strike="noStrike">
              <a:solidFill>
                <a:srgbClr val="000000"/>
              </a:solidFill>
              <a:latin typeface="Swis721 Ex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wis721 Ex BT"/>
              </a:rPr>
              <a:t>Cost-effective stormwater inflow control measures</a:t>
            </a:r>
            <a:endParaRPr b="0" lang="en-US" sz="2000" spc="-1" strike="noStrike">
              <a:solidFill>
                <a:srgbClr val="000000"/>
              </a:solidFill>
              <a:latin typeface="Swis721 Ex BT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wis721 Ex BT"/>
              </a:rPr>
              <a:t>Completed All but Stream Separation</a:t>
            </a:r>
            <a:endParaRPr b="0" lang="en-US" sz="2000" spc="-1" strike="noStrike">
              <a:solidFill>
                <a:srgbClr val="000000"/>
              </a:solidFill>
              <a:latin typeface="Swis721 Ex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Ex BT"/>
              </a:rPr>
              <a:t>Columbia Slough CSO Projects</a:t>
            </a: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wis721 Ex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wis721 Ex BT"/>
              </a:rPr>
              <a:t>Large storage conduit, pumping and treatment</a:t>
            </a:r>
            <a:endParaRPr b="0" lang="en-US" sz="2000" spc="-1" strike="noStrike">
              <a:solidFill>
                <a:srgbClr val="000000"/>
              </a:solidFill>
              <a:latin typeface="Swis721 Ex BT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wis721 Ex BT"/>
              </a:rPr>
              <a:t>Completed</a:t>
            </a:r>
            <a:endParaRPr b="0" lang="en-US" sz="2000" spc="-1" strike="noStrike">
              <a:solidFill>
                <a:srgbClr val="000000"/>
              </a:solidFill>
              <a:latin typeface="Swis721 Ex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Ex BT"/>
              </a:rPr>
              <a:t>Willamette River CSO Projects</a:t>
            </a: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wis721 Ex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wis721 Ex BT"/>
              </a:rPr>
              <a:t>Deep tunnel storage, pumping and treatment</a:t>
            </a:r>
            <a:endParaRPr b="0" lang="en-US" sz="2000" spc="-1" strike="noStrike">
              <a:solidFill>
                <a:srgbClr val="000000"/>
              </a:solidFill>
              <a:latin typeface="Swis721 Ex BT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wis721 Ex BT"/>
              </a:rPr>
              <a:t>Under Construction &amp; Design</a:t>
            </a:r>
            <a:endParaRPr b="0" lang="en-US" sz="2000" spc="-1" strike="noStrike">
              <a:solidFill>
                <a:srgbClr val="000000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Ex BT"/>
              </a:rPr>
              <a:t>Achieved 55% System-wide CSO Reduction from 1990-2004</a:t>
            </a:r>
            <a:endParaRPr b="0" lang="en-US" sz="28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6477120"/>
            <a:ext cx="8991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CSO Partnership UAA Workshop 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       October 18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wis721 Ex BT"/>
              </a:rPr>
              <a:t>CSO Outfall Control Schedule</a:t>
            </a: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All 13 Columbia Slough Outfalls controlled by December 2000 - </a:t>
            </a:r>
            <a:r>
              <a:rPr b="0" lang="en-US" sz="2400" spc="-1" strike="noStrike">
                <a:solidFill>
                  <a:srgbClr val="3333cc"/>
                </a:solidFill>
                <a:latin typeface="Swis721 Ex BT"/>
              </a:rPr>
              <a:t>Completed</a:t>
            </a:r>
            <a:endParaRPr b="0" lang="en-US" sz="2400" spc="-1" strike="noStrike">
              <a:solidFill>
                <a:srgbClr val="000000"/>
              </a:solidFill>
              <a:latin typeface="Swis721 Ex B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7 Willamette Outfalls Controlled by December 2001 - </a:t>
            </a:r>
            <a:r>
              <a:rPr b="0" lang="en-US" sz="2400" spc="-1" strike="noStrike">
                <a:solidFill>
                  <a:srgbClr val="3333cc"/>
                </a:solidFill>
                <a:latin typeface="Swis721 Ex BT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Swis721 Ex B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16 Willamette River Outfalls by December 2006 – </a:t>
            </a:r>
            <a:r>
              <a:rPr b="0" lang="en-US" sz="2400" spc="-1" strike="noStrike">
                <a:solidFill>
                  <a:srgbClr val="3333cc"/>
                </a:solidFill>
                <a:latin typeface="Swis721 Ex BT"/>
              </a:rPr>
              <a:t>In Construction</a:t>
            </a:r>
            <a:endParaRPr b="0" lang="en-US" sz="2400" spc="-1" strike="noStrike">
              <a:solidFill>
                <a:srgbClr val="000000"/>
              </a:solidFill>
              <a:latin typeface="Swis721 Ex B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Final 19 Willamette River Outfalls by December 2011 – </a:t>
            </a:r>
            <a:r>
              <a:rPr b="0" lang="en-US" sz="2400" spc="-1" strike="noStrike">
                <a:solidFill>
                  <a:srgbClr val="3333cc"/>
                </a:solidFill>
                <a:latin typeface="Swis721 Ex BT"/>
              </a:rPr>
              <a:t>In Design</a:t>
            </a:r>
            <a:r>
              <a:rPr b="0" lang="en-US" sz="2400" spc="-1" strike="noStrike">
                <a:solidFill>
                  <a:srgbClr val="ccccff"/>
                </a:solidFill>
                <a:latin typeface="Swis721 Ex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wis721 Ex B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City has met all milestones scheduled in the Amended Stipulated Final Order (ASFO)</a:t>
            </a:r>
            <a:endParaRPr b="0" lang="en-US" sz="24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477120"/>
            <a:ext cx="8991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CSO Partnership UAA Workshop 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       October 18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wis721 Ex BT"/>
              </a:rPr>
              <a:t>CSO Reductions Since 1970</a:t>
            </a: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1235160"/>
            <a:ext cx="8610840" cy="552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477120"/>
            <a:ext cx="8991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CSO Partnership UAA Workshop 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       October 18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wis721 Ex BT"/>
              </a:rPr>
              <a:t>CSO Program Costs</a:t>
            </a: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wis721 BT"/>
              </a:rPr>
              <a:t>Program costs include operations, maintenance and capital</a:t>
            </a: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wis721 BT"/>
              </a:rPr>
              <a:t>Spent to Date &gt; $600 million </a:t>
            </a: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wis721 BT"/>
              </a:rPr>
              <a:t>Estimated Total Cost in 2011 ~ $1.4 billion</a:t>
            </a: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477120"/>
            <a:ext cx="8991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CSO Partnership UAA Workshop 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       October 18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wis721 Ex BT"/>
              </a:rPr>
              <a:t>CSO Bacteria Addressed in State WQS</a:t>
            </a: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Ex BT"/>
              </a:rPr>
              <a:t>Bacteria WQS waives numerical criteria for CSO where:</a:t>
            </a:r>
            <a:endParaRPr b="0" lang="en-US" sz="2800" spc="-1" strike="noStrike">
              <a:solidFill>
                <a:srgbClr val="000000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CSO overflows meet storm-size requirements of LTCP &amp; ASFO</a:t>
            </a:r>
            <a:endParaRPr b="0" lang="en-US" sz="2400" spc="-1" strike="noStrike">
              <a:solidFill>
                <a:srgbClr val="000000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Bacteria Management Plan” (LTCP) has been approved by State</a:t>
            </a:r>
            <a:endParaRPr b="0" lang="en-US" sz="2400" spc="-1" strike="noStrike">
              <a:solidFill>
                <a:srgbClr val="000000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Ex BT"/>
              </a:rPr>
              <a:t>New Willamette River Bacteria TMDL</a:t>
            </a:r>
            <a:endParaRPr b="0" lang="en-US" sz="2800" spc="-1" strike="noStrike">
              <a:solidFill>
                <a:srgbClr val="000000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Portland CSO meets TMDL requirements</a:t>
            </a:r>
            <a:endParaRPr b="0" lang="en-US" sz="24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477120"/>
            <a:ext cx="8991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CSO Partnership UAA Workshop   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wis721 Ex BT"/>
              </a:rPr>
              <a:t>         October 18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wis721 Ex BT"/>
              </a:rPr>
              <a:t>Other Parameters of Concern</a:t>
            </a:r>
            <a:endParaRPr b="0" lang="en-US" sz="3600" spc="-1" strike="noStrike">
              <a:solidFill>
                <a:srgbClr val="000000"/>
              </a:solidFill>
              <a:latin typeface="Swis721 Ex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Ex BT"/>
              </a:rPr>
              <a:t>Total Copper and Lead</a:t>
            </a:r>
            <a:endParaRPr b="0" lang="en-US" sz="3200" spc="-1" strike="noStrike">
              <a:solidFill>
                <a:srgbClr val="000000"/>
              </a:solidFill>
              <a:latin typeface="Swis721 Ex B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Ex BT"/>
              </a:rPr>
              <a:t>Acute criteria exceeded only.  Short duration, intermittent discharges do not exceed toxic criteria</a:t>
            </a:r>
            <a:endParaRPr b="0" lang="en-US" sz="2800" spc="-1" strike="noStrike">
              <a:solidFill>
                <a:srgbClr val="000000"/>
              </a:solidFill>
              <a:latin typeface="Swis721 Ex B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Ex BT"/>
              </a:rPr>
              <a:t>Dissolved copper &amp; lead do not exceed acute or toxic criteria</a:t>
            </a:r>
            <a:endParaRPr b="0" lang="en-US" sz="2800" spc="-1" strike="noStrike">
              <a:solidFill>
                <a:srgbClr val="000000"/>
              </a:solidFill>
              <a:latin typeface="Swis721 Ex B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Ex BT"/>
              </a:rPr>
              <a:t>Looking to permit via mixing zone at each remaining outfall for 10:1 dilution.</a:t>
            </a:r>
            <a:endParaRPr b="0" lang="en-US" sz="2800" spc="-1" strike="noStrike">
              <a:solidFill>
                <a:srgbClr val="000000"/>
              </a:solidFill>
              <a:latin typeface="Swis721 Ex B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06:01:32Z</dcterms:created>
  <dc:creator>Arnel M. Mandilag</dc:creator>
  <dc:description/>
  <dc:language>en-US</dc:language>
  <cp:lastModifiedBy> </cp:lastModifiedBy>
  <dcterms:modified xsi:type="dcterms:W3CDTF">2004-10-19T17:22:08Z</dcterms:modified>
  <cp:revision>7</cp:revision>
  <dc:subject/>
  <dc:title>Detailed Design Modeling for Large Scale CSO Facilities</dc:title>
</cp:coreProperties>
</file>