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F1484-295E-45AB-A6BD-8ABB6125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234A-83B3-46BB-A212-F5532B26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2E5F0-E1A8-4A95-9D9D-A367292FE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90C87-C63C-4672-872E-20848F8D1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1333C-2DC3-4770-BDD3-086A8DAA6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DD1E4-C216-43DA-87BB-229300EA4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F9F5B-A954-44FA-9BCC-1BE84EA63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CBFB7-E650-495D-9010-8DEF4EB92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B6278-45D8-4A45-85A8-CA8B4B333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CCA3F-63AE-4959-A0BF-5AF8377C5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E519-CBDC-4DBC-A991-60F31799F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20A41-C8FD-49F1-9725-6738B7DED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E07A6-93E5-4859-A7F2-033D73D34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39138-04F0-4973-B2B0-3349ED072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5C968-4EC5-405F-860A-1D678DEBA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518DE-82AB-446C-A809-C71A71FC1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9814C-C875-4C5B-A0C8-AD4FBE0C6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677D5-9424-4AB7-B8E8-67BE49ED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31506-5F98-4B3A-9E31-CD105A35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C4D2C-2C69-4747-BD10-E2606AAB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68221-0937-4EF6-B673-7CCC7D24B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A0DD5-85DB-41F1-946E-59248BE8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1D773-AFA0-497D-9EE3-58F0E9F60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8C0B3-B451-4689-963C-03136892D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BC09-1EE2-47E6-BD4B-2B141B8DAB4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7545-1B41-401F-8F7D-479E3BC4A81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2120"/>
            <a:ext cx="9066240" cy="2286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racking the UAA Code</a:t>
            </a:r>
            <a:br>
              <a:rPr sz="4800"/>
            </a:br>
            <a:br>
              <a:rPr sz="4800"/>
            </a:br>
            <a:r>
              <a:rPr b="0" lang="en-US" sz="4800" spc="-1" strike="noStrike">
                <a:solidFill>
                  <a:srgbClr val="ccecff"/>
                </a:solidFill>
                <a:latin typeface="Arial"/>
              </a:rPr>
              <a:t>Water Quality Assessments</a:t>
            </a:r>
            <a:br>
              <a:rPr sz="4800"/>
            </a:br>
            <a:r>
              <a:rPr b="0" lang="en-US" sz="4800" spc="-1" strike="noStrike">
                <a:solidFill>
                  <a:srgbClr val="ccecff"/>
                </a:solidFill>
                <a:latin typeface="Arial"/>
              </a:rPr>
              <a:t>UAA Building Blocks</a:t>
            </a:r>
            <a:endParaRPr b="0" lang="en-US" sz="4800" spc="-1" strike="noStrike">
              <a:solidFill>
                <a:srgbClr val="ccecff"/>
              </a:solidFill>
              <a:latin typeface="Arial"/>
            </a:endParaRPr>
          </a:p>
        </p:txBody>
      </p:sp>
      <p:sp>
        <p:nvSpPr>
          <p:cNvPr id="212" name="PlaceHolder 2"/>
          <p:cNvSpPr>
            <a:spLocks noGrp="1"/>
          </p:cNvSpPr>
          <p:nvPr>
            <p:ph type="subTitle"/>
          </p:nvPr>
        </p:nvSpPr>
        <p:spPr>
          <a:xfrm>
            <a:off x="685440" y="34290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lamit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quaLaw</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24097E12-EC75-47C5-9675-33F79D451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 states understood that once the uses were set, they would have great difficulty changing them.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hange process not yet established by EPA.</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ses set, EPA and states develop corresponding WQS to protect the us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AD3AF2-A39E-4964-9BAC-7F02ECC1BC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can b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ative (“free fro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degrad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2F6222-FE9A-461B-9756-D98F6D955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shable/Swimmable</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ly means </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quatic Life</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reation</a:t>
            </a:r>
            <a:endParaRPr b="0" lang="en-US" sz="2400" spc="-1" strike="noStrike">
              <a:solidFill>
                <a:srgbClr val="ffffff"/>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atic life classifications can be clarified/refined/made more specific</a:t>
            </a:r>
            <a:endParaRPr b="0" lang="en-US" sz="28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water fishery</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d</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t</a:t>
            </a:r>
            <a:endParaRPr b="0" lang="en-US" sz="2400" spc="-1" strike="noStrike">
              <a:solidFill>
                <a:srgbClr val="ffffff"/>
              </a:solidFill>
              <a:latin typeface="Arial"/>
            </a:endParaRPr>
          </a:p>
          <a:p>
            <a:pPr lvl="1" marL="735480" indent="-28296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7F309CC-5125-4224-9B3D-FB30A7F009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shable/Swimmable</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reation also</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your state describe recreational us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ly (i.e., “recreation”) or more specifically (i.e., primary and secondary contac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suggests greater reclassification flexibility where broad use rather than with “primary contact recre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on this later</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2608955-61E9-441E-AA82-39FB4549EC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AA Terminology</a:t>
            </a:r>
            <a:endParaRPr b="0" lang="en-US" sz="4400" spc="-1" strike="noStrike">
              <a:solidFill>
                <a:srgbClr val="ffffff"/>
              </a:solidFill>
              <a:latin typeface="Arial"/>
            </a:endParaRPr>
          </a:p>
        </p:txBody>
      </p:sp>
      <p:sp>
        <p:nvSpPr>
          <p:cNvPr id="4" name="PlaceHolder 3"/>
          <p:cNvSpPr>
            <a:spLocks noGrp="1"/>
          </p:cNvSpPr>
          <p:nvPr>
            <p:ph type="sldNum" idx="3"/>
          </p:nvPr>
        </p:nvSpPr>
        <p:spPr/>
        <p:txBody>
          <a:bodyPr/>
          <a:p>
            <a:fld id="{86478D92-4B39-4A4D-AB2F-0988A208C1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 of Wor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wn grad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signating open sew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x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aken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cksli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B7C079-AEBB-4F5B-9126-1166880B7E70}"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40">
                                            <p:txEl>
                                              <p:pRg st="1" end="1"/>
                                            </p:txEl>
                                          </p:spTgt>
                                        </p:tgtEl>
                                        <p:attrNameLst>
                                          <p:attrName>style.visibility</p:attrName>
                                        </p:attrNameLst>
                                      </p:cBhvr>
                                      <p:to>
                                        <p:strVal val="visible"/>
                                      </p:to>
                                    </p:set>
                                    <p:anim calcmode="lin" valueType="num">
                                      <p:cBhvr additive="base">
                                        <p:cTn id="13"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40">
                                            <p:txEl>
                                              <p:pRg st="2" end="2"/>
                                            </p:txEl>
                                          </p:spTgt>
                                        </p:tgtEl>
                                        <p:attrNameLst>
                                          <p:attrName>style.visibility</p:attrName>
                                        </p:attrNameLst>
                                      </p:cBhvr>
                                      <p:to>
                                        <p:strVal val="visible"/>
                                      </p:to>
                                    </p:set>
                                    <p:anim calcmode="lin" valueType="num">
                                      <p:cBhvr additive="base">
                                        <p:cTn id="19"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40">
                                            <p:txEl>
                                              <p:pRg st="3" end="3"/>
                                            </p:txEl>
                                          </p:spTgt>
                                        </p:tgtEl>
                                        <p:attrNameLst>
                                          <p:attrName>style.visibility</p:attrName>
                                        </p:attrNameLst>
                                      </p:cBhvr>
                                      <p:to>
                                        <p:strVal val="visible"/>
                                      </p:to>
                                    </p:set>
                                    <p:anim calcmode="lin" valueType="num">
                                      <p:cBhvr additive="base">
                                        <p:cTn id="25"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40">
                                            <p:txEl>
                                              <p:pRg st="4" end="4"/>
                                            </p:txEl>
                                          </p:spTgt>
                                        </p:tgtEl>
                                        <p:attrNameLst>
                                          <p:attrName>style.visibility</p:attrName>
                                        </p:attrNameLst>
                                      </p:cBhvr>
                                      <p:to>
                                        <p:strVal val="visible"/>
                                      </p:to>
                                    </p:set>
                                    <p:anim calcmode="lin" valueType="num">
                                      <p:cBhvr additive="base">
                                        <p:cTn id="31"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40">
                                            <p:txEl>
                                              <p:pRg st="5" end="5"/>
                                            </p:txEl>
                                          </p:spTgt>
                                        </p:tgtEl>
                                        <p:attrNameLst>
                                          <p:attrName>style.visibility</p:attrName>
                                        </p:attrNameLst>
                                      </p:cBhvr>
                                      <p:to>
                                        <p:strVal val="visible"/>
                                      </p:to>
                                    </p:set>
                                    <p:anim calcmode="lin" valueType="num">
                                      <p:cBhvr additive="base">
                                        <p:cTn id="37" dur="5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utral</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800" spc="-1" strike="noStrike">
                <a:solidFill>
                  <a:srgbClr val="ffffff"/>
                </a:solidFill>
                <a:latin typeface="Arial"/>
              </a:rPr>
              <a:t>Partial” u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itive</a:t>
            </a:r>
            <a:endParaRPr b="0" lang="en-US" sz="36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tegoriza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B. Mass CSO “B” and “C”???</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2D9BD1-CC10-404F-A472-5F75E98EBD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 &amp; Symbols</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or in the toile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uman Cond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ffiti on outfalls about the Mayor’s ancestry and his mother’s favorite patent leath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sewers (toilet paper in the “tre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F59A18F-F9BD-4C3C-BD6A-E9F6658FE041}" type="slidenum">
              <a:t>17</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44">
                                            <p:txEl>
                                              <p:pRg st="0" end="0"/>
                                            </p:txEl>
                                          </p:spTgt>
                                        </p:tgtEl>
                                        <p:attrNameLst>
                                          <p:attrName>style.visibility</p:attrName>
                                        </p:attrNameLst>
                                      </p:cBhvr>
                                      <p:to>
                                        <p:strVal val="visible"/>
                                      </p:to>
                                    </p:set>
                                    <p:anim calcmode="lin" valueType="num">
                                      <p:cBhvr additive="base">
                                        <p:cTn id="45"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44">
                                            <p:txEl>
                                              <p:pRg st="1" end="1"/>
                                            </p:txEl>
                                          </p:spTgt>
                                        </p:tgtEl>
                                        <p:attrNameLst>
                                          <p:attrName>style.visibility</p:attrName>
                                        </p:attrNameLst>
                                      </p:cBhvr>
                                      <p:to>
                                        <p:strVal val="visible"/>
                                      </p:to>
                                    </p:set>
                                    <p:anim calcmode="lin" valueType="num">
                                      <p:cBhvr additive="base">
                                        <p:cTn id="51"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44">
                                            <p:txEl>
                                              <p:pRg st="2" end="2"/>
                                            </p:txEl>
                                          </p:spTgt>
                                        </p:tgtEl>
                                        <p:attrNameLst>
                                          <p:attrName>style.visibility</p:attrName>
                                        </p:attrNameLst>
                                      </p:cBhvr>
                                      <p:to>
                                        <p:strVal val="visible"/>
                                      </p:to>
                                    </p:set>
                                    <p:anim calcmode="lin" valueType="num">
                                      <p:cBhvr additive="base">
                                        <p:cTn id="57"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44">
                                            <p:txEl>
                                              <p:pRg st="3" end="3"/>
                                            </p:txEl>
                                          </p:spTgt>
                                        </p:tgtEl>
                                        <p:attrNameLst>
                                          <p:attrName>style.visibility</p:attrName>
                                        </p:attrNameLst>
                                      </p:cBhvr>
                                      <p:to>
                                        <p:strVal val="visible"/>
                                      </p:to>
                                    </p:set>
                                    <p:anim calcmode="lin" valueType="num">
                                      <p:cBhvr additive="base">
                                        <p:cTn id="63" dur="5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Terminology &amp; Symblos</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inology is importa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your story</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a very good one about pollutant reduction</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your terminology and stick to i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5DCCA31-CAC1-4B14-9624-B5646B6F6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rivers behind use assessments </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B32BDA0D-778F-4767-9F6C-4486E80A5B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Uses and terminolog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vers behind use assess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s of the Code  “01.131rfc0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shold regulatory issues and efforts to address the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limpse at the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C4BE0E9-5A74-4004-B38B-D784BEA442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nti-Driver</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uncertainty over what is permissib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hallenges of “backsliding on WQS” or designating beloved streams as open sew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chnical uncertain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tentially resource intensive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87F1667-A661-4403-AD95-0B4952F9D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nti-Driver</a:t>
            </a: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ck of certainty of resul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 that EPA/State may not have the same book, never mind be on the same p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are some of the obstacles that have prevented meaningful CSO-related UAAs during the past decad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0BD4675-87F2-4B3E-A5E1-B97F80B7FC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UAA Drivers</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your program going?</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ill it be “don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you ensure cost-effective complia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FF255EA-D6A3-43BF-B185-7275B49B2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UAA Drivers</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ill you prevent a loss of control of your program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interest group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dges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LSWGTOP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AFD9F4D-476B-4667-A54F-202ABEE88A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inful Example</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O Community enters State consent decre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billion program featuring tunnel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flows down to 1-5 per yea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y are large when they occur and they occur in an “area of interest”</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political concern leads to proposal to spend another $1 billion to expand tunnel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BA6DA2A-917C-4564-B281-D0C97BE545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inful…</a:t>
            </a: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izen group s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says State decree and proposed $1 billion amendment cuts it off</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Court of Appeals for the 7</a:t>
            </a:r>
            <a:r>
              <a:rPr b="0" lang="en-US" sz="3200" spc="-1" strike="noStrike" baseline="30000">
                <a:solidFill>
                  <a:srgbClr val="ffffff"/>
                </a:solidFill>
                <a:latin typeface="Arial"/>
              </a:rPr>
              <a:t>th</a:t>
            </a:r>
            <a:r>
              <a:rPr b="0" lang="en-US" sz="3200" spc="-1" strike="noStrike">
                <a:solidFill>
                  <a:srgbClr val="ffffff"/>
                </a:solidFill>
                <a:latin typeface="Arial"/>
              </a:rPr>
              <a:t> Circui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gre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des “when all is said and done, (the additional $1 billion is) merely a stalling tactic and not a compliance strategy.”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0EE46A5-A993-4A6F-8B34-53D72537D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in Avoidance</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will retire in time, don’t wor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wise, if you don’t have a WQS compliance strateg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11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T ONE!</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E63519D7-3B4B-4361-9241-A14438D7B0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Driver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s that can’t be retooled/redirected/enhanced/expand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ly in heavily urbanized are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llow watershed prioritiz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void overspending on CSO and underspending on storm wa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9593F4D-365B-46F8-9EF9-BBC1BC9B5C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Drivers</a:t>
            </a: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s can be forced b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ired water listing</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MDL for CSO-receiving wat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programs (storm water)</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 timing issues coming tomorrow</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C85AE39-D8AA-4EDD-B422-5DB0FF116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igins of the Code</a:t>
            </a: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01.131rfc04”</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B8142A8B-B287-4AAD-88FC-8150A3DE79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spectiv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ing the CSO challenge from both en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LTCP and WQ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benefit and cost-effectivene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shed approac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16BC2B6-158D-447F-A73E-56F359C5C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s Not Mentioned in CWA?</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Use attainability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xisting us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EPA regulatory “construc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made up out of whole cloth</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A9211A-D0AC-4748-91BF-B0F4D0EFEC33}" type="slidenum">
              <a:t>30</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70">
                                            <p:txEl>
                                              <p:pRg st="0" end="0"/>
                                            </p:txEl>
                                          </p:spTgt>
                                        </p:tgtEl>
                                        <p:attrNameLst>
                                          <p:attrName>style.visibility</p:attrName>
                                        </p:attrNameLst>
                                      </p:cBhvr>
                                      <p:to>
                                        <p:strVal val="visible"/>
                                      </p:to>
                                    </p:set>
                                    <p:anim calcmode="lin" valueType="num">
                                      <p:cBhvr additive="base">
                                        <p:cTn id="71"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70">
                                            <p:txEl>
                                              <p:pRg st="1" end="1"/>
                                            </p:txEl>
                                          </p:spTgt>
                                        </p:tgtEl>
                                        <p:attrNameLst>
                                          <p:attrName>style.visibility</p:attrName>
                                        </p:attrNameLst>
                                      </p:cBhvr>
                                      <p:to>
                                        <p:strVal val="visible"/>
                                      </p:to>
                                    </p:set>
                                    <p:anim calcmode="lin" valueType="num">
                                      <p:cBhvr additive="base">
                                        <p:cTn id="77"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0">
                                            <p:txEl>
                                              <p:pRg st="2" end="2"/>
                                            </p:txEl>
                                          </p:spTgt>
                                        </p:tgtEl>
                                        <p:attrNameLst>
                                          <p:attrName>style.visibility</p:attrName>
                                        </p:attrNameLst>
                                      </p:cBhvr>
                                      <p:to>
                                        <p:strVal val="visible"/>
                                      </p:to>
                                    </p:set>
                                    <p:anim calcmode="lin" valueType="num">
                                      <p:cBhvr additive="base">
                                        <p:cTn id="83"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70">
                                            <p:txEl>
                                              <p:pRg st="3" end="3"/>
                                            </p:txEl>
                                          </p:spTgt>
                                        </p:tgtEl>
                                        <p:attrNameLst>
                                          <p:attrName>style.visibility</p:attrName>
                                        </p:attrNameLst>
                                      </p:cBhvr>
                                      <p:to>
                                        <p:strVal val="visible"/>
                                      </p:to>
                                    </p:set>
                                    <p:anim calcmode="lin" valueType="num">
                                      <p:cBhvr additive="base">
                                        <p:cTn id="89"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rigins of the Code</a:t>
            </a: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use and UAA = antideg concep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designed to force us to mee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2-era aspirational designation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ah designated in just 3 days?</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QS because a few people swim</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man’s Cross Walk Analogy</a:t>
            </a: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bout antidegradati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E80A51-AB8B-4715-873A-69997D3E9A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Criteria – 131.10(g)</a:t>
            </a: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Naturally occurring pollutants</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Natural, ephemeral, intermittent or low flow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Human caused conditions or sources of pollution that cannot be remedied or would cause more environmental damage to correct than to leave in plac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15B9C4A-B609-4C02-A36F-73B8F37369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Criteria – 131.10(g)</a:t>
            </a: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ams, diversions or other types of hydrologic modification</a:t>
            </a:r>
            <a:endParaRPr b="0" lang="en-US" sz="3200" spc="-1" strike="noStrike">
              <a:solidFill>
                <a:srgbClr val="ffffff"/>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Physical conditions related to the natural features of the water body, such as the lack of a proper substrate, cover, flow, depth, pools, riffles, and the like, unrelated to water quality, preclude attainment of aquatic life protection uses; or</a:t>
            </a:r>
            <a:endParaRPr b="0" lang="en-US" sz="3200" spc="-1" strike="noStrike">
              <a:solidFill>
                <a:srgbClr val="ffffff"/>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8440" indent="-2984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Substantial and widespread economic and social impac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26D445-E83A-4A72-8FE9-AEA630124D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ree Key Criteria</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condi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reversible man-made impac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spread socio-economic impac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FA77267-188A-4DB4-A343-A0FE1FC00B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Process</a:t>
            </a: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under and over defin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PA Chart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do WQS refineme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riennial review,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lone WQS rule, or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other time (such as permit renewal or LTCP approval) with proper public noti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7F2ADC-64E3-4AE7-A365-3A56369B3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reshold regulatory issues and efforts to address them</a:t>
            </a:r>
            <a:endParaRPr b="0" lang="en-US" sz="4000" spc="-1" strike="noStrike">
              <a:solidFill>
                <a:srgbClr val="ffffff"/>
              </a:solidFill>
              <a:latin typeface="Arial"/>
            </a:endParaRPr>
          </a:p>
        </p:txBody>
      </p:sp>
      <p:sp>
        <p:nvSpPr>
          <p:cNvPr id="4" name="PlaceHolder 3"/>
          <p:cNvSpPr>
            <a:spLocks noGrp="1"/>
          </p:cNvSpPr>
          <p:nvPr>
            <p:ph type="sldNum" idx="3"/>
          </p:nvPr>
        </p:nvSpPr>
        <p:spPr/>
        <p:txBody>
          <a:bodyPr/>
          <a:p>
            <a:fld id="{9185460F-2C87-42DA-A5BE-28B5A0864C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Issues</a:t>
            </a: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Us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e area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eplacement 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ing Sc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 Protocol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A50C57-2266-47A8-B4CD-6A8622D8DB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isting Use</a:t>
            </a: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did not get through this meaningfully during the last workshop</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the big de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regulation says you can’t “remove” an existing us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767B6E-6232-4601-8BA9-14C94114DE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wo Problems</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hasn’t yet articulated clearly how we determine an existing us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means “swimming,” we will have to disinfect all CS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A710ECC-D808-4540-85C4-6531A892E8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About Uses</a:t>
            </a:r>
            <a:endParaRPr b="0" lang="en-US" sz="5400" spc="-1" strike="noStrike">
              <a:solidFill>
                <a:srgbClr val="ffffff"/>
              </a:solidFill>
              <a:latin typeface="Arial"/>
            </a:endParaRPr>
          </a:p>
        </p:txBody>
      </p:sp>
      <p:sp>
        <p:nvSpPr>
          <p:cNvPr id="4" name="PlaceHolder 3"/>
          <p:cNvSpPr>
            <a:spLocks noGrp="1"/>
          </p:cNvSpPr>
          <p:nvPr>
            <p:ph type="sldNum" idx="3"/>
          </p:nvPr>
        </p:nvSpPr>
        <p:spPr/>
        <p:txBody>
          <a:bodyPr/>
          <a:p>
            <a:fld id="{976279F1-D004-4EBF-99A4-835F7F4EB1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isting Uses</a:t>
            </a:r>
            <a:endParaRPr b="0" lang="en-US"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use “existing” when the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Q to support it has existed since Nov 1975 or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as “occurred” since that dat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latter, how much and when does it take?</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ANPRM calls the former the better view</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pornography, they say they will know it when they see i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B2E77B0-08E7-4DDA-BD60-30672CEA8A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Ways past existing use issue without doing any damage to your program or the regulator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67E70E7-25FD-4474-9F1F-89CD0F97BA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tion 1:  Subcategorize Rec Use</a:t>
            </a:r>
            <a:endParaRPr b="0" lang="en-US" sz="40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EPA’s Regulation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ineers love to</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yers hate it – we’d rather look at drawings (preferably of the crayola kin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s preclude “removing” an existing use BUT not subcategoriz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1E06594-45A0-40C8-8C36-54B681128D96}" type="slidenum">
              <a:t>42</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94">
                                            <p:txEl>
                                              <p:pRg st="0" end="0"/>
                                            </p:txEl>
                                          </p:spTgt>
                                        </p:tgtEl>
                                        <p:attrNameLst>
                                          <p:attrName>style.visibility</p:attrName>
                                        </p:attrNameLst>
                                      </p:cBhvr>
                                      <p:to>
                                        <p:strVal val="visible"/>
                                      </p:to>
                                    </p:set>
                                    <p:anim calcmode="lin" valueType="num">
                                      <p:cBhvr additive="base">
                                        <p:cTn id="97"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94">
                                            <p:txEl>
                                              <p:pRg st="1" end="1"/>
                                            </p:txEl>
                                          </p:spTgt>
                                        </p:tgtEl>
                                        <p:attrNameLst>
                                          <p:attrName>style.visibility</p:attrName>
                                        </p:attrNameLst>
                                      </p:cBhvr>
                                      <p:to>
                                        <p:strVal val="visible"/>
                                      </p:to>
                                    </p:set>
                                    <p:anim calcmode="lin" valueType="num">
                                      <p:cBhvr additive="base">
                                        <p:cTn id="103"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4">
                                            <p:txEl>
                                              <p:pRg st="2" end="2"/>
                                            </p:txEl>
                                          </p:spTgt>
                                        </p:tgtEl>
                                        <p:attrNameLst>
                                          <p:attrName>style.visibility</p:attrName>
                                        </p:attrNameLst>
                                      </p:cBhvr>
                                      <p:to>
                                        <p:strVal val="visible"/>
                                      </p:to>
                                    </p:set>
                                    <p:anim calcmode="lin" valueType="num">
                                      <p:cBhvr additive="base">
                                        <p:cTn id="10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4">
                                            <p:txEl>
                                              <p:pRg st="4" end="4"/>
                                            </p:txEl>
                                          </p:spTgt>
                                        </p:tgtEl>
                                        <p:attrNameLst>
                                          <p:attrName>style.visibility</p:attrName>
                                        </p:attrNameLst>
                                      </p:cBhvr>
                                      <p:to>
                                        <p:strVal val="visible"/>
                                      </p:to>
                                    </p:set>
                                    <p:anim calcmode="lin" valueType="num">
                                      <p:cBhvr additive="base">
                                        <p:cTn id="115" dur="500" fill="hold"/>
                                        <p:tgtEl>
                                          <p:spTgt spid="294">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tion 1: Subcategorize Rec Use</a:t>
            </a:r>
            <a:endParaRPr b="0" lang="en-US" sz="40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do UAAs to address residual CSO discharge days and remove swimming on those days as long as you are not removing so many days that it arises to a remova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llows us to avoid existing use complications for CSO and, hopefully, storm wat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1AD372-CA64-4613-91F0-EAE790F772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categorize</a:t>
            </a:r>
            <a:endParaRPr b="0" lang="en-US" sz="44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ives” nothing awa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ubcategorize, UAA will be requi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y move past an inappropriate and unnecessary step that is poorly understoo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PA won’t provide a workable solution to existing use, avoid the ste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7A7DD73-A819-4A4B-8333-755D7F6B0B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we Subcategorize</a:t>
            </a:r>
            <a:endParaRPr b="0" lang="en-US" sz="44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CFR 131.10(h) states that “states may not </a:t>
            </a:r>
            <a:r>
              <a:rPr b="0" lang="en-US" sz="3200" spc="-1" strike="noStrike" u="sng">
                <a:solidFill>
                  <a:srgbClr val="ffffff"/>
                </a:solidFill>
                <a:uFillTx/>
                <a:latin typeface="Arial"/>
              </a:rPr>
              <a:t>remove</a:t>
            </a:r>
            <a:r>
              <a:rPr b="0" lang="en-US" sz="3200" spc="-1" strike="noStrike">
                <a:solidFill>
                  <a:srgbClr val="ffffff"/>
                </a:solidFill>
                <a:latin typeface="Arial"/>
              </a:rPr>
              <a:t> designated uses if: They are existing 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its face, this regulation precludes only the </a:t>
            </a:r>
            <a:r>
              <a:rPr b="0" lang="en-US" sz="3200" spc="-1" strike="noStrike" u="sng">
                <a:solidFill>
                  <a:srgbClr val="ffffff"/>
                </a:solidFill>
                <a:uFillTx/>
                <a:latin typeface="Arial"/>
              </a:rPr>
              <a:t>removal</a:t>
            </a:r>
            <a:r>
              <a:rPr b="0" lang="en-US" sz="3200" spc="-1" strike="noStrike">
                <a:solidFill>
                  <a:srgbClr val="ffffff"/>
                </a:solidFill>
                <a:latin typeface="Arial"/>
              </a:rPr>
              <a:t> of a use and not the </a:t>
            </a:r>
            <a:r>
              <a:rPr b="0" lang="en-US" sz="3200" spc="-1" strike="noStrike" u="sng">
                <a:solidFill>
                  <a:srgbClr val="ffffff"/>
                </a:solidFill>
                <a:uFillTx/>
                <a:latin typeface="Arial"/>
              </a:rPr>
              <a:t>subcategorization</a:t>
            </a:r>
            <a:r>
              <a:rPr b="0" lang="en-US" sz="3200" spc="-1" strike="noStrike">
                <a:solidFill>
                  <a:srgbClr val="ffffff"/>
                </a:solidFill>
                <a:latin typeface="Arial"/>
              </a:rPr>
              <a:t> of a u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DFCC10-70F3-4474-977C-EF61E79E71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categorize</a:t>
            </a:r>
            <a:endParaRPr b="0" lang="en-US" sz="4400" spc="-1" strike="noStrike">
              <a:solidFill>
                <a:srgbClr val="ccec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arts of EPA’s regulations – including this very section - distinguish between removal and subcategorization.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e.g., 40 CFR Part 131.10(j)(2) which requires UAA for removal and subcategoriz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 knew how to restrict both and did not apply the existing use prohibition to subcategoriz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9E6CD64-64F7-4F4E-8115-D6EC8ED4C5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categories</a:t>
            </a: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potential exampl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ing whole body contact recreation to the </a:t>
            </a:r>
            <a:r>
              <a:rPr b="0" lang="en-US" sz="2400" spc="-1" strike="noStrike" u="sng">
                <a:solidFill>
                  <a:srgbClr val="ffffff"/>
                </a:solidFill>
                <a:uFillTx/>
                <a:latin typeface="Arial"/>
              </a:rPr>
              <a:t>swimming seaso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categorizing during certain </a:t>
            </a:r>
            <a:r>
              <a:rPr b="0" lang="en-US" sz="2400" spc="-1" strike="noStrike" u="sng">
                <a:solidFill>
                  <a:srgbClr val="ffffff"/>
                </a:solidFill>
                <a:uFillTx/>
                <a:latin typeface="Arial"/>
              </a:rPr>
              <a:t>wet weather periods</a:t>
            </a:r>
            <a:r>
              <a:rPr b="0" lang="en-US" sz="2400" spc="-1" strike="noStrike">
                <a:solidFill>
                  <a:srgbClr val="ffffff"/>
                </a:solidFill>
                <a:latin typeface="Arial"/>
              </a:rPr>
              <a:t> as supporting recreation other than whole body contac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SO and later Storm water (tougher)</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categorizing whole body contact as not occurring during </a:t>
            </a:r>
            <a:r>
              <a:rPr b="0" lang="en-US" sz="2400" spc="-1" strike="noStrike" u="sng">
                <a:solidFill>
                  <a:srgbClr val="ffffff"/>
                </a:solidFill>
                <a:uFillTx/>
                <a:latin typeface="Arial"/>
              </a:rPr>
              <a:t>certain low flow</a:t>
            </a:r>
            <a:r>
              <a:rPr b="0" lang="en-US" sz="2400" spc="-1" strike="noStrike">
                <a:solidFill>
                  <a:srgbClr val="ffffff"/>
                </a:solidFill>
                <a:latin typeface="Arial"/>
              </a:rPr>
              <a:t> events (i.e., 7Q10) and </a:t>
            </a:r>
            <a:r>
              <a:rPr b="0" lang="en-US" sz="2400" spc="-1" strike="noStrike" u="sng">
                <a:solidFill>
                  <a:srgbClr val="ffffff"/>
                </a:solidFill>
                <a:uFillTx/>
                <a:latin typeface="Arial"/>
              </a:rPr>
              <a:t>high flow events</a:t>
            </a:r>
            <a:r>
              <a:rPr b="0" lang="en-US" sz="2400" spc="-1" strike="noStrike">
                <a:solidFill>
                  <a:srgbClr val="ffffff"/>
                </a:solidFill>
                <a:latin typeface="Arial"/>
              </a:rPr>
              <a:t> (where swimming restrictions are imposed due to safety reason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67A2CC7-3DF2-49D3-8CB9-AAF9315749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makes sense</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gets to apply “swimming” to almost every water body while reserving the ability to subcategorize as necessa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ly desirable for many at agenci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ct/fair reading of the regul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71F6968-ABA6-434D-81E7-89BB6D8F78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makes sense</a:t>
            </a:r>
            <a:endParaRPr b="0" lang="en-US" sz="4400" spc="-1" strike="noStrike">
              <a:solidFill>
                <a:srgbClr val="ccecff"/>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tailoring/subcategorization when the use really has not (or should not occur) for </a:t>
            </a:r>
            <a:r>
              <a:rPr b="0" lang="en-US" sz="2400" spc="-1" strike="noStrike" u="sng">
                <a:solidFill>
                  <a:srgbClr val="ffffff"/>
                </a:solidFill>
                <a:uFillTx/>
                <a:latin typeface="Arial"/>
              </a:rPr>
              <a:t>public health</a:t>
            </a:r>
            <a:r>
              <a:rPr b="0" lang="en-US" sz="2400" spc="-1" strike="noStrike">
                <a:solidFill>
                  <a:srgbClr val="ffffff"/>
                </a:solidFill>
                <a:latin typeface="Arial"/>
              </a:rPr>
              <a:t> reas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ains </a:t>
            </a:r>
            <a:r>
              <a:rPr b="0" lang="en-US" sz="2400" spc="-1" strike="noStrike" u="sng">
                <a:solidFill>
                  <a:srgbClr val="ffffff"/>
                </a:solidFill>
                <a:uFillTx/>
                <a:latin typeface="Arial"/>
              </a:rPr>
              <a:t>absolute control</a:t>
            </a:r>
            <a:r>
              <a:rPr b="0" lang="en-US" sz="2400" spc="-1" strike="noStrike">
                <a:solidFill>
                  <a:srgbClr val="ffffff"/>
                </a:solidFill>
                <a:latin typeface="Arial"/>
              </a:rPr>
              <a:t> for the agencies because any subcategorization would have to be supported by a UA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this issue off the table for CSO LTCP and will allow us to </a:t>
            </a:r>
            <a:r>
              <a:rPr b="0" lang="en-US" sz="2400" spc="-1" strike="noStrike" u="sng">
                <a:solidFill>
                  <a:srgbClr val="ffffff"/>
                </a:solidFill>
                <a:uFillTx/>
                <a:latin typeface="Arial"/>
              </a:rPr>
              <a:t>accelerate the implementation of CSO controls</a:t>
            </a:r>
            <a:r>
              <a:rPr b="0" lang="en-US" sz="2400" spc="-1" strike="noStrike">
                <a:solidFill>
                  <a:srgbClr val="ffffff"/>
                </a:solidFill>
                <a:latin typeface="Arial"/>
              </a:rPr>
              <a:t> by getting right to UAAs regarding designated uses, as necessar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B09FECC-F1EB-426E-A35F-9730ED0AF2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W </a:t>
            </a:r>
            <a:r>
              <a:rPr b="0" lang="en-US" sz="4000" spc="-1" strike="noStrike" u="sng">
                <a:solidFill>
                  <a:srgbClr val="ccecff"/>
                </a:solidFill>
                <a:uFillTx/>
                <a:latin typeface="Arial"/>
              </a:rPr>
              <a:t>uses</a:t>
            </a:r>
            <a:r>
              <a:rPr b="0" lang="en-US" sz="4000" spc="-1" strike="noStrike">
                <a:solidFill>
                  <a:srgbClr val="ccecff"/>
                </a:solidFill>
                <a:latin typeface="Arial"/>
              </a:rPr>
              <a:t>, not WQS, are the issue</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lnSpc>
                <a:spcPct val="90000"/>
              </a:lnSpc>
              <a:spcBef>
                <a:spcPts val="11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y vary by community</a:t>
            </a:r>
            <a:endParaRPr b="0" lang="en-US" sz="44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graphic location</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ave surfer dudes</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am Access</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locity</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wnership/Access</a:t>
            </a:r>
            <a:endParaRPr b="0" lang="en-US" sz="3200" spc="-1" strike="noStrike">
              <a:solidFill>
                <a:srgbClr val="ffffff"/>
              </a:solidFill>
              <a:latin typeface="Arial"/>
            </a:endParaRPr>
          </a:p>
          <a:p>
            <a:pPr lvl="2" marL="1409760" indent="-495360">
              <a:lnSpc>
                <a:spcPct val="90000"/>
              </a:lnSpc>
              <a:spcBef>
                <a:spcPts val="7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regulation of us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82552A-159E-4DAA-B303-EF9BFCDAC5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this makes sense</a:t>
            </a:r>
            <a:endParaRPr b="0" lang="en-US" sz="44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a:t>
            </a:r>
            <a:r>
              <a:rPr b="0" lang="en-US" sz="3200" spc="-1" strike="noStrike" u="sng">
                <a:solidFill>
                  <a:srgbClr val="ffffff"/>
                </a:solidFill>
                <a:uFillTx/>
                <a:latin typeface="Arial"/>
              </a:rPr>
              <a:t>process that the CSO Policy contemplate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other option is for States to adopt partial uses by defining when primary contact recreation such as swimming does not exist, such as during certain seasons of the year in northern climates </a:t>
            </a:r>
            <a:r>
              <a:rPr b="0" lang="en-US" sz="2800" spc="-1" strike="noStrike" u="sng">
                <a:solidFill>
                  <a:srgbClr val="ffffff"/>
                </a:solidFill>
                <a:uFillTx/>
                <a:latin typeface="Arial"/>
              </a:rPr>
              <a:t>or during a particular type of storm event</a:t>
            </a:r>
            <a:r>
              <a:rPr b="0" lang="en-US" sz="2800" spc="-1" strike="noStrike">
                <a:solidFill>
                  <a:srgbClr val="ffffff"/>
                </a:solidFill>
                <a:latin typeface="Arial"/>
              </a:rPr>
              <a:t>.”   Sec. III.B</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D96EE08-AED4-414A-92E4-138C9C2FD2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isting Use Option 2</a:t>
            </a:r>
            <a:endParaRPr b="0" lang="en-US" sz="4400" spc="-1" strike="noStrike">
              <a:solidFill>
                <a:srgbClr val="ccecff"/>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WBC existing use wherever there is more than infrequent and limited swimming occurring in a water bod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gency expressly reserves the right to determine when a discharge does or does not interfere with such a us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9927D46-B88A-4F40-93A7-1D15EA50ED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2</a:t>
            </a: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er than limited and infrequent swimming has occurred</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y has co-existed with CSO discharges to the River</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A should reserve the option of determining that a high level of CSO control (say 90% capture or more) coupled with public notice about when and where residual CSOs occur does not interfere with the swimming use for River X.</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is the reality.  People don’t swim in the big storm events and in almost all cases they should not even if they wanted to.  Public notice program helps those who might swim to identify less treacherous conditions and wat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331AA96-43CE-4450-9939-49948EFAC5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a:t>
            </a:r>
            <a:endParaRPr b="0" lang="en-US" sz="4400" spc="-1" strike="noStrike">
              <a:solidFill>
                <a:srgbClr val="ccecff"/>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use based on when and where the </a:t>
            </a:r>
            <a:r>
              <a:rPr b="0" lang="en-US" sz="2800" spc="-1" strike="noStrike" u="sng">
                <a:solidFill>
                  <a:srgbClr val="ffffff"/>
                </a:solidFill>
                <a:uFillTx/>
                <a:latin typeface="Arial"/>
              </a:rPr>
              <a:t>water quality has been attained</a:t>
            </a:r>
            <a:r>
              <a:rPr b="0" lang="en-US" sz="2800" spc="-1" strike="noStrike">
                <a:solidFill>
                  <a:srgbClr val="ffffff"/>
                </a:solidFill>
                <a:latin typeface="Arial"/>
              </a:rPr>
              <a:t> in the water body in ques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Health criteria are </a:t>
            </a:r>
            <a:r>
              <a:rPr b="0" lang="en-US" sz="2800" spc="-1" strike="noStrike" u="sng">
                <a:solidFill>
                  <a:srgbClr val="ffffff"/>
                </a:solidFill>
                <a:uFillTx/>
                <a:latin typeface="Arial"/>
              </a:rPr>
              <a:t>conclusiv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quality approach targets public health and in no way limits EPA/States’ ability to specify WBC as the designated us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B19888-AE69-4025-B759-45406CE2E3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 (con’t)</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t>
            </a:r>
            <a:r>
              <a:rPr b="0" lang="en-US" sz="3200" spc="-1" strike="noStrike" u="sng">
                <a:solidFill>
                  <a:srgbClr val="ffffff"/>
                </a:solidFill>
                <a:uFillTx/>
                <a:latin typeface="Arial"/>
              </a:rPr>
              <a:t>rebuttable presumption</a:t>
            </a:r>
            <a:r>
              <a:rPr b="0" lang="en-US" sz="3200" spc="-1" strike="noStrike">
                <a:solidFill>
                  <a:srgbClr val="ffffff"/>
                </a:solidFill>
                <a:latin typeface="Arial"/>
              </a:rPr>
              <a:t> for aquatic lif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out are present even though temperature WQS is not met, it is an existing use under this op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39A5EF-18B0-4508-9354-7EAC4CC368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tion 3</a:t>
            </a: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ctive of public heal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s EPA to their bacteria criter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A6430BB-DD38-40F9-A356-6EB84C67DE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Existing Use</a:t>
            </a:r>
            <a:endParaRPr b="0" lang="en-US" sz="4400" spc="-1" strike="noStrike">
              <a:solidFill>
                <a:srgbClr val="ccec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ption 1</a:t>
            </a:r>
            <a:r>
              <a:rPr b="0" lang="en-US" sz="3200" spc="-1" strike="noStrike">
                <a:solidFill>
                  <a:srgbClr val="ffffff"/>
                </a:solidFill>
                <a:latin typeface="Arial"/>
              </a:rPr>
              <a:t>: Subcategorize</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long as your residuals fit within easy subcategory, don’t spend any time on EU</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ption 2</a:t>
            </a:r>
            <a:r>
              <a:rPr b="0" lang="en-US" sz="3200" spc="-1" strike="noStrike">
                <a:solidFill>
                  <a:srgbClr val="ffffff"/>
                </a:solidFill>
                <a:latin typeface="Arial"/>
              </a:rPr>
              <a:t>: Where more than infrequent use, give on EU as long as agency expressly reserves the right to interpret that residuals are not interferin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ption 3</a:t>
            </a:r>
            <a:r>
              <a:rPr b="0" lang="en-US" sz="3200" spc="-1" strike="noStrike">
                <a:solidFill>
                  <a:srgbClr val="ffffff"/>
                </a:solidFill>
                <a:latin typeface="Arial"/>
              </a:rPr>
              <a:t>:  swimming only where WQ attained; this works for CSO; maybe SW</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67E70ED-5D61-4696-840D-CD6385B73C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ensitive Areas</a:t>
            </a: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44ABC99D-3A5F-4C8D-959D-091977135C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e Areas</a:t>
            </a:r>
            <a:endParaRPr b="0" lang="en-US" sz="4400" spc="-1" strike="noStrike">
              <a:solidFill>
                <a:srgbClr val="ccec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ocate/eliminate if physically possible and economically achievabl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t treat to give full protection to existing and designated use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refine designated uses during CSO events to something other than primary contact recreat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0ABB5C4-CCBA-4052-92A1-4BA5ED1A02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e Areas</a:t>
            </a: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ntak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hing beaches (like here in Chicag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ing are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mp;E species (mayb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ontact re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3313BD-C30B-4F37-B71D-3F232D36F9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ublic understands uses, not WQS</a:t>
            </a:r>
            <a:endParaRPr b="0" lang="en-US" sz="3600" spc="-1" strike="noStrike">
              <a:solidFill>
                <a:srgbClr val="ffffff"/>
              </a:solidFill>
              <a:latin typeface="Arial"/>
            </a:endParaRPr>
          </a:p>
          <a:p>
            <a:pPr marL="660240" indent="-660240">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levels of analysis/approach</a:t>
            </a:r>
            <a:endParaRPr b="0" lang="en-US" sz="3600" spc="-1" strike="noStrike">
              <a:solidFill>
                <a:srgbClr val="ffffff"/>
              </a:solidFill>
              <a:latin typeface="Arial"/>
            </a:endParaRPr>
          </a:p>
          <a:p>
            <a:pPr lvl="1" marL="1035000" indent="-57780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y with WQS (i.e., geometric mean for bacteria)</a:t>
            </a:r>
            <a:endParaRPr b="0" lang="en-US" sz="2400" spc="-1" strike="noStrike">
              <a:solidFill>
                <a:srgbClr val="ffffff"/>
              </a:solidFill>
              <a:latin typeface="Arial"/>
            </a:endParaRPr>
          </a:p>
          <a:p>
            <a:pPr lvl="1" marL="1035000" indent="-57780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get WQS and focus on whether public health is protected</a:t>
            </a:r>
            <a:endParaRPr b="0" lang="en-US" sz="2400" spc="-1" strike="noStrike">
              <a:solidFill>
                <a:srgbClr val="ffffff"/>
              </a:solidFill>
              <a:latin typeface="Arial"/>
            </a:endParaRPr>
          </a:p>
          <a:p>
            <a:pPr lvl="1" marL="1035000" indent="-57780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WQS, but also make sure public health is protected</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BE759F4-B09D-4A1B-945E-96E0DD3952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e Areas</a:t>
            </a:r>
            <a:endParaRPr b="0" lang="en-US" sz="4400" spc="-1" strike="noStrike">
              <a:solidFill>
                <a:srgbClr val="ccecff"/>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 does not make sense when all CSO receiving waters are used similarly for recrea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verything is a priority, nothing i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s for discharges to sensitive areas might expect more scrutin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8D4985-0259-480D-8DAB-5E890088C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vironmental Justice</a:t>
            </a:r>
            <a:endParaRPr b="0" lang="en-US" sz="4400" spc="-1" strike="noStrike">
              <a:solidFill>
                <a:srgbClr val="ccecff"/>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l Justic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ving are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special attention during LTCP plannin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AAs for residual CSO discharges in potential EJ areas may also receive additional atten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2C32AA-26F8-4C64-8A0D-554B9CB249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tics, Politics, Politics</a:t>
            </a:r>
            <a:endParaRPr b="0" lang="en-US" sz="4400" spc="-1" strike="noStrike">
              <a:solidFill>
                <a:srgbClr val="ccecff"/>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ing the right story and sticking it to i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ting buy-in from regulator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stakeholder and citizen inpu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ubcategory do we establish?</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ban Stream/Wat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O wate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restricted use wat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D98A5B-3590-4632-B146-8D58DF7F24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UAA Slide</a:t>
            </a:r>
            <a:endParaRPr b="0" lang="en-US" sz="4400" spc="-1" strike="noStrike">
              <a:solidFill>
                <a:srgbClr val="ccecff"/>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ding Scale for UAA’s based up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e of the water in ques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 support/opposi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learly one or more UAA criteria are me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pe of the UAA request</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4, 6, 12 overflows a year</a:t>
            </a: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community consideration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32A296D-F003-436A-8838-D13BE17B60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AA Protocols</a:t>
            </a:r>
            <a:endParaRPr b="0" lang="en-US" sz="4400" spc="-1" strike="noStrike">
              <a:solidFill>
                <a:srgbClr val="ccecff"/>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with protocols do more UA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risk if the protocol is not fairly set up</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enough exercises where you are destined to fail (no SSO’s anyon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blessed with cooperative regulators, protocol can provide critical momentum</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col can also help provide some certainty as to outcome and acceptance of outcom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12C1B8C-8B75-4621-9771-9C9B51CE42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 glimpse at the Process</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 name="PlaceHolder 3"/>
          <p:cNvSpPr>
            <a:spLocks noGrp="1"/>
          </p:cNvSpPr>
          <p:nvPr>
            <p:ph type="sldNum" idx="3"/>
          </p:nvPr>
        </p:nvSpPr>
        <p:spPr/>
        <p:txBody>
          <a:bodyPr/>
          <a:p>
            <a:fld id="{9165A472-F12D-4EAC-BC5F-D8C2562165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line of Process</a:t>
            </a:r>
            <a:endParaRPr b="0" lang="en-US" sz="4400" spc="-1" strike="noStrike">
              <a:solidFill>
                <a:srgbClr val="ccecff"/>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driver or maybe it finds you (TMD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ivate allies (the storm water folks, especially highway depart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formal work pl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k agency funding to maximize “buy-i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E5F77B3-8C66-4B5C-A517-254954855F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utline of Process</a:t>
            </a:r>
            <a:endParaRPr b="0" lang="en-US" sz="4400" spc="-1" strike="noStrike">
              <a:solidFill>
                <a:srgbClr val="ccecff"/>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stakeholder participation pla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review group</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best when given narrow scop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your story and stick to i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don’t get a reasonable resul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go back to Congres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A57B6B6-4F4C-4DCA-9FFA-5DF4C118DA51}"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WA Sec. 101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atic life and recreation goal for all water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ly referred to as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fishable/swimmabl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0EF3E98-6C62-45E9-A511-F79421E0AF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72 Act required states to designate uses for all wat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understood the significance and did a reasonably good job</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addressed certain waters and left others unclassifie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s made political “fishable/swimmable” designations for all water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Utah took only 3 day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93ED62B-4AD8-4A7A-AE1F-CC55802CB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bout Uses</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states contemplated wet weather issues</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later adopted wet weather provisions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flow: DC, Kansas, D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ly influenced by wet weather runoff: MO</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 approved this language for several triennial review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recently EPA has rejected i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E3B0617-6E47-41E6-8DC3-F2D33F6357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4-10-22T03:12:02Z</dcterms:modified>
  <cp:revision>25</cp:revision>
  <dc:subject/>
  <dc:title>PowerPoint Presentation</dc:title>
</cp:coreProperties>
</file>