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3A17-25C9-49FD-BC98-9BA5BF30D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911F-8C8F-4F35-9121-2BCEF34C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9346-C36E-4E32-954C-70134B0EC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87B9-4983-4AC3-A564-D36E21F8B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F50E-BB30-4D30-BDB8-A4998E0F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DD4A-9DAD-4594-8A8C-21702437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2BAC-9D5E-4804-878D-58835160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3C46-50D0-4295-ACD5-A579F392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7A3E-6221-4BC0-9B72-6C245FBF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5607-4D8B-4902-91C3-C27BC71F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46FF-803F-42E3-A346-B80B3882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E478-8CA4-4BBC-BAA0-C08A20FA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89C1-48A9-4BFE-91BB-38DA0C28A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rvey Responses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x of Positives and Nega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57200" y="1600200"/>
          <a:ext cx="4048200" cy="21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4048200" cy="21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460440" y="3940200"/>
          <a:ext cx="4032360" cy="21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0440" y="3940200"/>
                    <a:ext cx="403236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4659480" y="3938760"/>
          <a:ext cx="4014720" cy="2187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59480" y="3938760"/>
                    <a:ext cx="401472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rvey Responses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x of Positives and Nega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600200"/>
          <a:ext cx="4048200" cy="21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4048200" cy="21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460440" y="3940200"/>
          <a:ext cx="4032360" cy="21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0440" y="3940200"/>
                    <a:ext cx="403236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659480" y="3938760"/>
          <a:ext cx="4014720" cy="2187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59480" y="3938760"/>
                    <a:ext cx="401472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rvey Responses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adequacy of EPA Guid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2209680"/>
          <a:ext cx="6324840" cy="34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209680"/>
                    <a:ext cx="632484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18:41:23Z</dcterms:created>
  <dc:creator>Jeff Rexhausen</dc:creator>
  <dc:description/>
  <dc:language>en-US</dc:language>
  <cp:lastModifiedBy>rexjw</cp:lastModifiedBy>
  <dcterms:modified xsi:type="dcterms:W3CDTF">2007-04-25T18:48:33Z</dcterms:modified>
  <cp:revision>7</cp:revision>
  <dc:subject/>
  <dc:title>Survey Responses</dc:title>
</cp:coreProperties>
</file>