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CAF-B1C5-416A-8AE1-51076725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0D0-880B-48AA-B550-5B7C65C1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F26-F9D1-401E-B476-9A8D671A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104-AD06-417E-AEA8-7074FD63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9BF-71C2-4D39-982C-74535D4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82C-97AA-44E9-8B91-DA89DBE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532-CB77-4D22-875E-0280852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657-5D95-42B1-93FE-331F008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6B0-740A-45AB-A4FF-62C45AD4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6E9-1346-45F5-A17E-F061A88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89B-CB46-4CE9-83B0-A4410CD1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FFE-796F-494D-82C6-B0DF4BF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99B-2B12-46C1-9422-4597C357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 of Positives and 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40482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482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60440" y="3940200"/>
          <a:ext cx="403236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40200"/>
                    <a:ext cx="4032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659480" y="3938760"/>
          <a:ext cx="401472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9480" y="3938760"/>
                    <a:ext cx="4014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 of Positives and 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40482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482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60440" y="3940200"/>
          <a:ext cx="403236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40200"/>
                    <a:ext cx="40323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59480" y="3938760"/>
          <a:ext cx="401472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59480" y="3938760"/>
                    <a:ext cx="4014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vey Respon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adequacy of EPA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3880" y="2209680"/>
          <a:ext cx="632484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3248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8:41:23Z</dcterms:created>
  <dc:creator>Jeff Rexhausen</dc:creator>
  <dc:description/>
  <dc:language>en-US</dc:language>
  <cp:lastModifiedBy>rexjw</cp:lastModifiedBy>
  <dcterms:modified xsi:type="dcterms:W3CDTF">2007-04-25T18:48:33Z</dcterms:modified>
  <cp:revision>7</cp:revision>
  <dc:subject/>
  <dc:title>Survey Responses</dc:title>
</cp:coreProperties>
</file>