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EE1C-2783-495B-93CB-BFC5CB75F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6632-6E0E-493E-8A11-9B91DAB9C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43D3-9D6B-4BBC-A1C4-4220AED0D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50C0-E36E-4C30-8D17-9D441F8E0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0D95-D83E-4B1C-94C3-C7D9E687D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8426-6BB0-40AA-9025-D052FBA6B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92F9-ACCD-4D81-AED6-E009A4B37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7E4B-3CC1-4C8D-9F86-4B5382242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26F0-D828-40A7-87DE-F5CF4E803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3990-0B98-4448-9B75-D8B79AFE2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1A06-660D-42AE-8734-A15EC3109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5C0B-F5AC-4AD3-ADC3-3E4E23DDC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490A-9575-4802-B083-64821E634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1004-95B0-4C5F-AC03-A8FFBD931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7503-1C8F-4CDC-AB55-31EB9B01B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F5DC1-64B7-474C-890F-14B53ADCC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15AD-BFBF-4583-8E57-322C70D5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5BDE-255F-4F6C-BF08-B6F1A18B1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A65D9-EE53-4A6A-81D8-F20C506C2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6A9A0-A943-4DC1-A234-0DAE44E85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B9D92-E887-4A8F-9AF5-A6358DC3C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0490E-1B81-4270-A91F-28A48A6DE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FDFC0-1388-4B1F-8CAC-2493EB98D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C5656-5F93-480B-A33A-C67B56684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FE14F-1962-43A9-9164-43126BA9A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31E0E-912A-4AB7-BC7F-774907A39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6D25F-A031-4911-9A10-E6DC07B4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79AC-C5E9-46B5-BFEC-E7427E557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5524-ABA4-4B44-9646-B1D7BB1F9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30E8C-29D5-4B6B-ACB1-C360BBDDD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234F2-629C-411D-95F3-9953BF775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13138-285B-464E-B006-67C660B7A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7A49-8749-4338-A246-C89FCE656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70EC1-29D1-4DC1-AB54-14B991185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6059C-3E04-4F20-AE54-8D84AA87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E523A-B1DC-4A85-840F-D8D076D2D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9780-A782-4D37-A57C-AB0D323A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22B6-67B2-4ACE-ADFF-78B3A959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5B69-A152-4E90-AAE3-FB8563F22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2D04-C4ED-4800-8BE3-B94D607DA87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C9C5-A9EB-4AD9-916C-CEBCD7C9E5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gov/legislative/register/20061220-IR-327060573FNA.xml.pdf" TargetMode="External"/><Relationship Id="rId3" Type="http://schemas.openxmlformats.org/officeDocument/2006/relationships/hyperlink" Target="http://www.in.gov/legislative/register/20061220-IR-327060573FNA.xml.pdf" TargetMode="External"/><Relationship Id="rId4" Type="http://schemas.openxmlformats.org/officeDocument/2006/relationships/hyperlink" Target="http://www.in.gov/legislative/register/20061220-IR-327060573FNA.xml.pdf" TargetMode="External"/><Relationship Id="rId5" Type="http://schemas.openxmlformats.org/officeDocument/2006/relationships/hyperlink" Target="http://www.in.gov/legislative/register/20061220-IR-327060573FNA.xml.pdf"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rcRect l="12188" t="3200" r="13125" b="4267"/>
          <a:stretch/>
        </p:blipFill>
        <p:spPr>
          <a:xfrm>
            <a:off x="1436760" y="7920"/>
            <a:ext cx="6259320" cy="681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e Criteria Scientifically Valid?</a:t>
            </a:r>
            <a:endParaRPr b="0" lang="en-US" sz="5000" spc="-1" strike="noStrike">
              <a:solidFill>
                <a:srgbClr val="04617b"/>
              </a:solidFill>
              <a:latin typeface="Calibri"/>
            </a:endParaRPr>
          </a:p>
        </p:txBody>
      </p:sp>
      <p:sp>
        <p:nvSpPr>
          <p:cNvPr id="120"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gorous disagreement between states and EPA over technical merit.</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lly unprecedented State opposition to a new EPA WQS in the past 15 years</a:t>
            </a:r>
            <a:endParaRPr b="0" lang="en-US" sz="24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ademic community, public health community and research community are split as well.</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idemiology studies are few and inconsistent about which indicators are be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e the Criteria Valid?</a:t>
            </a:r>
            <a:endParaRPr b="0" lang="en-US" sz="5000" spc="-1" strike="noStrike">
              <a:solidFill>
                <a:srgbClr val="04617b"/>
              </a:solidFill>
              <a:latin typeface="Calibri"/>
            </a:endParaRPr>
          </a:p>
        </p:txBody>
      </p:sp>
      <p:sp>
        <p:nvSpPr>
          <p:cNvPr id="12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Beach states very upset (on written record)</a:t>
            </a:r>
            <a:endParaRPr b="0" lang="en-US" sz="3000" spc="-1" strike="noStrike">
              <a:solidFill>
                <a:srgbClr val="000000"/>
              </a:solidFill>
              <a:latin typeface="Constantia"/>
            </a:endParaRPr>
          </a:p>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lorida; California; Maryland</a:t>
            </a:r>
            <a:endParaRPr b="0" lang="en-US" sz="3000" spc="-1" strike="noStrike">
              <a:solidFill>
                <a:srgbClr val="000000"/>
              </a:solidFill>
              <a:latin typeface="Constantia"/>
            </a:endParaRPr>
          </a:p>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Do not want to close beaches based on one sample</a:t>
            </a:r>
            <a:endParaRPr b="0" lang="en-US" sz="3000" spc="-1" strike="noStrike">
              <a:solidFill>
                <a:srgbClr val="000000"/>
              </a:solidFill>
              <a:latin typeface="Constantia"/>
            </a:endParaRPr>
          </a:p>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rf zone yields occasional hits for no reason</a:t>
            </a:r>
            <a:endParaRPr b="0" lang="en-US" sz="30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all tied up on thi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ometric mean and SSM values inherently inconsistent (addressed below)</a:t>
            </a:r>
            <a:endParaRPr b="0" lang="en-US" sz="24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e Criteria Scientifically Valid?</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ach Act (Congress) forces EPA to lean on beach/coastal recreation waters (incl. Great Lakes) states to adop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05 EPA promulgates criteria for those states which did not promulgate on their ow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concerns persist but EPA agrees to develop implementation guidance to address concerns and provide state flexibil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 Backing off of State Adoption</a:t>
            </a:r>
            <a:endParaRPr b="0" lang="en-US" sz="4400" spc="-1" strike="noStrike">
              <a:solidFill>
                <a:srgbClr val="04617b"/>
              </a:solidFill>
              <a:latin typeface="Calibri"/>
            </a:endParaRPr>
          </a:p>
        </p:txBody>
      </p:sp>
      <p:sp>
        <p:nvSpPr>
          <p:cNvPr id="1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finalized implementation guidance in 200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has initiated new bacterial criteria stud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ndency of new criteria – including moving away from indicator organisms to actual pathogens – has caused EPA to relax earlier demands that all states adopt the 1986 criter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new criteria emerge in the pipeline, states may not have to adopt the 1986 criteria; otherwise EPA will push for adoption as an interim measu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bout Level of Illness Prote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Level of Protection – Swimmer Illness</a:t>
            </a:r>
            <a:endParaRPr b="0" lang="en-US" sz="4000" spc="-1" strike="noStrike">
              <a:solidFill>
                <a:srgbClr val="04617b"/>
              </a:solidFill>
              <a:latin typeface="Calibri"/>
            </a:endParaRPr>
          </a:p>
        </p:txBody>
      </p:sp>
      <p:sp>
        <p:nvSpPr>
          <p:cNvPr id="1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eria include range of monthly geometric mean values based upon State views on acceptable number of swimmer illnes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Guidance gives states greater discretion in setting levels of swimmer illness prote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the SSM Values be Adopted and Us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nded Use of the SSM Value</a:t>
            </a:r>
            <a:endParaRPr b="0" lang="en-US" sz="5000" spc="-1" strike="noStrike">
              <a:solidFill>
                <a:srgbClr val="04617b"/>
              </a:solidFill>
              <a:latin typeface="Calibri"/>
            </a:endParaRPr>
          </a:p>
        </p:txBody>
      </p:sp>
      <p:sp>
        <p:nvSpPr>
          <p:cNvPr id="1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F]or making beach notification and closure decision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ach managers may only have one samp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s New (1986) Bacteria Criteria</a:t>
            </a:r>
            <a:endParaRPr b="0" lang="en-US" sz="4400" spc="-1" strike="noStrike">
              <a:solidFill>
                <a:srgbClr val="04617b"/>
              </a:solidFill>
              <a:latin typeface="Calibri"/>
            </a:endParaRPr>
          </a:p>
        </p:txBody>
      </p:sp>
      <p:sp>
        <p:nvSpPr>
          <p:cNvPr id="1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ce used to develop the Geo Me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SM merely a statistical constr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the SSMs were not designed to provide any more protection of health than provided by the geometric mean criter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986 Criteria</a:t>
            </a:r>
            <a:endParaRPr b="0" lang="en-US" sz="5000" spc="-1" strike="noStrike">
              <a:solidFill>
                <a:srgbClr val="04617b"/>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sing SSM value as a daily maximum NPDES permit limit is an approac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the Agency had </a:t>
            </a:r>
            <a:r>
              <a:rPr b="0" lang="en-US" sz="2600" spc="-1" strike="noStrike" u="sng">
                <a:solidFill>
                  <a:srgbClr val="000000"/>
                </a:solidFill>
                <a:uFillTx/>
                <a:latin typeface="Constantia"/>
              </a:rPr>
              <a:t>not</a:t>
            </a:r>
            <a:r>
              <a:rPr b="0" lang="en-US" sz="2600" spc="-1" strike="noStrike">
                <a:solidFill>
                  <a:srgbClr val="000000"/>
                </a:solidFill>
                <a:latin typeface="Constantia"/>
              </a:rPr>
              <a:t> envisioned when it published the 1986 bacteria criteria documen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755640" y="1292400"/>
            <a:ext cx="7864560" cy="4254480"/>
          </a:xfrm>
          <a:prstGeom prst="rect">
            <a:avLst/>
          </a:prstGeom>
          <a:ln w="0">
            <a:noFill/>
          </a:ln>
        </p:spPr>
      </p:pic>
      <p:sp>
        <p:nvSpPr>
          <p:cNvPr id="104" name="PlaceHolder 1"/>
          <p:cNvSpPr>
            <a:spLocks noGrp="1"/>
          </p:cNvSpPr>
          <p:nvPr>
            <p:ph type="subTitle"/>
          </p:nvPr>
        </p:nvSpPr>
        <p:spPr>
          <a:xfrm>
            <a:off x="533160" y="3228480"/>
            <a:ext cx="7854840" cy="17528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986 Criteria</a:t>
            </a:r>
            <a:endParaRPr b="0" lang="en-US" sz="5000" spc="-1" strike="noStrike">
              <a:solidFill>
                <a:srgbClr val="04617b"/>
              </a:solidFill>
              <a:latin typeface="Calibri"/>
            </a:endParaRPr>
          </a:p>
        </p:txBody>
      </p:sp>
      <p:sp>
        <p:nvSpPr>
          <p:cNvPr id="1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tates decide to impose weekly/daily max limits, they should be calculated in accordance with EPA’s TSD for Water Quality-Based Toxics Contro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don’t copy SSM as a daily maximum value; instead a proper daily limit must “be based on 30-day average conditions and an understanding of effluent variability.”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st States simply copied EPA’s criteria and adopted BOTH the Monthly geometric mean and the single sample maximum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st did not include implementation language in the regul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4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addressed implemen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said the SSM would only be used for Beach notification purposes (D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s said both would be us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s said the Geometric mean would be used unless fewer than five samples were collected in which case the SSM must be m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s followed fecal and allowed a percent of monitoring results to exceed the SS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s addressed implementation in Guidance or simply through the permi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the Criteria</a:t>
            </a:r>
            <a:endParaRPr b="0" lang="en-US" sz="5000" spc="-1" strike="noStrike">
              <a:solidFill>
                <a:srgbClr val="04617b"/>
              </a:solidFill>
              <a:latin typeface="Calibri"/>
            </a:endParaRPr>
          </a:p>
        </p:txBody>
      </p:sp>
      <p:sp>
        <p:nvSpPr>
          <p:cNvPr id="1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k to adopt both Geomean and SS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imperative to include implementation languag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st approach is to use GEO MEAN ONLY for NPDES purpos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rrative criteria remain to fill any gaps in level of control that State agencies may feel exist in a particular case using the Geometric mean on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good advice for all future EPA bacteria crite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Implications for CSO/Storm water</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SM Does Not Work for CSO/Stormwater</a:t>
            </a:r>
            <a:endParaRPr b="0" lang="en-US" sz="36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mittent wet weather discharges are not consistent with “never-to-exceed”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SO Policy is not consistent with never-to-exceed bacteria valu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der the presumptive approach criter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irment decisions should not be based on one samp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cal standard included 10% allowanc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s Struggling with SSM</a:t>
            </a:r>
            <a:endParaRPr b="0" lang="en-US" sz="5000" spc="-1" strike="noStrike">
              <a:solidFill>
                <a:srgbClr val="04617b"/>
              </a:solidFill>
              <a:latin typeface="Calibri"/>
            </a:endParaRPr>
          </a:p>
        </p:txBody>
      </p:sp>
      <p:sp>
        <p:nvSpPr>
          <p:cNvPr id="1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ana adopted e.coli early on and has implemented the SSM as a daily maximum in NPDES permit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has led to numerous permit appeal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lso uses the SSM for making ambient impairment decis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has led to impaired waters listings for bacteria that are overbro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Changing its Approach</a:t>
            </a:r>
            <a:endParaRPr b="0" lang="en-US" sz="5000" spc="-1" strike="noStrike">
              <a:solidFill>
                <a:srgbClr val="04617b"/>
              </a:solidFill>
              <a:latin typeface="Calibri"/>
            </a:endParaRPr>
          </a:p>
        </p:txBody>
      </p:sp>
      <p:sp>
        <p:nvSpPr>
          <p:cNvPr id="15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in.</a:t>
            </a:r>
            <a:r>
              <a:rPr b="0" lang="en-US" sz="2600" spc="-1" strike="noStrike" u="sng">
                <a:solidFill>
                  <a:srgbClr val="e2d700"/>
                </a:solidFill>
                <a:uFillTx/>
                <a:latin typeface="Constantia"/>
                <a:hlinkClick r:id="rId3"/>
              </a:rPr>
              <a:t>gov</a:t>
            </a:r>
            <a:r>
              <a:rPr b="0" lang="en-US" sz="2600" spc="-1" strike="noStrike" u="sng">
                <a:solidFill>
                  <a:srgbClr val="e2d700"/>
                </a:solidFill>
                <a:uFillTx/>
                <a:latin typeface="Constantia"/>
                <a:hlinkClick r:id="rId4"/>
              </a:rPr>
              <a:t>/legislative/register/20061220-IR-327060573FNA.xml.</a:t>
            </a:r>
            <a:r>
              <a:rPr b="0" lang="en-US" sz="2600" spc="-1" strike="noStrike" u="sng">
                <a:solidFill>
                  <a:srgbClr val="e2d700"/>
                </a:solidFill>
                <a:uFillTx/>
                <a:latin typeface="Constantia"/>
                <a:hlinkClick r:id="rId5"/>
              </a:rPr>
              <a:t>pdf</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fically, IDEM notes in its proposed Rul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For a variety of reasons, many NPDES permits are appealed due to the expected inability to meet the single sample maximum limits for e.col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Bacteria Standards and Implications for</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SO/Storm Water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MDLs for Wet Weather Receiving Wa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Changing its Approach</a:t>
            </a:r>
            <a:endParaRPr b="0" lang="en-US" sz="5000" spc="-1" strike="noStrike">
              <a:solidFill>
                <a:srgbClr val="04617b"/>
              </a:solidFill>
              <a:latin typeface="Calibri"/>
            </a:endParaRPr>
          </a:p>
        </p:txBody>
      </p:sp>
      <p:sp>
        <p:nvSpPr>
          <p:cNvPr id="1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Due to the nature and limitations of bacterial sampling and analysis, </a:t>
            </a:r>
            <a:r>
              <a:rPr b="0" lang="en-US" sz="2600" spc="-1" strike="noStrike" u="sng">
                <a:solidFill>
                  <a:srgbClr val="000000"/>
                </a:solidFill>
                <a:uFillTx/>
                <a:latin typeface="Constantia"/>
              </a:rPr>
              <a:t>it is not possible for operators of wastewater treatment facilities to ensure compliance with a single sample maximum at all times</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T]he testing methods may produce </a:t>
            </a:r>
            <a:r>
              <a:rPr b="0" lang="en-US" sz="2600" spc="-1" strike="noStrike" u="sng">
                <a:solidFill>
                  <a:srgbClr val="000000"/>
                </a:solidFill>
                <a:uFillTx/>
                <a:latin typeface="Constantia"/>
              </a:rPr>
              <a:t>falsely high values </a:t>
            </a:r>
            <a:r>
              <a:rPr b="0" lang="en-US" sz="2600" spc="-1" strike="noStrike">
                <a:solidFill>
                  <a:srgbClr val="000000"/>
                </a:solidFill>
                <a:latin typeface="Constantia"/>
              </a:rPr>
              <a:t>that could place facilities in noncompliance even when the wastewater treatment plant is being operated proper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M]ost states determine a wastewater facility’s NPDES permit compliance based upon the geometric mean of a minimum number of effluent samples, 7-day averages of samples or by excluding a percent of the data due to testing method variability.  Each of these approaches allows wastewater treatment operators to function within acceptable and protective permit parameters without being subject to noncompliance </a:t>
            </a:r>
            <a:r>
              <a:rPr b="0" lang="en-US" sz="2600" spc="-1" strike="noStrike" u="sng">
                <a:solidFill>
                  <a:srgbClr val="000000"/>
                </a:solidFill>
                <a:uFillTx/>
                <a:latin typeface="Constantia"/>
              </a:rPr>
              <a:t>due to the variability inherent in E. coli testing results</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6"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F]ederal guidance related to bacterial water quality criteria does not require or support the use of a single sample maximum for determining compliance with NPDES permits….”</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Specifically, the rulemaking will address compliance with the E. coli limits from wastewater effluent.  Sample variability as well as the lack of precision of the current test method </a:t>
            </a:r>
            <a:r>
              <a:rPr b="0" lang="en-US" sz="2600" spc="-1" strike="noStrike" u="sng">
                <a:solidFill>
                  <a:srgbClr val="000000"/>
                </a:solidFill>
                <a:uFillTx/>
                <a:latin typeface="Constantia"/>
              </a:rPr>
              <a:t>can make meeting the [daily maximum] limit difficul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M is likely to allow a percent excursion of the daily max value (i.e., no more than 20 percent can exceed….) or a weekly average for e.col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plications for CSO/Storm Water</a:t>
            </a:r>
            <a:endParaRPr b="0" lang="en-US" sz="4400" spc="-1" strike="noStrike">
              <a:solidFill>
                <a:srgbClr val="04617b"/>
              </a:solidFill>
              <a:latin typeface="Calibri"/>
            </a:endParaRPr>
          </a:p>
        </p:txBody>
      </p:sp>
      <p:sp>
        <p:nvSpPr>
          <p:cNvPr id="17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sure SSM is not applicable for NPDES purpose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SM is applicable, this will force numerous standards revision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e to CSO/Storm water</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ural backgroun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wise, TMDLs will not be attainabl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geometric mean plus narratives will MINIMIZE WQS revisions while still yielding high level of CSO contr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MDL Issues for Wet Weather Discharge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PA TMDL Requirements</a:t>
            </a:r>
            <a:endParaRPr b="0" lang="en-US" sz="5000" spc="-1" strike="noStrike">
              <a:solidFill>
                <a:srgbClr val="04617b"/>
              </a:solidFill>
              <a:latin typeface="Calibri"/>
            </a:endParaRPr>
          </a:p>
        </p:txBody>
      </p:sp>
      <p:sp>
        <p:nvSpPr>
          <p:cNvPr id="17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WA says EPA must develop TMDLs for all pollutants </a:t>
            </a:r>
            <a:r>
              <a:rPr b="0" lang="en-US" sz="2600" spc="-1" strike="noStrike" u="sng">
                <a:solidFill>
                  <a:srgbClr val="000000"/>
                </a:solidFill>
                <a:uFillTx/>
                <a:latin typeface="Constantia"/>
              </a:rPr>
              <a:t>suitable</a:t>
            </a:r>
            <a:r>
              <a:rPr b="0" lang="en-US" sz="2600" spc="-1" strike="noStrike">
                <a:solidFill>
                  <a:srgbClr val="000000"/>
                </a:solidFill>
                <a:latin typeface="Constantia"/>
              </a:rPr>
              <a:t> for daily load calculation</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required to publish list of suitable pollutants</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never di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77 EPA was sued in DC District Court; ordered to publish the li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PA Said the Following</a:t>
            </a:r>
            <a:endParaRPr b="0" lang="en-US" sz="5000" spc="-1" strike="noStrike">
              <a:solidFill>
                <a:srgbClr val="04617b"/>
              </a:solidFill>
              <a:latin typeface="Calibri"/>
            </a:endParaRPr>
          </a:p>
        </p:txBody>
      </p:sp>
      <p:sp>
        <p:nvSpPr>
          <p:cNvPr id="176" name=""/>
          <p:cNvSpPr txBox="1"/>
          <p:nvPr/>
        </p:nvSpPr>
        <p:spPr>
          <a:xfrm>
            <a:off x="457200" y="1934640"/>
            <a:ext cx="8229600" cy="4389480"/>
          </a:xfrm>
          <a:prstGeom prst="rect">
            <a:avLst/>
          </a:prstGeom>
          <a:noFill/>
          <a:ln w="0">
            <a:noFill/>
          </a:ln>
        </p:spPr>
        <p:txBody>
          <a:bodyPr anchor="t">
            <a:normAutofit/>
          </a:bodyPr>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u="sng">
                <a:solidFill>
                  <a:srgbClr val="000000"/>
                </a:solidFill>
                <a:uFillTx/>
                <a:latin typeface="Constantia"/>
              </a:rPr>
              <a:t>all</a:t>
            </a:r>
            <a:r>
              <a:rPr b="0" lang="en-US" sz="3200" spc="-1" strike="noStrike">
                <a:solidFill>
                  <a:srgbClr val="000000"/>
                </a:solidFill>
                <a:latin typeface="Constantia"/>
              </a:rPr>
              <a:t> pollutants, </a:t>
            </a:r>
            <a:r>
              <a:rPr b="0" lang="en-US" sz="3200" spc="-1" strike="noStrike" u="sng">
                <a:solidFill>
                  <a:srgbClr val="000000"/>
                </a:solidFill>
                <a:uFillTx/>
                <a:latin typeface="Constantia"/>
              </a:rPr>
              <a:t>under the proper</a:t>
            </a: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technical conditions</a:t>
            </a:r>
            <a:r>
              <a:rPr b="0" lang="en-US" sz="3200" spc="-1" strike="noStrike">
                <a:solidFill>
                  <a:srgbClr val="000000"/>
                </a:solidFill>
                <a:latin typeface="Constantia"/>
              </a:rPr>
              <a:t>, are suitable for the</a:t>
            </a: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lculation of total maximum daily</a:t>
            </a: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oads."  </a:t>
            </a:r>
            <a:endParaRPr b="0" lang="en-US" sz="32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43 Fed. Reg. At 60,665  197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regs reserve to EPA opportunity to make case-by-case determination of suitability for daily loa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akes perfect sense given variability of pollutants, receiving waters and sour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refuses to embrace this argu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Bacteria Criteria</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River TMDL Appeal</a:t>
            </a:r>
            <a:endParaRPr b="0" lang="en-US" sz="5000" spc="-1" strike="noStrike">
              <a:solidFill>
                <a:srgbClr val="04617b"/>
              </a:solidFill>
              <a:latin typeface="Calibri"/>
            </a:endParaRPr>
          </a:p>
        </p:txBody>
      </p:sp>
      <p:sp>
        <p:nvSpPr>
          <p:cNvPr id="180"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rly challenges to non-daily TMDLs resulted in Courts saying “daily” does not mean “daily”</a:t>
            </a:r>
            <a:endParaRPr b="0" lang="en-US" sz="2600" spc="-1" strike="noStrike">
              <a:solidFill>
                <a:srgbClr val="000000"/>
              </a:solidFill>
              <a:latin typeface="Constantia"/>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C Court of Appeals:</a:t>
            </a:r>
            <a:endParaRPr b="0" lang="en-US" sz="2600" spc="-1" strike="noStrike">
              <a:solidFill>
                <a:srgbClr val="000000"/>
              </a:solidFill>
              <a:latin typeface="Constantia"/>
            </a:endParaRPr>
          </a:p>
          <a:p>
            <a:pPr lvl="1" marL="990720" indent="-533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90720" indent="-533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jects annual/seasonal TMDL for Anacostia</a:t>
            </a:r>
            <a:endParaRPr b="0" lang="en-US" sz="2400" spc="-1" strike="noStrike">
              <a:solidFill>
                <a:srgbClr val="000000"/>
              </a:solidFill>
              <a:latin typeface="Constantia"/>
            </a:endParaRPr>
          </a:p>
          <a:p>
            <a:pPr lvl="2" marL="1371600" indent="-457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t>
            </a:r>
            <a:r>
              <a:rPr b="0" lang="en-US" sz="2100" spc="-1" strike="noStrike">
                <a:solidFill>
                  <a:srgbClr val="000000"/>
                </a:solidFill>
                <a:latin typeface="Constantia"/>
              </a:rPr>
              <a:t>Daily” in TMDL in CWA means “daily”</a:t>
            </a:r>
            <a:endParaRPr b="0" lang="en-US" sz="2100" spc="-1" strike="noStrike">
              <a:solidFill>
                <a:srgbClr val="000000"/>
              </a:solidFill>
              <a:latin typeface="Constantia"/>
            </a:endParaRPr>
          </a:p>
          <a:p>
            <a:pPr lvl="2" marL="1371600" indent="-457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e “daily bread” – Cite (incorrectly) to God</a:t>
            </a:r>
            <a:endParaRPr b="0" lang="en-US" sz="2100" spc="-1" strike="noStrike">
              <a:solidFill>
                <a:srgbClr val="000000"/>
              </a:solidFill>
              <a:latin typeface="Constantia"/>
            </a:endParaRPr>
          </a:p>
          <a:p>
            <a:pPr lvl="2" marL="1371600" indent="-457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aily Dr. Rounds</a:t>
            </a:r>
            <a:endParaRPr b="0" lang="en-US" sz="2100" spc="-1" strike="noStrike">
              <a:solidFill>
                <a:srgbClr val="000000"/>
              </a:solidFill>
              <a:latin typeface="Constantia"/>
            </a:endParaRPr>
          </a:p>
          <a:p>
            <a:pPr lvl="1" marL="990720" indent="-533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River TMDL</a:t>
            </a:r>
            <a:endParaRPr b="0" lang="en-US" sz="5000" spc="-1" strike="noStrike">
              <a:solidFill>
                <a:srgbClr val="04617b"/>
              </a:solidFill>
              <a:latin typeface="Calibri"/>
            </a:endParaRPr>
          </a:p>
        </p:txBody>
      </p:sp>
      <p:sp>
        <p:nvSpPr>
          <p:cNvPr id="182" name=""/>
          <p:cNvSpPr txBox="1"/>
          <p:nvPr/>
        </p:nvSpPr>
        <p:spPr>
          <a:xfrm>
            <a:off x="457200" y="1934640"/>
            <a:ext cx="8229600" cy="4389480"/>
          </a:xfrm>
          <a:prstGeom prst="rect">
            <a:avLst/>
          </a:prstGeom>
          <a:noFill/>
          <a:ln w="0">
            <a:noFill/>
          </a:ln>
        </p:spPr>
        <p:txBody>
          <a:bodyPr anchor="t">
            <a:normAutofit fontScale="97000"/>
          </a:bodyPr>
          <a:p>
            <a:pPr lvl="1" marL="960840" indent="-5173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rt wrote that EPA found that </a:t>
            </a:r>
            <a:endParaRPr b="0" lang="en-US" sz="2400" spc="-1" strike="noStrike">
              <a:solidFill>
                <a:srgbClr val="000000"/>
              </a:solidFill>
              <a:latin typeface="Constantia"/>
            </a:endParaRPr>
          </a:p>
          <a:p>
            <a:pPr lvl="1" marL="960840" indent="-5173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60840" indent="-5173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all pollutants … are suitable for TMDL development” </a:t>
            </a: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rt held  that CWA requires daily loads unless EPA revises regs to say pollutants not suitable</a:t>
            </a: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w clerk wanted to get to CWA issue of “daily”</a:t>
            </a: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rt should have decided whether the proper conditions existed or remanded for such a determination</a:t>
            </a:r>
            <a:endParaRPr b="0" lang="en-US" sz="2400" spc="-1" strike="noStrike">
              <a:solidFill>
                <a:srgbClr val="000000"/>
              </a:solidFill>
              <a:latin typeface="Constantia"/>
            </a:endParaRPr>
          </a:p>
          <a:p>
            <a:pPr lvl="2" marL="1330200" indent="-44316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Daily” Matters</a:t>
            </a:r>
            <a:endParaRPr b="0" lang="en-US" sz="5000" spc="-1" strike="noStrike">
              <a:solidFill>
                <a:srgbClr val="04617b"/>
              </a:solidFill>
              <a:latin typeface="Calibri"/>
            </a:endParaRPr>
          </a:p>
        </p:txBody>
      </p:sp>
      <p:sp>
        <p:nvSpPr>
          <p:cNvPr id="1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ical for CS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orm wa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TW flexibil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utrients (Ches Ba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B: Charleston fecal annual load TMD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TMDL</a:t>
            </a:r>
            <a:endParaRPr b="0" lang="en-US" sz="5000" spc="-1" strike="noStrike">
              <a:solidFill>
                <a:srgbClr val="04617b"/>
              </a:solidFill>
              <a:latin typeface="Calibri"/>
            </a:endParaRPr>
          </a:p>
        </p:txBody>
      </p:sp>
      <p:sp>
        <p:nvSpPr>
          <p:cNvPr id="18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response:</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conce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will issue guidance that says develop all TMDLs showing DAILY load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t then ignore them for permitting purposes in favor of other frequencies (such as annual)</a:t>
            </a: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C WASA files for certiorari before the U.S. Supreme Cour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TMDL</a:t>
            </a:r>
            <a:endParaRPr b="0" lang="en-US" sz="5000" spc="-1" strike="noStrike">
              <a:solidFill>
                <a:srgbClr val="04617b"/>
              </a:solidFill>
              <a:latin typeface="Calibri"/>
            </a:endParaRPr>
          </a:p>
        </p:txBody>
      </p:sp>
      <p:sp>
        <p:nvSpPr>
          <p:cNvPr id="1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t Weather Partnership and NACWA file amicus brief in suppo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rt declines to review the c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we all miss something along the w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PA Should not Abandon Flexibility to Find Technical Conditions Lacking</a:t>
            </a:r>
            <a:endParaRPr b="0" lang="en-US" sz="3600" spc="-1" strike="noStrike">
              <a:solidFill>
                <a:srgbClr val="04617b"/>
              </a:solidFill>
              <a:latin typeface="Calibri"/>
            </a:endParaRPr>
          </a:p>
        </p:txBody>
      </p:sp>
      <p:sp>
        <p:nvSpPr>
          <p:cNvPr id="1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 should have been about whether EPA determination that technical conditions were lacking for daily loads was arbitrary and capriciou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favorable standard for EP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have been a winner for EP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uld not have reached question of whether “daily” means “dai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WP/NACWA meeting with EPA (Grumbles et al) March 16 to pressure EPA to revise guidance to allow case-by-case finding that annual loads are not suitabl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amita: </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1978 Rule (Under proper conditions)  – “Brillia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staff:  words are “meaningles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staff do not want discretion to avoid daily loads</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PA usually loves discretion (see bears and honey)</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beating around the bush, EPA staff are concerned they can’t do TMLs if they say pollutants are not suitable in particular waters/situation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cussion with Grumbles that this is not the case</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did wasteload allocations for multiple dischargers long before TMDL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can do TMDLs for non-impaired wa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don’t  have non-point source authority so what’s the big deal the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ither EPA finds a way to do non-daily TMLs or POTWs will likely petition to remove PCBs, Nutrients, bacteria from TMDL progra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gardless of ultimate EPA HQ approach, CSO communities and your state NPDES permit agencies should fully memorialize the lack of technical suitability in any TMDL which is not suitable for daily loa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sure the TMDL cites to the 1978 regul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ich was cited by the DC Court of Appeals in its decis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is remains GOOD LAW</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will provide a separate legal basis for implementing non-daily </a:t>
            </a:r>
            <a:r>
              <a:rPr b="0" lang="en-US" sz="2600" spc="-1" strike="noStrike" u="sng">
                <a:solidFill>
                  <a:srgbClr val="000000"/>
                </a:solidFill>
                <a:uFillTx/>
                <a:latin typeface="Constantia"/>
              </a:rPr>
              <a:t>permit</a:t>
            </a:r>
            <a:r>
              <a:rPr b="0" lang="en-US" sz="2600" spc="-1" strike="noStrike">
                <a:solidFill>
                  <a:srgbClr val="000000"/>
                </a:solidFill>
                <a:latin typeface="Constantia"/>
              </a:rPr>
              <a:t> requirement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stent with EPA 1986 guidance about non-daily TMD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WP/NACWA approach prevents legal limbo for prior non-daily TMDL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reasons they were done on a non-daily basi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affect many of your communities, POTWs and CSO discharg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956 Fecal Coliform</a:t>
            </a:r>
            <a:endParaRPr b="0" lang="en-US" sz="5000" spc="-1" strike="noStrike">
              <a:solidFill>
                <a:srgbClr val="04617b"/>
              </a:solidFill>
              <a:latin typeface="Calibri"/>
            </a:endParaRPr>
          </a:p>
        </p:txBody>
      </p:sp>
      <p:sp>
        <p:nvSpPr>
          <p:cNvPr id="1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thly average of 200 counts with no more than 10 percent of all samples over 40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tates implemented as a geometric mean/monthly average on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states monthly/weekly (200/40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ew monthly/daily max</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ation issues all vetted after 50 years of u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s New (1986) Bacteria Criteria</a:t>
            </a:r>
            <a:endParaRPr b="0" lang="en-US" sz="4400" spc="-1" strike="noStrike">
              <a:solidFill>
                <a:srgbClr val="04617b"/>
              </a:solidFill>
              <a:latin typeface="Calibri"/>
            </a:endParaRPr>
          </a:p>
        </p:txBody>
      </p:sp>
      <p:sp>
        <p:nvSpPr>
          <p:cNvPr id="1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fecal coliform is a poor indicator of health risk – EPA found NEGATIVE correlation between fecal levels and swimmer illnes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7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EPA’s 1986 criteria</a:t>
            </a:r>
            <a:endParaRPr b="0" lang="en-US" sz="2900" spc="-1" strike="noStrike">
              <a:solidFill>
                <a:srgbClr val="000000"/>
              </a:solidFill>
              <a:latin typeface="Constantia"/>
            </a:endParaRPr>
          </a:p>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Replaces 1956 fecal coliform criteria</a:t>
            </a:r>
            <a:endParaRPr b="0" lang="en-US" sz="2700" spc="-1" strike="noStrike">
              <a:solidFill>
                <a:srgbClr val="000000"/>
              </a:solidFill>
              <a:latin typeface="Constantia"/>
            </a:endParaRPr>
          </a:p>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ntero &amp; E.coli found to be better  indicators of illness</a:t>
            </a:r>
            <a:endParaRPr b="0" lang="en-US" sz="2700" spc="-1" strike="noStrike">
              <a:solidFill>
                <a:srgbClr val="000000"/>
              </a:solidFill>
              <a:latin typeface="Constantia"/>
            </a:endParaRPr>
          </a:p>
          <a:p>
            <a:pPr lvl="2" marL="914400" indent="-246240">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s New (1986) Bacteria Criteria</a:t>
            </a:r>
            <a:endParaRPr b="0" lang="en-US" sz="4400" spc="-1" strike="noStrike">
              <a:solidFill>
                <a:srgbClr val="04617b"/>
              </a:solidFill>
              <a:latin typeface="Calibri"/>
            </a:endParaRPr>
          </a:p>
        </p:txBody>
      </p:sp>
      <p:sp>
        <p:nvSpPr>
          <p:cNvPr id="114" name=""/>
          <p:cNvSpPr txBox="1"/>
          <p:nvPr/>
        </p:nvSpPr>
        <p:spPr>
          <a:xfrm>
            <a:off x="457200" y="1934640"/>
            <a:ext cx="8229600" cy="4389480"/>
          </a:xfrm>
          <a:prstGeom prst="rect">
            <a:avLst/>
          </a:prstGeom>
          <a:noFill/>
          <a:ln w="0">
            <a:noFill/>
          </a:ln>
        </p:spPr>
        <p:txBody>
          <a:bodyPr anchor="t">
            <a:normAutofit/>
          </a:bodyPr>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1986 Criteria:</a:t>
            </a:r>
            <a:endParaRPr b="0" lang="en-US" sz="27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ometric  mean (recreational season) and</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ngle sample maximum/upper percentile value</a:t>
            </a:r>
            <a:endParaRPr b="0" lang="en-US" sz="2400" spc="-1" strike="noStrike">
              <a:solidFill>
                <a:srgbClr val="000000"/>
              </a:solidFill>
              <a:latin typeface="Constantia"/>
            </a:endParaRPr>
          </a:p>
          <a:p>
            <a:pPr lvl="3" marL="1187280" indent="-209520">
              <a:spcBef>
                <a:spcPts val="675"/>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nterococcus (ex: 35 geomean; 104 SSM)</a:t>
            </a:r>
            <a:endParaRPr b="0" lang="en-US" sz="2700" spc="-1" strike="noStrike">
              <a:solidFill>
                <a:srgbClr val="000000"/>
              </a:solidFill>
              <a:latin typeface="Constantia"/>
            </a:endParaRPr>
          </a:p>
          <a:p>
            <a:pPr lvl="3" marL="1187280" indent="-209520">
              <a:spcBef>
                <a:spcPts val="675"/>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 Coli (125 geomean 235 SSM)</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ey Implementation Issues</a:t>
            </a:r>
            <a:endParaRPr b="0" lang="en-US" sz="5000" spc="-1" strike="noStrike">
              <a:solidFill>
                <a:srgbClr val="04617b"/>
              </a:solidFill>
              <a:latin typeface="Calibri"/>
            </a:endParaRPr>
          </a:p>
        </p:txBody>
      </p:sp>
      <p:sp>
        <p:nvSpPr>
          <p:cNvPr id="1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criteria scientifically valid?</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adoption of the criteria required for all stat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of protection in terms of swimmer illnes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ded Use of the Single Sample Maximum valu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ications for CSO/Storm Water Contr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EPA’s Criteria Vali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1:17:02Z</dcterms:created>
  <dc:creator>Paul Calamita</dc:creator>
  <dc:description/>
  <dc:language>en-US</dc:language>
  <cp:lastModifiedBy>mmorel</cp:lastModifiedBy>
  <dcterms:modified xsi:type="dcterms:W3CDTF">2007-04-24T17:21:49Z</dcterms:modified>
  <cp:revision>27</cp:revision>
  <dc:subject/>
  <dc:title>EPA/POTW Meeting April 4, 2007  New Castle County, DE</dc:title>
</cp:coreProperties>
</file>