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6B7BEB-87E0-4D2B-8170-FA289D43F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CAF928-8E5D-4731-B31B-6EE9FD70E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6E158D-C771-4E2E-B28A-F11470AB3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430602-A438-4C80-9186-42EFD36E2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F2A51-3EC0-4857-97E3-461A6B8E9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078AF-C033-423D-A4B8-388264571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6475C-9C3F-475C-875E-3DED2C260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1E1B2-D3B2-4074-868E-8E2B45191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606A2-F239-40BC-97CB-6ECC650D8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70A9D-0B10-4768-8992-58B213D79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AEBF5-3B55-4D9A-9C27-0A5C47F12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6ECD31-99A4-4A17-A395-746704AB8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BC13E-44BF-44BF-8254-536B1C450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F04F7-980B-4302-A646-E2113B1C5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D4F15-764E-4C96-819B-12DBFF5DD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0F39E-F493-40F1-9BD7-7F5C86125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DD051-8B49-43F6-80C2-76147F9C0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61A2E2-68CE-450D-B2B7-D3CF70C2D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DF34E3-0CF2-4037-94C8-554BE214D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3A3B9A-A127-41E1-9BF7-8052CD449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745505-7506-4E68-B1CC-762382986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2FE1F3-FF70-4E73-8F25-1A4FE5A4D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2D0760-B650-40F3-96E5-281DCBFC4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363B0F-707C-4447-AEBE-4A5446011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67482-5486-447F-9786-E0DA50D9285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D42E3-1A41-4523-AE98-9CB3B8BAF02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2296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SO ENFORCEMENT ISSUES</a:t>
            </a:r>
            <a:br>
              <a:rPr sz="2800"/>
            </a:br>
            <a:br>
              <a:rPr sz="19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T WEATHER PARTNERSHIP AND NATIONAL ASSOCIATION OF CLEAN WATER AGENCIES MEETING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4495680"/>
            <a:ext cx="82296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K POLLI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ATER ENFORCEMENT DIVI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FFICE OF CIVIL ENFORC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.S. E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RIL 27, 200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ederal-State Relationshi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PA regions and authorized states have Performance Partnership Agreements and other agreements governing  how CWA violations will be address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se include workshare agreement dividing the CSO/SSO caseloa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ions and states are encouraged to incorporate the CSO/SSO guidelines in their enforcement agre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Guidelin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emorandum encourages regions and state to engage in full communication and coordination to define state and federal enforcement roles in CSO/SSO cas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ECA’s Role in CSO 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PA’s Office of Enforcement and Compliance Assurance is the point of contact for enforcement actions against CSO commun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ECA applies EPA policy and guidance (including the 1994 CSO Policy) on a case-by-case basis in its enforcement ac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ECA coordinates with the Office of Water, as appropriate, on issues that arise in enforcement actions to ensure consistency with EPA policy and guid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ECA applies the 1995 Clean Water Act Penalty Policy.  Penalties are assessed under a separate table for municipaliti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ECA may waive the penalty under circumstances specified in the CSO Polic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O Significant Noncompli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PA’s 1986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PDES Enforcement Management Syste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which contains Significant Noncompliance criteria) pre-dates EPA’s 1994 CSO Policy.  Therefore, EPA’s current SNC criteria do not address CSO viol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embe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05:  EPA started a workgroup with states to develop an addendum to the existing SNC policy for “wet weather” violations (including CSOs and SSO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CSOs, the goal is to develop appropriate, comprehensive, and clear criteria to prioritize CSO violators in accordance with the 1994 CSO Polic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O Significant Noncompli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NC Policy is being closely coordinated with a project to modernize the Permit Compliance System to ensure that SNC systems are tracked appropriate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s are providing input on the SNC Policy through the workgroup started in EPA in 2005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keholder may submit informal comments expressing their view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O Significant Noncompli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CE received extensive written comments from National Association of Clean Water Agencies (NACWA) and Water Environment Federation (WEF) in Nov/Dec. 2006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mments are considered as we work to issue a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terim WW SNC Polic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r a pilot peri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een Infra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ECA supportive of work by OW, NACWA and NRD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-hosted round table discussion with OW this Apri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ll continue to seek Green infrastructure as part of settlement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ackground:  CSO Enforcement Prior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bined sewer overflows (CSOs)/sanitary sewer overflows (SSOs) were redesignated a national enforcement priority for 2005-2007 and the subsequent three year cyc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SOs/SSOs have been designated a national enforcement priority since 199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PA’s national priorities were selected based on three criteri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gnificant environmental benef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ttern of noncompli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ropriate EPA responsi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ackground:  CSO Enforcement Prior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the priority-setting process, OECA  hosted a meeting of HQ, regions, states, tribes and state associations to discuss the 16 candidate priorit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icipants received detailed descriptions of potential priorities, participated in facilitated discussions of candidates and were requested to rank their choice of priorit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O Priority Strate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rimary goal of the CSO Priority Strategy is to ensure tha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5% of all permitted CSOs either have completed an evaluation which determined that they did not need to develop a Long Term Control Plan (LTCP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are under an enforceable schedule to develop and implement an LTCP which ultimately will result in compliance with the Clean Water Act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have taken actions which will result in sewer sepa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O Priority Strate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tional goals includ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rgeting 90% of federal enforcement actions at CSOs in priority watershed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luating 100% of CSO outfalls within 1 mile of drinking water intak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moting compliance assistance for 90% of systems serving less than 10,000 persons without an LTCP or pending enforcement a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Background:  Reason for Enforcemen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deral enforcement targeting for authorized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st egregious viola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ilure to achieve compliance despite prior enforc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rgest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stly and complex injunctive relie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there is significant public inter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states request EPA involv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EPA is the NPDES autho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ederal-State Relationshi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der the CWA, EPA may authorize states to administer the NPDES progra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tes with authorized permit programs have the lead in the day-to-day administration of these program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majority of water enforcement cases (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ncluding hundreds of CSO and SSO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ses), authorized states in fact take the lead in responding to viola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nce 1987, states have taken approximately 750 administrative actions and 5 civil judicial actions against municipalities for SSO violations, and 75 administrative actions and 15 judicial actions for CSO violations. (2004 Report to Congress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PA retains concurrent authority under Section 402(i) of the CWA to take enforcement ac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ederal-State Relationshi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PA and ECOS developed the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Guidelines for Federal Enforcement in CSO/SSO Cas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April 10, 2005) (Guidelines) to clarify EPA’s role in CSO/SSO cas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te participants included Ohio, Indiana, and Pennsylvani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Guidelin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emorandum sets forth circumstances where it may be appropriate for EPA to take action to address CSO violations.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hese are not limited to cases where a state fails to take timely and appropriate action – they also include cases with multi-state impac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king action to address multi-state impacts ensures consistent and fair treatment of municipal violators in the same watersh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:  Ohio River (Hamilton County, OH; Louisville, KY; Covington, KY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ederal-State Relationshi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goal of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Guidelin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o set the stage for early, open, and ongoing communication between EPA and states addressing CSO/SSO iss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Guidelin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emorandum is intended to enhance the federal-state partnership that has been a central aspect of CSO/SSO enforce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es were co-plaintiffs in nearly 70% of federal CSO and SSO judicial cases since 1994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3T13:26:57Z</dcterms:created>
  <dc:creator> </dc:creator>
  <dc:description/>
  <dc:language>en-US</dc:language>
  <cp:lastModifiedBy>mmorel</cp:lastModifiedBy>
  <dcterms:modified xsi:type="dcterms:W3CDTF">2007-04-27T14:20:26Z</dcterms:modified>
  <cp:revision>9</cp:revision>
  <dc:subject/>
  <dc:title>CSO ENFORCEMENT ISSUES  WET WEATHER PARTNERSHIP AND NATIONAL ASSOCIATION OF CLEAN WATER AGENCIES, MEETING </dc:title>
</cp:coreProperties>
</file>