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A04E-85D4-47C9-9A75-F40E272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CFC0-E9FA-4032-AA69-CDBC3D4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9F00-A6A1-43A8-B008-CD295068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4D23-7C91-4FF0-A627-C534C7BE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9925-2FF2-41D6-A0BA-3D2846AF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A11-9ECC-4D8A-906A-BB6FBFA8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0C65-545B-4FE4-BFD2-BD49ACA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33EF-3C8A-49F0-8282-5C2DD2C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6E9-8944-4C5B-99B6-981C70F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423-C9D2-447D-8F75-B9558173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A414-5A21-4F36-9B63-D122871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5A71-CBF8-4765-AF33-B65A720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3C0E-10C0-427F-94B2-0844861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A044-A806-44FD-825A-62C6768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150-D48A-4FA5-A575-A3683E9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6A0-074D-4E4F-85C9-D1D10C0F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8887-725C-4BFF-B78E-548783B8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4673-3C7C-41D2-9030-7B89BDE5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B6D3-41F4-47CE-BA94-E66A318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7BB5-AF33-4999-8418-B7844A4E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0648-BA2B-4D56-8E5D-759244C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F15B-7BC2-4375-9FF5-DD97923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15F2-D21B-45E0-8504-4B2435F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E9B8-3CFC-4374-9E46-460A3F9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EAD-9A3F-4B9F-BCED-3F43EAF1C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B8A7-ECB4-47BB-BBB1-7FDAD6146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SO ENFORCEMENT ISSUES</a:t>
            </a:r>
            <a:br>
              <a:rPr sz="2800"/>
            </a:br>
            <a:br>
              <a:rPr sz="19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WEATHER PARTNERSHIP AND NATIONAL ASSOCIATION OF CLEAN WATER AGENCIES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POLL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TER ENFORCE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IVIL ENFOR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 27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regions and authorized states have Performance Partnership Agreements and other agreements governing  how CWA violations will be add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include workshare agreement dividing the CSO/SSO case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and states are encouraged to incorporate the CSO/SSO guidelines in their enforcement agre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orandum encourages regions and state to engage in full communication and coordination to define state and federal enforcement roles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ECA’s Role in CSO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’s Office of Enforcement and Compliance Assurance is the point of contact for enforcement actions against CSO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applies EPA policy and guidance (including the 1994 CSO Policy) on a case-by-case basis in its enforcement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coordinates with the Office of Water, as appropriate, on issues that arise in enforcement actions to ensure consistency with EPA policy and guid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CA applies the 1995 Clean Water Act Penalty Policy.  Penalties are assessed under a separate table for municipa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ECA may waive the penalty under circumstances specified in the CSO Poli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’s 1986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PDES Enforcement Managemen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ich contains Significant Noncompliance criteria) pre-dates EPA’s 1994 CSO Policy.  Therefore, EPA’s current SNC criteria do not address CSO vio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e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:  EPA started a workgroup with states to develop an addendum to the existing SNC policy for “wet weather” violations (including CSOs and S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SOs, the goal is to develop appropriate, comprehensive, and clear criteria to prioritize CSO violators in accordance with the 1994 CSO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NC Policy is being closely coordinated with a project to modernize the Permit Compliance System to ensure that SNC systems are tracked appropr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are providing input on the SNC Policy through the workgroup started in EPA in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 may submit informal comments expressing their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Significant Noncomp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 received extensive written comments from National Association of Clean Water Agencies (NACWA) and Water Environment Federation (WEF) in Nov/Dec.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ments are considered as we work to issu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im WW SNC Poli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pilot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A supportive of work by OW, NACWA and NRD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hosted round table discussion with OW this Apr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ntinue to seek Green infrastructure as part of settlement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 CSO Enforcement Pri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sewer overflows (CSOs)/sanitary sewer overflows (SSOs) were redesignated a national enforcement priority for 2005-2007 and the subsequent three year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Os/SSOs have been designated a national enforcement priority sinc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’s national priorities were selected based on thre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environmental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of non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EPA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 CSO Enforcement Pri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riority-setting process, OECA  hosted a meeting of HQ, regions, states, tribes and state associations to discuss the 16 candidate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received detailed descriptions of potential priorities, participated in facilitated discussions of candidates and were requested to rank their choice of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Priorit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ary goal of the CSO Priority Strategy is to ensur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% of all permitted CSOs either have completed an evaluation which determined that they did not need to develop a Long Term Control Plan (LTC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e under an enforceable schedule to develop and implement an LTCP which ultimately will result in compliance with the Clean Water A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have taken actions which will result in sewer s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O Priorit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goal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90% of federal enforcement actions at CSOs in priority watershe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100% of CSO outfalls within 1 mile of drinking water int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ng compliance assistance for 90% of systems serving less than 10,000 persons without an LTCP or pending enforcement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ckground:  Reason for Enforc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enforcement targeting for authoriz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egregious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achieve compliance despite prior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ly and complex injunctive rel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re is significant public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tes request EPA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PA is the NPD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the CWA, EPA may authorize states to administer the NPDES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with authorized permit programs have the lead in the day-to-day administration of these progr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majority of water enforcement case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ing hundreds of CSO and SS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s), authorized states in fact take the lead in responding to vio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1987, states have taken approximately 750 administrative actions and 5 civil judicial actions against municipalities for SSO violations, and 75 administrative actions and 15 judicial actions for CSO violations. (2004 Report to Congr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retains concurrent authority under Section 402(i) of the CWA to take enforcement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and ECOS develop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idelines for Federal Enforcement in CSO/SSO C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pril 10, 2005) (Guidelines) to clarify EPA’s role in CSO/SSO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participants included Ohio, Indiana, and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andum sets forth circumstances where it may be appropriate for EPA to take action to address CSO violation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are not limited to cases where a state fails to take timely and appropriate action – they also include cases with multi-state imp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action to address multi-state impacts ensures consistent and fair treatment of municipal violators in the same waters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Ohio River (Hamilton County, OH; Louisville, KY; Covington, K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-State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set the stage for early, open, and ongoing communication between EPA and states addressing CSO/SS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andum is intended to enhance the federal-state partnership that has been a central aspect of CSO/SSO enfor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were co-plaintiffs in nearly 70% of federal CSO and SSO judicial cases since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3:26:57Z</dcterms:created>
  <dc:creator> </dc:creator>
  <dc:description/>
  <dc:language>en-US</dc:language>
  <cp:lastModifiedBy>mmorel</cp:lastModifiedBy>
  <dcterms:modified xsi:type="dcterms:W3CDTF">2007-04-27T14:20:26Z</dcterms:modified>
  <cp:revision>9</cp:revision>
  <dc:subject/>
  <dc:title>CSO ENFORCEMENT ISSUES  WET WEATHER PARTNERSHIP AND NATIONAL ASSOCIATION OF CLEAN WATER AGENCIES, MEETING </dc:title>
</cp:coreProperties>
</file>