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DF7-1642-42D8-A443-867CC3A0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529-FD66-4B7C-830E-B8FA4CBA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BF5-2444-4A2D-99DC-F8355068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840-97B3-4E1E-9475-A0C62F88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72F-5371-4A30-9704-BFBED498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B9D-8AE0-4C77-A736-6F8278DD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647-3AE8-4FD2-986C-D61FE63B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3CA-C75D-4027-8CF9-A6B5F74B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109-9042-401A-AD6D-0B944914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72E-70A9-44BE-86B9-FC4B1F15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6EF-1C69-4060-BAA3-BB00A9D7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55D-6D42-4F23-B3C2-DFEDDC5B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>
            <a:lum bright="70000" contrast="-70000"/>
          </a:blip>
          <a:srcRect l="0" t="-652229" r="0" b="0"/>
          <a:stretch/>
        </p:blipFill>
        <p:spPr>
          <a:xfrm>
            <a:off x="0" y="4035600"/>
            <a:ext cx="9144000" cy="281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596F-6BFE-42C7-BEDC-630588066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8381880" y="5638680"/>
            <a:ext cx="630360" cy="86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reation Management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2971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iz Siddi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politan Sewer District of Greater Cincinn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/26/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41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14640" y="4572000"/>
            <a:ext cx="1312920" cy="1798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02564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a predictive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r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  E  coli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of Collec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 Goals of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creation Management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Bacteria Level in Ohio Ri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Public Timely &amp; meaningful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perativ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opolitan Sewer District of Greater Cincinnati (MSDG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milton County Health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y of Cincinnati Department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nt Decrees in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 is “Pollutant of Concer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of Ohio Water quality Standard  is based on E. coli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 cfu/100milliliters (30 day geometric me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0 cfu/100 mililiters (single sample maxim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 Weather Improvement Program will improve the water quality in Ohio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DGC will not meet water qualit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io river will be fully protective of recreational use when coupled with a recreation management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 Object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ive of the recreation management program is to provide the public with meaningful information related to water quality and public safety in a time frame that allows informed decisions to be made regarding recreation in local water bodi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thru October (Recreation Sea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per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on Ohio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Points Across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on Cincinnati Area Tribut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Miami River, Mill Creek, Little Miami River / Duck Cr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Mid-poi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52280" y="6480"/>
          <a:ext cx="8915400" cy="68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480"/>
                    <a:ext cx="8915400" cy="68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 water qua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of the geometric mean of E. coli bacteria per milliliters of water times 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3:36:52Z</dcterms:created>
  <dc:creator>geoffe</dc:creator>
  <dc:description/>
  <dc:language>en-US</dc:language>
  <cp:lastModifiedBy>siddiquikf</cp:lastModifiedBy>
  <dcterms:modified xsi:type="dcterms:W3CDTF">2007-04-26T13:46:26Z</dcterms:modified>
  <cp:revision>11</cp:revision>
  <dc:subject/>
  <dc:title>GETTING IT CLEAN Reducing Sewer Overflows In Hamilton County</dc:title>
</cp:coreProperties>
</file>