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416-383D-42BA-83E8-4C56BAFB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E41-A02C-45C3-8FB3-6A6C55A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65C-FF9B-411A-999F-133815EA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8AF-7B45-4561-A7D1-ED921342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AF1-4D02-4272-97A7-FE53E26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0A7-E214-4537-890B-AB2E6CA2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04C-5CBE-4980-80A0-D8E1611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CAF-12E6-4728-8806-AE040FC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48E-B61F-47D5-AA95-E9B425C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9D9-E7FC-4E49-BE0F-EBBA8FF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DD6-699B-4F0C-8543-53F9313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21F-B01F-4969-9AA9-C7F17EDB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70000" contrast="-70000"/>
          </a:blip>
          <a:srcRect l="0" t="-652229" r="0" b="0"/>
          <a:stretch/>
        </p:blipFill>
        <p:spPr>
          <a:xfrm>
            <a:off x="0" y="4035600"/>
            <a:ext cx="9144000" cy="28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7A8-CA3A-44DA-9555-5CAEDD45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381880" y="5638680"/>
            <a:ext cx="63036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reation Management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iz Siddi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Sewer District of Greater Cincin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26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14640" y="4572000"/>
            <a:ext cx="1312920" cy="179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predictiv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r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 E  coli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Collec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Goal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reation Management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Bacteria Level in Ohio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Public Timely &amp; meaningful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opolitan Sewer District of Greater Cincinnati (MSD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 County Health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of Cincinnati Department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Decrees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is “Pollutant of Concer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Ohio Water quality Standard  is based on E. coli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 cfu/100milliliters (30 day geometric m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cfu/100 mililiters (single sampl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Weather Improvement Program will improve the water quality in 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GC will not meet water qual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io river will be fully protective of recreational use when coupled with a recreation managemen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Obj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of the recreation management program is to provide the public with meaningful information related to water quality and public safety in a time frame that allows informed decisions to be made regarding recreation in local water bo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hru October (Recreation Sea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n 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oints Across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on Cincinnati Area Tribut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Miami River, Mill Creek, Little Miami River / Duck Cr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id-poi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2280" y="6480"/>
          <a:ext cx="8915400" cy="68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480"/>
                    <a:ext cx="8915400" cy="68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ram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water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of the geometric mean of E. coli bacteria per milliliters of water times 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3:36:52Z</dcterms:created>
  <dc:creator>geoffe</dc:creator>
  <dc:description/>
  <dc:language>en-US</dc:language>
  <cp:lastModifiedBy>siddiquikf</cp:lastModifiedBy>
  <dcterms:modified xsi:type="dcterms:W3CDTF">2007-04-26T13:46:26Z</dcterms:modified>
  <cp:revision>11</cp:revision>
  <dc:subject/>
  <dc:title>GETTING IT CLEAN Reducing Sewer Overflows In Hamilton County</dc:title>
</cp:coreProperties>
</file>