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3C8-0D88-4E9F-99B8-31906B94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672-D67A-4615-AEAA-45471CAC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E5C-E692-4F13-9017-A3788C40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1A2-CBCD-489E-890A-8323DEAA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761-502E-4D2F-9D0B-C91F3263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41B-E708-4394-B7C7-B3AC6F9C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928-1E58-4EDB-A40C-F78ED723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947-C439-4B0D-9018-E773FEDD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054-481B-4352-AE0B-507F6E03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C48-DB98-45CF-A65D-67F155F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985-5073-480F-85E7-DA2E3FBA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7CC-51AE-4C73-B116-FBBB3C60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A92D-066F-4DC7-A9A6-250CC19B3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1080" y="0"/>
            <a:ext cx="990720" cy="2590920"/>
          </a:xfrm>
          <a:prstGeom prst="rect">
            <a:avLst/>
          </a:prstGeom>
          <a:solidFill>
            <a:srgbClr val="9ed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1280" y="468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18456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O IN CHICAGO: PROGRESS, STRATEGIES AND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3733920"/>
            <a:ext cx="510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chard Lany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Superinte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opolitan Water Reclamation District of Greater Chic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114800" y="449568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Quality Compliance Strategies and Key LTCP Developments for CSO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cago, Illin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6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0"/>
            <a:ext cx="2362320" cy="259092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0"/>
            <a:ext cx="1905120" cy="259236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" cy="259236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39080" y="0"/>
            <a:ext cx="304920" cy="2590920"/>
          </a:xfrm>
          <a:prstGeom prst="rect">
            <a:avLst/>
          </a:prstGeom>
          <a:solidFill>
            <a:srgbClr val="9ed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-1994 CSO Poli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ategies - Permit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ired permits 1993 to 20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ffirm schedule in NPDES permi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udicial order uncertaint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e LTCP – multiple permi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e permit enforcement lac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loatable debris orig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fall monitoring and report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1600200"/>
            <a:ext cx="7772400" cy="3657600"/>
          </a:xfrm>
          <a:prstGeom prst="rect">
            <a:avLst/>
          </a:prstGeom>
          <a:solidFill>
            <a:srgbClr val="cfe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4280" y="6580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1676520"/>
            <a:ext cx="2057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ceiving Water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mary Conta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ary Conta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1676520"/>
            <a:ext cx="1752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ity of Chica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7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2743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35053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3962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45720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rand total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76520"/>
            <a:ext cx="1752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burb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1676520"/>
            <a:ext cx="1752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16765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Permitted Outfa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unicipalities without outfa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llenges - continu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tellite community outre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udicial order uncertain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lic educ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4191120"/>
            <a:ext cx="6400800" cy="609480"/>
          </a:xfrm>
          <a:prstGeom prst="rect">
            <a:avLst/>
          </a:prstGeom>
          <a:solidFill>
            <a:srgbClr val="64aad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t weather standard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5800" y="1447920"/>
            <a:ext cx="6400800" cy="1828800"/>
          </a:xfrm>
          <a:prstGeom prst="rect">
            <a:avLst/>
          </a:prstGeom>
          <a:solidFill>
            <a:srgbClr val="cfeefb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CONTACT THE MW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mwr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-Hour Hot Line (1-800-332-DU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Information Office: (312) 751-66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3429000"/>
            <a:ext cx="6400800" cy="1828800"/>
          </a:xfrm>
          <a:prstGeom prst="rect">
            <a:avLst/>
          </a:prstGeom>
          <a:solidFill>
            <a:srgbClr val="64aada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CONTACT DICK LAN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k.lanyon@mwr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ne:  (312) 751-7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x: (312) 751-7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WRDGC Facilities and Waterwa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2200" y="6858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72 – LTCP adopted loc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74 – LTCP split into Phase I and I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75 – Phase I construction grants funding begi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80/85/86 – First Phase I segments operational (47/10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191120"/>
            <a:ext cx="6400800" cy="609480"/>
          </a:xfrm>
          <a:prstGeom prst="rect">
            <a:avLst/>
          </a:prstGeom>
          <a:solidFill>
            <a:srgbClr val="64aad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86 – Corps recommends funding Phase I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4280" y="6580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4566" t="0" r="7808" b="2521"/>
          <a:stretch/>
        </p:blipFill>
        <p:spPr>
          <a:xfrm>
            <a:off x="2209680" y="228600"/>
            <a:ext cx="4648320" cy="620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1 – LCA signed for O’Hare Reservo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gres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continu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5/98 – IEPA and Region V affirm TARP as LTC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8 – O’Hare Reservoir in service (400 M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8 – PCA signed for McCook Reservo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191120"/>
            <a:ext cx="6400800" cy="609480"/>
          </a:xfrm>
          <a:prstGeom prst="rect">
            <a:avLst/>
          </a:prstGeom>
          <a:solidFill>
            <a:srgbClr val="64aad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98 – Agreement for mining Thornton Reservoi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2 – Thornton Transitional Reservoir in ser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gres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continu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3 – PCA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igned for Thornton Composite Reservoi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3 – Agreement for mining McCook Reservoi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6 – Phase I tunnels complete (109 miles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13 – Thornton Composite Reservoir in ser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14 – McCook Reservoir Stage 1 in ser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 – McCook Reservoir Stage 2 in servic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ed TARP CSO Storage Volu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4280" y="65800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52600" y="452772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52600" y="434484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52600" y="415440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52600" y="397188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52600" y="378288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52600" y="359424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52600" y="341136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52600" y="322272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52600" y="304020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52600" y="284940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2600" y="266076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52600" y="247824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52600" y="228924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52600" y="210024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52600" y="191772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52600" y="1728720"/>
            <a:ext cx="5945040" cy="180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52600" y="154620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52600" y="1355760"/>
            <a:ext cx="5945040" cy="1440"/>
          </a:xfrm>
          <a:prstGeom prst="line">
            <a:avLst/>
          </a:prstGeom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4659480"/>
            <a:ext cx="195120" cy="568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86280" y="4476600"/>
            <a:ext cx="195120" cy="23976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419720"/>
            <a:ext cx="195480" cy="29664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381560"/>
            <a:ext cx="195480" cy="33480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307040"/>
            <a:ext cx="195120" cy="40932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67360" y="4268880"/>
            <a:ext cx="195120" cy="4474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268880"/>
            <a:ext cx="195120" cy="4474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58080" y="4268880"/>
            <a:ext cx="196560" cy="4474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268880"/>
            <a:ext cx="196920" cy="4474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48440" y="4268880"/>
            <a:ext cx="196920" cy="447480"/>
          </a:xfrm>
          <a:prstGeom prst="rect">
            <a:avLst/>
          </a:prstGeom>
          <a:solidFill>
            <a:srgbClr val="b1ddfb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237200"/>
            <a:ext cx="195120" cy="6984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67360" y="4205160"/>
            <a:ext cx="195120" cy="6372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3303720"/>
            <a:ext cx="195120" cy="96516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2654280"/>
            <a:ext cx="196560" cy="161460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1998720"/>
            <a:ext cx="196920" cy="227016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48440" y="1349280"/>
            <a:ext cx="196920" cy="2919600"/>
          </a:xfrm>
          <a:prstGeom prst="rect">
            <a:avLst/>
          </a:prstGeom>
          <a:solidFill>
            <a:srgbClr val="64aad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52600" y="1355760"/>
            <a:ext cx="1440" cy="33606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15880" y="471636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15880" y="452772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15880" y="434484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15880" y="415440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15880" y="397188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15880" y="378288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15880" y="359424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15880" y="341136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15880" y="322272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15880" y="304020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15880" y="284940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15880" y="266076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15880" y="247824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15880" y="228924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15880" y="210024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15880" y="191772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15880" y="1728720"/>
            <a:ext cx="3672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15880" y="154620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15880" y="1355760"/>
            <a:ext cx="36720" cy="14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52600" y="4716360"/>
            <a:ext cx="5945040" cy="180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45260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4796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4332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38320" y="4716360"/>
            <a:ext cx="180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433680" y="4716360"/>
            <a:ext cx="180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92904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42440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921200" y="4716360"/>
            <a:ext cx="180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1656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91192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407280" y="4716360"/>
            <a:ext cx="144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902280" y="4716360"/>
            <a:ext cx="180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397640" y="4716360"/>
            <a:ext cx="1800" cy="44640"/>
          </a:xfrm>
          <a:prstGeom prst="line">
            <a:avLst/>
          </a:prstGeom>
          <a:ln w="176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16040" y="4368960"/>
            <a:ext cx="343080" cy="20304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1240" y="441324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70 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6720" y="4230720"/>
            <a:ext cx="36684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30480" y="427500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.3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89480" y="4148280"/>
            <a:ext cx="366480" cy="20304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13240" y="419256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.6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0960" y="4124160"/>
            <a:ext cx="36684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14720" y="416736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.8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9600" y="3984480"/>
            <a:ext cx="42228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74080" y="402912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.55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81680" y="3933720"/>
            <a:ext cx="366480" cy="2034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5440" y="3978360"/>
            <a:ext cx="323640" cy="122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.8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3160" y="3059280"/>
            <a:ext cx="36684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6920" y="3102120"/>
            <a:ext cx="32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7.6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2160" y="2403360"/>
            <a:ext cx="42228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66280" y="244620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1.1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31040" y="1735200"/>
            <a:ext cx="42228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56600" y="177804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4.6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2520" y="1093680"/>
            <a:ext cx="422280" cy="201600"/>
          </a:xfrm>
          <a:prstGeom prst="rect">
            <a:avLst/>
          </a:prstGeom>
          <a:solidFill>
            <a:srgbClr val="96969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58440" y="113832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8.1 B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3480" y="4640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3480" y="4451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93480" y="4268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3480" y="4079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3480" y="3897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3480" y="3708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3480" y="3517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3480" y="3335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3480" y="3146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3480" y="2963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25080" y="277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25080" y="2585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25080" y="2403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5080" y="2212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5080" y="2023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25080" y="1841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2508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25080" y="1469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25080" y="1281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31440" y="4842000"/>
            <a:ext cx="36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72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96200" y="4842000"/>
            <a:ext cx="4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75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4772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23280" y="48420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85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8280" y="48420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89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3344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2880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4360" y="48420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2003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1952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488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024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05240" y="48420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Arial"/>
              </a:rPr>
              <a:t>20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77520" y="504360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9360" y="2986200"/>
            <a:ext cx="199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ARP Storage Volume (B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92480" y="546264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1972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8360" y="5462640"/>
            <a:ext cx="4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4760" y="5462640"/>
            <a:ext cx="202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lean Water Act enacted. TAR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85320" y="5627520"/>
            <a:ext cx="2084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ogram adopted by MWRDG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91400" y="5902200"/>
            <a:ext cx="51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**1975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91440" y="5902200"/>
            <a:ext cx="4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4760" y="5902200"/>
            <a:ext cx="228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ARP tunnel construction initiat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516640" y="5559480"/>
            <a:ext cx="226800" cy="156960"/>
            <a:chOff x="5516640" y="5559480"/>
            <a:chExt cx="226800" cy="156960"/>
          </a:xfrm>
        </p:grpSpPr>
        <p:sp>
          <p:nvSpPr>
            <p:cNvPr id="227" name=""/>
            <p:cNvSpPr/>
            <p:nvPr/>
          </p:nvSpPr>
          <p:spPr>
            <a:xfrm>
              <a:off x="5516640" y="5559480"/>
              <a:ext cx="226800" cy="156960"/>
            </a:xfrm>
            <a:prstGeom prst="rect">
              <a:avLst/>
            </a:prstGeom>
            <a:solidFill>
              <a:srgbClr val="64a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6640" y="5559480"/>
              <a:ext cx="226800" cy="156960"/>
            </a:xfrm>
            <a:prstGeom prst="rect">
              <a:avLst/>
            </a:prstGeom>
            <a:solidFill>
              <a:srgbClr val="64aada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519880" y="5956200"/>
            <a:ext cx="226800" cy="171720"/>
          </a:xfrm>
          <a:prstGeom prst="rect">
            <a:avLst/>
          </a:prstGeom>
          <a:solidFill>
            <a:srgbClr val="b1d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0440" y="5557680"/>
            <a:ext cx="155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ARP Reservoir 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92120" y="5921280"/>
            <a:ext cx="1384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ARP Tunnel Sto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44760" y="5083200"/>
            <a:ext cx="1288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BG = Billion Gall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74800" y="5248440"/>
            <a:ext cx="135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MG + Million Gall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91520" y="6281640"/>
            <a:ext cx="1600200" cy="385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5800" y="1447920"/>
            <a:ext cx="6400800" cy="609480"/>
          </a:xfrm>
          <a:prstGeom prst="rect">
            <a:avLst/>
          </a:prstGeom>
          <a:solidFill>
            <a:srgbClr val="cfeef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rst large CSO construction grants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3049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ategies - Fun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133720"/>
            <a:ext cx="6400800" cy="609480"/>
          </a:xfrm>
          <a:prstGeom prst="rect">
            <a:avLst/>
          </a:prstGeom>
          <a:solidFill>
            <a:srgbClr val="bbe7f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l obligation bonds for local sh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6400800" cy="609480"/>
          </a:xfrm>
          <a:prstGeom prst="rect">
            <a:avLst/>
          </a:prstGeom>
          <a:solidFill>
            <a:srgbClr val="9fd4f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ximize use of SRF loa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3505320"/>
            <a:ext cx="6400800" cy="609480"/>
          </a:xfrm>
          <a:prstGeom prst="rect">
            <a:avLst/>
          </a:prstGeom>
          <a:solidFill>
            <a:srgbClr val="a5d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bby hard for Corps 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191120"/>
            <a:ext cx="6400800" cy="609480"/>
          </a:xfrm>
          <a:prstGeom prst="rect">
            <a:avLst/>
          </a:prstGeom>
          <a:solidFill>
            <a:srgbClr val="64aad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 state fund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320" y="6553080"/>
            <a:ext cx="685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4280" y="658008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WQCS 04-26-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0:26:01Z</dcterms:created>
  <dc:creator>BrownJ</dc:creator>
  <dc:description/>
  <dc:language>en-US</dc:language>
  <cp:lastModifiedBy>mmorel</cp:lastModifiedBy>
  <dcterms:modified xsi:type="dcterms:W3CDTF">2007-03-28T18:19:57Z</dcterms:modified>
  <cp:revision>50</cp:revision>
  <dc:subject/>
  <dc:title>Slide 1</dc:title>
</cp:coreProperties>
</file>