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B7A-CF43-4BC3-B17D-5D7E962C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B0A-5656-4611-9305-C98EBDDC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C02-1C87-4D6E-9A6F-C86A6652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38B-5432-4A62-AA0A-7F7AFEBA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98A-39CF-45B4-947C-EE06A9A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C77-A5CD-4A25-B9D0-ACE2E341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18E-8D98-48E2-AD93-BC2843CF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638-27FE-4085-A110-FBE4C682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D29-E752-47ED-9EE9-EDBE8C33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32D-BF64-4238-8A81-37E0C675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266-CC87-485E-9282-FD8F7D2A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125-C68D-4578-9D50-176645A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670D-54E0-41BE-B058-DA447CA06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0"/>
            <a:ext cx="990720" cy="2590920"/>
          </a:xfrm>
          <a:prstGeom prst="rect">
            <a:avLst/>
          </a:prstGeom>
          <a:solidFill>
            <a:srgbClr val="9ed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468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18456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O IN CHICAGO: PROGRESS, STRATEGIES AND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3733920"/>
            <a:ext cx="510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hard Lany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Superint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opolitan Water Reclamation District of Greater Chic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14800" y="449568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Quality Compliance Strategies and Key LTCP Developments for CSO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cago, Illin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6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0"/>
            <a:ext cx="2362320" cy="259092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0"/>
            <a:ext cx="1905120" cy="259236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" cy="259236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39080" y="0"/>
            <a:ext cx="304920" cy="2590920"/>
          </a:xfrm>
          <a:prstGeom prst="rect">
            <a:avLst/>
          </a:prstGeom>
          <a:solidFill>
            <a:srgbClr val="9ed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-1994 CSO Poli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ategies - Permit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ired permits 1993 to 20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ffirm schedule in NPDES permi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udicial order uncertaint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LTCP – multiple permi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e permit enforcement lac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oatable debris ori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fall monitoring and report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1600200"/>
            <a:ext cx="7772400" cy="3657600"/>
          </a:xfrm>
          <a:prstGeom prst="rect">
            <a:avLst/>
          </a:prstGeom>
          <a:solidFill>
            <a:srgbClr val="cfe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4280" y="6580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676520"/>
            <a:ext cx="2057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ceiving Water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mary Conta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ary Conta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1676520"/>
            <a:ext cx="1752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ity of Chic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7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2743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35053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3962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45720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nd total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76520"/>
            <a:ext cx="1752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urb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1676520"/>
            <a:ext cx="1752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16765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Permitted Outfa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unicipalities without outfa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llenges - continu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tellite community outre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udicial order uncertain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lic edu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4191120"/>
            <a:ext cx="6400800" cy="609480"/>
          </a:xfrm>
          <a:prstGeom prst="rect">
            <a:avLst/>
          </a:prstGeom>
          <a:solidFill>
            <a:srgbClr val="64aad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t weather standard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5800" y="1447920"/>
            <a:ext cx="6400800" cy="1828800"/>
          </a:xfrm>
          <a:prstGeom prst="rect">
            <a:avLst/>
          </a:prstGeom>
          <a:solidFill>
            <a:srgbClr val="cfeefb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CONTACT THE MW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mwr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-Hour Hot Line (1-800-332-DU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Information Office: (312) 751-66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3429000"/>
            <a:ext cx="6400800" cy="1828800"/>
          </a:xfrm>
          <a:prstGeom prst="rect">
            <a:avLst/>
          </a:prstGeom>
          <a:solidFill>
            <a:srgbClr val="64aada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CONTACT DICK L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k.lanyon@mwr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:  (312) 751-7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x: (312) 751-7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WRDGC Facilities and Waterw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2200" y="6858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72 – LTCP adopted loc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74 – LTCP split into Phase I and I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75 – Phase I construction grants funding begi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80/85/86 – First Phase I segments operational (47/10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191120"/>
            <a:ext cx="6400800" cy="609480"/>
          </a:xfrm>
          <a:prstGeom prst="rect">
            <a:avLst/>
          </a:prstGeom>
          <a:solidFill>
            <a:srgbClr val="64aad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86 – Corps recommends funding Phase I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4280" y="6580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4566" t="0" r="7808" b="2521"/>
          <a:stretch/>
        </p:blipFill>
        <p:spPr>
          <a:xfrm>
            <a:off x="2209680" y="228600"/>
            <a:ext cx="4648320" cy="620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1 – LCA signed for O’Hare Reservo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gres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continu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5/98 – IEPA and Region V affirm TARP as LTC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8 – O’Hare Reservoir in service (400 M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8 – PCA signed for McCook Reservo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191120"/>
            <a:ext cx="6400800" cy="609480"/>
          </a:xfrm>
          <a:prstGeom prst="rect">
            <a:avLst/>
          </a:prstGeom>
          <a:solidFill>
            <a:srgbClr val="64aad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8 – Agreement for mining Thornton Reservoi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2 – Thornton Transitional Reservoir in 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gres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continu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3 – PCA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igned for Thornton Composite Reservoi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3 – Agreement for mining McCook Reservo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6 – Phase I tunnels complete (109 miles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13 – Thornton Composite Reservoir in 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14 – McCook Reservoir Stage 1 in 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 – McCook Reservoir Stage 2 in servic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ed TARP CSO Storage Volu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4280" y="6580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52600" y="452772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52600" y="434484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52600" y="415440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52600" y="397188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52600" y="378288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52600" y="359424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52600" y="341136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52600" y="322272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52600" y="304020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52600" y="284940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2600" y="266076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52600" y="247824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52600" y="228924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52600" y="210024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52600" y="191772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52600" y="172872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2600" y="154620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52600" y="135576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4659480"/>
            <a:ext cx="195120" cy="568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86280" y="4476600"/>
            <a:ext cx="195120" cy="23976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419720"/>
            <a:ext cx="195480" cy="29664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381560"/>
            <a:ext cx="195480" cy="33480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307040"/>
            <a:ext cx="195120" cy="40932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67360" y="4268880"/>
            <a:ext cx="19512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268880"/>
            <a:ext cx="19512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8080" y="4268880"/>
            <a:ext cx="19656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268880"/>
            <a:ext cx="19692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48440" y="4268880"/>
            <a:ext cx="19692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237200"/>
            <a:ext cx="195120" cy="6984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67360" y="4205160"/>
            <a:ext cx="195120" cy="6372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303720"/>
            <a:ext cx="195120" cy="96516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2654280"/>
            <a:ext cx="196560" cy="161460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998720"/>
            <a:ext cx="196920" cy="227016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48440" y="1349280"/>
            <a:ext cx="196920" cy="291960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52600" y="1355760"/>
            <a:ext cx="1440" cy="33606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5880" y="471636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15880" y="452772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15880" y="434484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15880" y="415440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15880" y="397188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15880" y="378288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15880" y="359424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15880" y="341136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15880" y="322272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15880" y="304020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15880" y="284940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15880" y="266076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5880" y="247824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15880" y="228924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15880" y="210024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15880" y="191772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15880" y="172872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15880" y="154620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15880" y="135576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52600" y="4716360"/>
            <a:ext cx="594504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45260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4796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4332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3832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43368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92904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42440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92120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1656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1192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0728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90228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39764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6040" y="4368960"/>
            <a:ext cx="343080" cy="20304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1240" y="441324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70 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6720" y="4230720"/>
            <a:ext cx="36684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30480" y="427500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.3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89480" y="4148280"/>
            <a:ext cx="366480" cy="20304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13240" y="419256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.6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0960" y="4124160"/>
            <a:ext cx="36684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14720" y="416736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.8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9600" y="3984480"/>
            <a:ext cx="42228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74080" y="402912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.55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81680" y="3933720"/>
            <a:ext cx="366480" cy="2034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5440" y="3978360"/>
            <a:ext cx="323640" cy="122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.8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3160" y="3059280"/>
            <a:ext cx="36684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6920" y="310212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7.6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2160" y="2403360"/>
            <a:ext cx="42228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66280" y="244620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1.1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31040" y="1735200"/>
            <a:ext cx="42228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56600" y="177804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4.6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2520" y="1093680"/>
            <a:ext cx="42228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58440" y="113832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8.1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3480" y="4640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3480" y="4451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93480" y="4268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348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3480" y="3897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3480" y="3708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3480" y="3517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3480" y="3335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3480" y="3146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3480" y="2963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25080" y="277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25080" y="2585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25080" y="2403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5080" y="221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5080" y="2023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5080" y="1841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508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5080" y="1469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25080" y="1281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31440" y="4842000"/>
            <a:ext cx="36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72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96200" y="4842000"/>
            <a:ext cx="4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75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4772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23280" y="48420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85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8280" y="48420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89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3344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2880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4360" y="48420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03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1952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488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024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524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77520" y="504360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9360" y="2986200"/>
            <a:ext cx="199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ARP Storage Volume (B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92480" y="546264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1972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8360" y="5462640"/>
            <a:ext cx="4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760" y="5462640"/>
            <a:ext cx="202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lean Water Act enacted. TAR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5320" y="5627520"/>
            <a:ext cx="208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gram adopted by MWRDG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91400" y="5902200"/>
            <a:ext cx="51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*1975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91440" y="5902200"/>
            <a:ext cx="4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4760" y="5902200"/>
            <a:ext cx="228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ARP tunnel construction initia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516640" y="5559480"/>
            <a:ext cx="226800" cy="156960"/>
            <a:chOff x="5516640" y="5559480"/>
            <a:chExt cx="226800" cy="156960"/>
          </a:xfrm>
        </p:grpSpPr>
        <p:sp>
          <p:nvSpPr>
            <p:cNvPr id="227" name=""/>
            <p:cNvSpPr/>
            <p:nvPr/>
          </p:nvSpPr>
          <p:spPr>
            <a:xfrm>
              <a:off x="5516640" y="5559480"/>
              <a:ext cx="226800" cy="156960"/>
            </a:xfrm>
            <a:prstGeom prst="rect">
              <a:avLst/>
            </a:prstGeom>
            <a:solidFill>
              <a:srgbClr val="64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6640" y="5559480"/>
              <a:ext cx="226800" cy="156960"/>
            </a:xfrm>
            <a:prstGeom prst="rect">
              <a:avLst/>
            </a:prstGeom>
            <a:solidFill>
              <a:srgbClr val="64aada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519880" y="5956200"/>
            <a:ext cx="226800" cy="171720"/>
          </a:xfrm>
          <a:prstGeom prst="rect">
            <a:avLst/>
          </a:prstGeom>
          <a:solidFill>
            <a:srgbClr val="b1d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0440" y="5557680"/>
            <a:ext cx="15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ARP Reservoir 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92120" y="5921280"/>
            <a:ext cx="1384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ARP Tunnel 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44760" y="5083200"/>
            <a:ext cx="1288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BG = Billion Gall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74800" y="5248440"/>
            <a:ext cx="135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MG + Million Gall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rst large CSO construction grants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ategies - Fun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l obligation bonds for local s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ximize use of SRF loa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bby hard for Corps 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91120"/>
            <a:ext cx="6400800" cy="609480"/>
          </a:xfrm>
          <a:prstGeom prst="rect">
            <a:avLst/>
          </a:prstGeom>
          <a:solidFill>
            <a:srgbClr val="64aad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 state fund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26:01Z</dcterms:created>
  <dc:creator>BrownJ</dc:creator>
  <dc:description/>
  <dc:language>en-US</dc:language>
  <cp:lastModifiedBy>mmorel</cp:lastModifiedBy>
  <dcterms:modified xsi:type="dcterms:W3CDTF">2007-03-28T18:19:57Z</dcterms:modified>
  <cp:revision>50</cp:revision>
  <dc:subject/>
  <dc:title>Slide 1</dc:title>
</cp:coreProperties>
</file>