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1D4-FBFA-4D36-A257-DA10F035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224-AB1F-4304-8758-1E9089F2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223-8D4E-43D4-A014-829101E7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420-D37B-4481-82BC-D385AD5F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438B-5110-4F87-ADA9-C9F1EB7E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22A-9DB4-4FB4-9CB0-E468C63B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92BB-D5AE-4DB1-AE2C-E73D4F5F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361A-A30E-4CFD-A81B-EB183141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7C01-F5AE-4214-B539-4C2C8E88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0E5C-CB4C-4801-9EAA-B44E65D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D6BD-9597-4A1A-9EE2-9168ECCB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220-02B1-4853-B64D-920FBAC2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C380-9DE1-49C9-A476-7BCE2CC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001E-A3C4-47AF-8C42-72CDBF8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100C-A96E-48AE-94C0-6254FFB8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573A-7666-49CA-957F-89380168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A36C-A495-4B0F-BBE3-67A81BC3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E9F-C968-43CF-BE47-4D0C6490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4DF-26F0-4B2D-9477-542EC488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5FB-17C1-4339-AB5A-F73D6128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8C9-9066-4D65-B5DA-89A5B0A4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2CE-331A-44A6-9704-1648EA99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614-BDB6-40A3-A501-33D748DD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705-E0C0-4984-B6F0-68E7BEF9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8DBC-4DD2-43D8-B5AA-CDA005F7E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499B-2BE1-4EFA-8984-969E6CBC5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133640" y="3219480"/>
            <a:ext cx="5638680" cy="3486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EPA’s OUTREACH FOR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OST KATRINA RECOVE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2640" y="313380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cc"/>
                </a:solidFill>
                <a:latin typeface="Arial"/>
              </a:rPr>
              <a:t>FOR TH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cc"/>
                </a:solidFill>
                <a:latin typeface="Arial"/>
              </a:rPr>
              <a:t>WASTEWATER 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cc"/>
                </a:solidFill>
                <a:latin typeface="Arial"/>
              </a:rPr>
              <a:t>OF NEW ORLEA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439040" y="156204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391520" y="594360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Ted Palit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EPA Region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 DOJ Consent Dec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achieved pre-Ka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s caused by Ka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’s post-Katrina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 issued on September 23, 200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 Constra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ase discharges of raw sewage ASAP, no later than 6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start-up at lease with primary treatment in 6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 disinfection by chlorination ASAP after plant star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ll unauthorized discharges and vio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with AO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treatment started-up by mid-October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ion with chlorination achieved simultaneously along with plant star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 of raw sewage to Mississippi River ceased by mid-October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treatment started by mid-November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d compliance with plant effluent discharges by Novem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AO issued on January 10, 20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AO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recovery of lift stations and collec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nd long term responses and recovery efforts for treatment plant, collection system, and lift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response and recovery efforts through Consent Dec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ajeure issues of Consent Dec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 – EPA’s role in compliance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9:06:18Z</dcterms:created>
  <dc:creator>tpalit</dc:creator>
  <dc:description/>
  <dc:language>en-US</dc:language>
  <cp:lastModifiedBy>EGBERT</cp:lastModifiedBy>
  <dcterms:modified xsi:type="dcterms:W3CDTF">2006-10-04T21:13:44Z</dcterms:modified>
  <cp:revision>6</cp:revision>
  <dc:subject/>
  <dc:title>EPA’s OUTREACH FOR POST KATRINA RECOVERY</dc:title>
</cp:coreProperties>
</file>