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EAD-7575-4A1E-9791-DD438818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0CF-9F1F-4285-9B39-805A443D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0E5-E4B4-41B1-8C92-4BE40B7A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BAB-9D82-4EEA-A187-044746F4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A943-ABAE-43A9-A564-E2835864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181B-A4F4-4B63-A5CF-BA26E357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BCCB-68C2-4448-A95E-5CC71A0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FBA0-B8E7-44AB-B8CD-0BACDB0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3838-CA22-46AD-8548-DFC53156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00BB-CD64-496C-A115-7C6B3F5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ABA8-E5F4-4B4F-B3DE-17AFFB3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A76-BA24-4A7C-AE06-9481B55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49C6-6E37-43DD-BEEB-D9BAFB0D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7909-1672-4FBE-99B1-4D692C2E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D12D-1759-41E6-877A-894C6B3B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6E36-BC87-4180-A1B7-44A26036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8D3C-A253-4BA7-BC17-4D994BBE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76C-7885-4AF8-908F-816D2541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9FE-C5BC-4E18-90FB-49FAD9F1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69C-9EC4-43BD-A39A-6127B9AF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093-2390-4659-8982-9F31EF7F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506-3273-4A56-BFFA-2884ABA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00C-B0F1-4E20-BD2E-2A035B2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C79-9945-4423-BE8C-A0858D0F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3043-7B93-4A9C-B0DB-BA603A6C6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4A6E-F571-4865-97D3-9FDC902B7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33640" y="3219480"/>
            <a:ext cx="5638680" cy="348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5715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EPA’s OUTREACH FOR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OST KATRINA RECOVE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2640" y="313380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cc"/>
                </a:solidFill>
                <a:latin typeface="Arial"/>
              </a:rPr>
              <a:t>FOR TH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cc"/>
                </a:solidFill>
                <a:latin typeface="Arial"/>
              </a:rPr>
              <a:t>WASTEWATER 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66cc"/>
                </a:solidFill>
                <a:latin typeface="Arial"/>
              </a:rPr>
              <a:t>OF NEW ORLEA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439040" y="156204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91520" y="594360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Ted Palit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99"/>
                </a:solidFill>
                <a:latin typeface="Arial"/>
              </a:rPr>
              <a:t>EPA Region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DOJ Consent Dec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achieved pre-Ka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s caused by Ka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’s post-Katrina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 issued on September 23, 200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 Constra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ase discharges of raw sewage ASAP, no later than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start-up at lease with primary treatment in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 disinfection by chlorination ASAP after plant star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ll unauthorized discharges and vio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 with AO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treatment started-up by mid-October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ion with chlorination achieved simultaneously along with plant star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 of raw sewage to Mississippi River ceased by mid-October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treatment started by mid-November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d compliance with plant effluent discharges by Novem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AO issued on January 10, 20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AO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 on recovery of lift stations and collec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and long term responses and recovery efforts for treatment plant, collection system, and lift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response and recovery efforts through Consent Dec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ajeure issues of Consent Dec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 – EPA’s role in compliance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Katrina – New Orleans WWT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9:06:18Z</dcterms:created>
  <dc:creator>tpalit</dc:creator>
  <dc:description/>
  <dc:language>en-US</dc:language>
  <cp:lastModifiedBy>EGBERT</cp:lastModifiedBy>
  <dcterms:modified xsi:type="dcterms:W3CDTF">2006-10-04T21:13:44Z</dcterms:modified>
  <cp:revision>6</cp:revision>
  <dc:subject/>
  <dc:title>EPA’s OUTREACH FOR POST KATRINA RECOVERY</dc:title>
</cp:coreProperties>
</file>