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6080-B8C3-419A-8F05-C38026B1C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808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3240" y="4375080"/>
            <a:ext cx="503568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s government a unified “voice” in trying to negotiate solutions collaboratively with large indus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I projects and dialogues on several material typ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cury thermost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 cyli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rmaceutical 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active 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tici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C4F-5123-4070-A013-29B80F06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50E-6A3C-4CD5-83BD-A26B8251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E5D-A3A6-4441-9408-46F49AC8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DBE-ECAC-454C-8122-820E0CD1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5B5B-F7A0-4018-A938-8DB2E4EA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5A47-E972-4F99-8F0C-5BB017AE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FD3E-AF47-47CE-B772-3CB9874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6E1C-70C9-44B2-B825-8CFFC77E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319F-3A81-4135-8AD4-C98EF814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6CE-5E32-4237-A4C1-727BD1BA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DF38-7C7A-4DD6-876C-E60C156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4B1-B71E-4684-92BE-D67FFA6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AEB-D79A-4944-AE9A-8694123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C4FD-88E9-4F76-A817-1DAC8D5F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FF2A-5CB4-4CB3-82A9-865784AD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7FF-86DE-4EE2-A682-B404D605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A096-D579-421A-9172-3CE76E13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0F1-6388-4D03-AA10-22DF7D78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181-8985-474A-93B1-68A071E4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BE6-F819-413F-BD26-1790E1AC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7FE-851F-43CA-98FA-1F36714E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3F9-F3BC-4717-8E1D-19576EF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4D4-FCD8-4206-92D3-11DF31C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3E2-AAA1-4E4B-BEC6-8ED9E99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E8D4-325C-4CDE-B595-20A15857D0B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F6A-7187-4F0A-A899-9B787619B46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roductstewardship.us/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scott@productstewardship.us" TargetMode="External"/><Relationship Id="rId2" Type="http://schemas.openxmlformats.org/officeDocument/2006/relationships/hyperlink" Target="mailto:scott@productstewardship.us" TargetMode="External"/><Relationship Id="rId3" Type="http://schemas.openxmlformats.org/officeDocument/2006/relationships/hyperlink" Target="mailto:scott@productstewardship.us" TargetMode="External"/><Relationship Id="rId4" Type="http://schemas.openxmlformats.org/officeDocument/2006/relationships/hyperlink" Target="mailto:scott@productstewardship.us" TargetMode="External"/><Relationship Id="rId5" Type="http://schemas.openxmlformats.org/officeDocument/2006/relationships/hyperlink" Target="http://www.productstewardship.us/" TargetMode="External"/><Relationship Id="rId6" Type="http://schemas.openxmlformats.org/officeDocument/2006/relationships/hyperlink" Target="http://www.productstewardship.us/" TargetMode="External"/><Relationship Id="rId7" Type="http://schemas.openxmlformats.org/officeDocument/2006/relationships/hyperlink" Target="http://www.productstewardship.us/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104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Times New Roman"/>
              </a:rPr>
              <a:t>Product Stewardship for Waste/Unwanted Pharmaceutical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400" y="41911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cott Cassel, Executive Director Product Stewardship Institute, In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ACWA Conference 200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w Orleans, 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harmaceutical Take-back Programs Must Addr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7724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erns of anonym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urity of collection metho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 of Controlled Substan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pliance with national/local hazardous waste legisl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o are the Cataly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ve Galvin, King County W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urie Tenace, FL DE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Karin North, Palo Alto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ther Funder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n Francisco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nta Monica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n Benito County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entral VT Solid Waste Mgt Agenc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Times New Roman"/>
              </a:rPr>
              <a:t>What is Product Stewardship?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Stewardship" is a principle that directs all those involved in the </a:t>
            </a:r>
            <a:r>
              <a:rPr b="1" i="1" lang="en-US" sz="3200" spc="-1" strike="noStrike">
                <a:solidFill>
                  <a:srgbClr val="2a3d7a"/>
                </a:solidFill>
                <a:latin typeface="Times New Roman"/>
              </a:rPr>
              <a:t>life cyc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a product to take </a:t>
            </a:r>
            <a:r>
              <a:rPr b="1" i="1" lang="en-US" sz="3200" spc="-1" strike="noStrike">
                <a:solidFill>
                  <a:srgbClr val="2a3d7a"/>
                </a:solidFill>
                <a:latin typeface="Times New Roman"/>
              </a:rPr>
              <a:t>shared responsibilit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 reducing the health and environmental impacts that result from the production, use, and end-of-life management of the produc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Arial Narrow"/>
                <a:ea typeface="Arial"/>
              </a:rPr>
              <a:t>What is the Product Stewardship Institute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819520"/>
            <a:ext cx="7924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Non-Profit, Based in Boston, founded in 2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Membershi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e68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32 Sta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e68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29 Local Agen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Adjunct Council (proposed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Multi-stakeholder product stewardship networ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97280" y="3139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2286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762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Perpetua"/>
              </a:rPr>
              <a:t>PSI State Coalition and Affiliate Memb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coalitionmemmap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9246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y was the Product Stewardship Institute Created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698560"/>
            <a:ext cx="838224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nified voice: State and Local Government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scal relief for government on waste issu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bjective data for decision-mak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orum for collaboration with indu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ationally coordinated systems/harmonized regul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hanced environmental prote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Proje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1102"/>
                </a:solidFill>
                <a:latin typeface="Arial"/>
              </a:rPr>
              <a:t>Pharmaceutica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Pain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Mercury Thermosta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Radioactive Devi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Telephone book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8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Ti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Beverage contain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Motor o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Gas Cylind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Dialogue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Researc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harmaceutical Stewardship Action Pl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alogu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4 meetings over a year (“negotiations”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orkgroup conference calls on priority solu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mplementation of projects/initiati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Pharmaceutical Product Stewardship Action Pl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blem Stat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c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ey Issu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tential Solu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Foc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wanted/waste pharmaceutic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usehol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ng-term care facilities (nursing homes, hospice car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T focused o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ersonal care produ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n-pharmaceutical endocrine disrup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y the “sudden” interest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biquitous in our li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howing up in environm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SGS study – 2000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ＭＳ Ｐゴシック"/>
              </a:rPr>
              <a:t>Some classes can act as endocrine disrup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inked to abnormalities and impaired reproductive performance in some specie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ght also be associated with changes in immunity and behavior, and skeletal deformitie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llections inhibited by regulation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mary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aluate need for coordinated management of unwanted/waste pharmaceuticals within the U.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ject will evaluate the adequacy of the municipal waste collection system for disposal of unused medicines and consider more favorable alternativ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ptions will include both a nationally-coordinated system and regional/local solu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mary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"/>
                <a:ea typeface="Times New Roman"/>
              </a:rPr>
              <a:t>Increase the safe, legal, and environmentally protective collection and/or disposal of unwanted/waste pharmaceuticals through the development of best management practi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econdary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dentify opportunities for reducing unwanted/waste pharmaceutical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aluate the amount of unwanted/waste pharmaceuticals available for proper managem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merging Agreements/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ed to better understand the extent of the potential proble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gree to which amounts detected can impact the environm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mount/percentage contribution from disposal vs. excre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vel of precaution necessar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merging Agreements/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harmaceuticals should not be flushed down the toil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they be safely disposed of in tras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itially focus resources on managing unwanted and waste pharmaceuticals from nursing homes, hospice care, and other long-term care faciliti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merging Agreements/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duce regulatory barriers for voluntary take-back program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ent law is protective – continuous chain of custody for controlled substances…but expensive and unsustainabl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ther 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il-bac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le of reverse distributors in take-back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y a National Dialogue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void multiple state laws, regulations, and program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ve resources – share information,  coordination of pilot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ingle forum on issues and solution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quires involvement of key stakeholders to get best solu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lows for open involvement through networks – stretch limited resourc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Role in Dialogu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acilitate/mediate the dialog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vide technical research and analy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sign and implement pilot proj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earinghouse for pharmaceuticals product stewardship policies, programs, and data.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www.productstewardship.us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lue holding the pieces together…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mary Play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harmaceutical companies/associ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search and Development (Pfizer, GSK, AstraZenica, Roch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ver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harmac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WTP and Water Treatment Associ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verse distribu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3 Classes of Pharmaceutic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ver the Counter (OT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escrip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trolled substances (10-15%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Next Steps: PSI Dialogue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plete Action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logue (Pending funding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For More Information Contact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cott Cass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SI Executive Director/Found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617-236-485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scott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stewardship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.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www.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productstewardship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.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are the sourc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101680"/>
            <a:ext cx="815364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xcretion (human, anima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pos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ng-term care (e.g., nursing homes, group homes, hospice, etc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me dispos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nimal loc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Consensus: Percentage contributed by each sour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are the disposal pathway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lus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p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WTP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biosolids and discharged to streams (after treatment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arbag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ined landfills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Landfill leachate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WTP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biosolids and discharged to strea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nlined landfil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How are they regulated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regulated by RCR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regulated by RCRA but 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should b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based on characteristic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are Controlled Substances regulated by DEA under Controlled Substances Ac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re is an HHW exemption for individuals regardless of toxicit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re is an HHW exemption for collection in 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sta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consensus on whether pharmaceuticals present in environment are linked to human health or environmental problem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consensus on the amount of waste/unwanted pharmaceuticals entering environm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pharmaceuticals that should be regulated by RCRA are n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’t legally collect controlled substances from the public without costly law enforcement and trac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urrent Pilot Projects for Pharmaceutic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s at hospit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s at pharmac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s at central locations (e.g. Senior centers, HHW facilities, and clinic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elected Pilot Projects for Pharmaceutic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achua County, F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lo Alto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ark County, W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rin County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.A. and Orange County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rtheast region (NERC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rthwest reg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C, Cana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7:17:41Z</dcterms:created>
  <dc:creator>Tiferet Zimmern-Kahan</dc:creator>
  <dc:description/>
  <dc:language>en-US</dc:language>
  <cp:lastModifiedBy>Scott Cassel</cp:lastModifiedBy>
  <dcterms:modified xsi:type="dcterms:W3CDTF">2006-10-05T15:07:31Z</dcterms:modified>
  <cp:revision>56</cp:revision>
  <dc:subject/>
  <dc:title>Product Stewardship Institute: Pharmaceutical Stewardship</dc:title>
</cp:coreProperties>
</file>