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8324-0A75-4479-8BAA-D4C44DA5D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8080" y="6793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3240" y="4375080"/>
            <a:ext cx="503568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s government a unified “voice” in trying to negotiate solutions collaboratively with large indus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I projects and dialogues on several material typ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rcury thermost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 cyli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w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rmaceutical w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active wa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tici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730-AD1C-41B4-9480-00DAE1C6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55E-429B-4F88-8081-7080AF1C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523-F1E3-40B8-92F5-C39347F0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688-76B2-427B-BF40-4E0D62A2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4589-24EC-4708-B212-A08AA05A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95F8-A744-47C7-B29B-21474498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AAB4-E0EC-4ED3-B72D-37116E3D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7B4C-B5E2-4800-8945-CB4C8A67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D3B3-3099-48BF-834C-E35C0122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6960-DF9F-4023-9C15-3BE71743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71B7-FF71-4372-954F-A25C1321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2EC-DDF3-4DA9-BA0F-46A2DECF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EEC1-CB27-4849-AA57-3629C86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469A-49C5-4871-BF4B-82CE7808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9FEB-7610-4144-9056-8B478AC5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94C8-7321-466A-9BC5-6149E89E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11E9-C566-4A62-A394-275368F4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9AA-F1BB-447C-A646-D6F41024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CCF-30AD-412F-AF0C-F44386FC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8DE-7BD7-4F92-B289-5408E8A9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4A4-202C-430F-88A5-9CA50D31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EA4-6574-45AE-A73D-0AED4D8E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89B-1865-4D75-8866-6CABEEF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ABF-C3FE-4CDB-99CA-0BE90460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E2B0-779D-4111-8F43-C76F87C27F1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6B34-0DF6-40EA-A62F-71B482D9C46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roductstewardship.us/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scott@productstewardship.us" TargetMode="External"/><Relationship Id="rId2" Type="http://schemas.openxmlformats.org/officeDocument/2006/relationships/hyperlink" Target="mailto:scott@productstewardship.us" TargetMode="External"/><Relationship Id="rId3" Type="http://schemas.openxmlformats.org/officeDocument/2006/relationships/hyperlink" Target="mailto:scott@productstewardship.us" TargetMode="External"/><Relationship Id="rId4" Type="http://schemas.openxmlformats.org/officeDocument/2006/relationships/hyperlink" Target="mailto:scott@productstewardship.us" TargetMode="External"/><Relationship Id="rId5" Type="http://schemas.openxmlformats.org/officeDocument/2006/relationships/hyperlink" Target="http://www.productstewardship.us/" TargetMode="External"/><Relationship Id="rId6" Type="http://schemas.openxmlformats.org/officeDocument/2006/relationships/hyperlink" Target="http://www.productstewardship.us/" TargetMode="External"/><Relationship Id="rId7" Type="http://schemas.openxmlformats.org/officeDocument/2006/relationships/hyperlink" Target="http://www.productstewardship.us/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1048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3d7a"/>
                </a:solidFill>
                <a:latin typeface="Times New Roman"/>
              </a:rPr>
              <a:t>Product Stewardship for Waste/Unwanted Pharmaceuticals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57400" y="41911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cott Cassel, Executive Director Product Stewardship Institute, Inc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ACWA Conference 200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w Orleans, L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harmaceutical Take-back Programs Must Addr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772400" cy="36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erns of anonym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urity of collection metho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lection of Controlled Substanc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pliance with national/local hazardous waste legisl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o are the Catalyst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ave Galvin, King County W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urie Tenace, FL DE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Karin North, Palo Alto,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ther Funder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an Francisco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anta Monica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an Benito County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entral VT Solid Waste Mgt Agenc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3d7a"/>
                </a:solidFill>
                <a:latin typeface="Times New Roman"/>
              </a:rPr>
              <a:t>What is Product Stewardship?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t Stewardship" is a principle that directs all those involved in the </a:t>
            </a:r>
            <a:r>
              <a:rPr b="1" i="1" lang="en-US" sz="3200" spc="-1" strike="noStrike">
                <a:solidFill>
                  <a:srgbClr val="2a3d7a"/>
                </a:solidFill>
                <a:latin typeface="Times New Roman"/>
              </a:rPr>
              <a:t>life cyc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a product to take </a:t>
            </a:r>
            <a:r>
              <a:rPr b="1" i="1" lang="en-US" sz="3200" spc="-1" strike="noStrike">
                <a:solidFill>
                  <a:srgbClr val="2a3d7a"/>
                </a:solidFill>
                <a:latin typeface="Times New Roman"/>
              </a:rPr>
              <a:t>shared responsibilit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 reducing the health and environmental impacts that result from the production, use, and end-of-life management of the produc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83808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3d7a"/>
                </a:solidFill>
                <a:latin typeface="Arial Narrow"/>
                <a:ea typeface="Arial"/>
              </a:rPr>
              <a:t>What is the Product Stewardship Institute?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819520"/>
            <a:ext cx="7924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Narrow"/>
                <a:ea typeface="Arial"/>
              </a:rPr>
              <a:t>Non-Profit, Based in Boston, founded in 200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Narrow"/>
                <a:ea typeface="Arial"/>
              </a:rPr>
              <a:t>Membershi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e68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  <a:ea typeface="Arial"/>
              </a:rPr>
              <a:t>32 Stat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e68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 Narrow"/>
                <a:ea typeface="Arial"/>
              </a:rPr>
              <a:t>29 Local Agen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Narrow"/>
                <a:ea typeface="Arial"/>
              </a:rPr>
              <a:t>Adjunct Council (proposed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Narrow"/>
                <a:ea typeface="Arial"/>
              </a:rPr>
              <a:t>Multi-stakeholder product stewardship networ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97280" y="3139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2286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7621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Perpetua"/>
              </a:rPr>
              <a:t>PSI State Coalition and Affiliate Memb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coalitionmemmap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9246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y was the Product Stewardship Institute Created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698560"/>
            <a:ext cx="838224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nified voice: State and Local Government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iscal relief for government on waste issu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bjective data for decision-mak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orum for collaboration with indu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ationally coordinated systems/harmonized regul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2a3d7a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nhanced environmental prote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SI Projec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1102"/>
                </a:solidFill>
                <a:latin typeface="Arial"/>
              </a:rPr>
              <a:t>Pharmaceutica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Paint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Electron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Mercury Thermosta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Radioactive Devi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Telephone book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28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Ti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Beverage contain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Motor oi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Gas Cylind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2a3d7a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SI Dialogue 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Researc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harmaceutical Stewardship Action Pl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alogu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4 meetings over a year (“negotiations”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orkgroup conference calls on priority solu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mplementation of projects/initiati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SI Pharmaceutical Product Stewardship Action Pla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blem State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c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Key Issu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otential Solu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c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Foc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wanted/waste pharmaceutic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usehol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ng-term care facilities (nursing homes, hospice car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T focused o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ersonal care produc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n-pharmaceutical endocrine disrupto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y the “sudden” interest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biquitous in our liv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howing up in environm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SGS study – 2000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ＭＳ Ｐゴシック"/>
              </a:rPr>
              <a:t>Some classes can act as endocrine disrupto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inked to abnormalities and impaired reproductive performance in some species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ight also be associated with changes in immunity and behavior, and skeletal deformitie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llections inhibited by regulation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rimary Go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aluate need for coordinated management of unwanted/waste pharmaceuticals within the U.S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ject will evaluate the adequacy of the municipal waste collection system for disposal of unused medicines and consider more favorable alternativ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ptions will include both a nationally-coordinated system and regional/local solution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rimary Go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"/>
                <a:ea typeface="Times New Roman"/>
              </a:rPr>
              <a:t>Increase the safe, legal, and environmentally protective collection and/or disposal of unwanted/waste pharmaceuticals through the development of best management practi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Secondary Go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dentify opportunities for reducing unwanted/waste pharmaceutical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aluate the amount of unwanted/waste pharmaceuticals available for proper managem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Emerging Agreements/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ed to better understand the extent of the potential proble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gree to which amounts detected can impact the environm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mount/percentage contribution from disposal vs. excret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vel of precaution necessar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Emerging Agreements/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harmaceuticals should not be flushed down the toil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they be safely disposed of in tras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itially focus resources on managing unwanted and waste pharmaceuticals from nursing homes, hospice care, and other long-term care faciliti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Emerging Agreements/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duce regulatory barriers for voluntary take-back program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urrent law is protective – continuous chain of custody for controlled substances…but expensive and unsustainabl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Other 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il-bac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us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le of reverse distributors in take-back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y a National Dialogue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815328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void multiple state laws, regulations, and program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ave resources – share information,  coordination of pilot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ingle forum on issues and solution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quires involvement of key stakeholders to get best solutio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llows for open involvement through networks – stretch limited resourc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SI Role in Dialogu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acilitate/mediate the dialog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vide technical research and analys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sign and implement pilot projec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earinghouse for pharmaceuticals product stewardship policies, programs, and data. 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www.productstewardship.us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lue holding the pieces together…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Primary Player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harmaceutical companies/associ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search and Development (Pfizer, GSK, AstraZenica, Roch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vern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harmaci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WTP and Water Treatment Associ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verse distributo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3 Classes of Pharmaceutic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ver the Counter (OT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escrip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trolled substances (10-15%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Next Steps: PSI Dialogue Proc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mplete Action Pl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logue (Pending funding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For More Information Contact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cott Cass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SI Executive Director/Found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617-236-4855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scott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roductstewardship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.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www.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productstewardship</a:t>
            </a: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.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at are the sourc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101680"/>
            <a:ext cx="815364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xcretion (human, anima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pos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ng-term care (e.g., nursing homes, group homes, hospice, etc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me dispos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nimal loca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Consensus: Percentage contributed by each sour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What are the disposal pathway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lus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pt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WTP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biosolids and discharged to streams (after treatment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arbag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ined landfills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Landfill leachate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WTP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biosolids and discharged to strea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Unlined landfil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How are they regulated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 regulated by RCR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 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regulated by RCRA but 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should b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based on characteristic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 are Controlled Substances regulated by DEA under Controlled Substances Ac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re is an HHW exemption for individuals regardless of toxicity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re is an HHW exemption for collection in 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sta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Key Iss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 consensus on whether pharmaceuticals present in environment are linked to human health or environmental problem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 consensus on the amount of waste/unwanted pharmaceuticals entering environmen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me pharmaceuticals that should be regulated by RCRA are n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’t legally collect controlled substances from the public without costly law enforcement and trac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urrent Pilot Projects for Pharmaceutic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lections at hospit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lections at pharmac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llections at central locations (e.g. Senior centers, HHW facilities, and clinic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Selected Pilot Projects for Pharmaceutical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lachua County, F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alo Alto,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lark County, W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rin County,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.A. and Orange County, 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rtheast region (NERC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rthwest regio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C, Cana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7:17:41Z</dcterms:created>
  <dc:creator>Tiferet Zimmern-Kahan</dc:creator>
  <dc:description/>
  <dc:language>en-US</dc:language>
  <cp:lastModifiedBy>Scott Cassel</cp:lastModifiedBy>
  <dcterms:modified xsi:type="dcterms:W3CDTF">2006-10-05T15:07:31Z</dcterms:modified>
  <cp:revision>56</cp:revision>
  <dc:subject/>
  <dc:title>Product Stewardship Institute: Pharmaceutical Stewardship</dc:title>
</cp:coreProperties>
</file>