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4D9-E2E2-4814-BA0C-CBDF5327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444-F0A9-4254-B0F7-1CBE6373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73D-17D4-4880-8516-3E54C370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24A-4CF4-445B-A6AB-4A11C91E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4C3-C4E7-41DF-96CC-11BE9CA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1F15-5F50-437C-98E7-712C30D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B596-5BCB-4E4E-9CC7-1690DC1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F723-3B5F-45B5-8FC6-71DD6BCE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169-982D-4026-8F59-A530572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0E88-CB51-4A46-B258-D335DD5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6C5F-2C09-4180-A39B-16DF962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FE1-6A98-4A9D-9411-AEF94214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D2B-FFCE-4FC5-BD5F-D5BC480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2158-BED9-4FC7-AC76-2643C37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A89D-CE2C-4AF5-B076-31526CF3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AB3-C0E8-40BB-A9F3-2BE0EB58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D70-A127-45D3-AF40-78263EFC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187-BF99-4932-9F4A-FE901DFC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2E0-7873-4A52-9479-FA1CB2B4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612-A0FA-4797-8917-AF4144F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863-FCD2-46B6-971A-97C2845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EAB-96E8-4230-A7E7-52DB7CA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BA2-44BA-435D-83CE-481A2E1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7BE-A0EB-4086-AE2E-2A1FC46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046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0469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998D-383B-4567-95BC-04A1E3F24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2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2006 Textile Rental Services Association of America / 1800 Diagonal Road, Suite 200 / Alexandria, VA 22314 / 877-770-9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5BF-F290-4BCB-841A-4BF94C45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 National Pretreatment and Pollution Prevention Worksh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920" y="3201480"/>
            <a:ext cx="56977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ylphenol Ethoxylates and SD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172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Laundry Industry Comments by Robert Schaffer, TRSA Dir. Env.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LAUNDRY INDUS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l facilities discharge to POTW’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~ 1300 individual pla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SA/UTSA represent ~ 9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LAUNDRY INDUS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Industry Endorses Voluntary Programs when there are Demonstrated and Measureable Benefi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a demonstrated success with LaundryES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shown a significant reduction of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ater 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ergy 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harge of Pollut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are continuing the progra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UNDRY INDUSTRY CONCERNS WITH EPA’s SDSI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proven need for SD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emonstrated environmental problem from NP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emonstrated National Water Quality problem with NP’s from our industry or from all wastewater dischar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9% of the NP concentrations found in national survey &lt; Chronic NP WQ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tory control mechanisms are presently available (WQC for N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undry industry &lt; 10% of NP discharges to POTW’s (Chicago Stud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RNS CON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7480" y="1652760"/>
            <a:ext cx="87850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PA response to data evaluations indicating lack of environmental and especially water quality impacts (APE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ERC’s scientific evaluation asser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quatic toxicity drove US, Canada, and EU risk assessment, not endocrine disru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/NPE not persistent or bioaccumula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E’s used in laundries are not estrogen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 exhibits weak estrogenic activity at least 10,000 times less than human estroge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S OF SDSI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PA encourages States to ban NPE detergent 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ernatives are available but are significantly more cos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liers will have to carry duplicate inventories (more co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gative impact on small busi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mounts to defacto regu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wide spread NP water quality problem has been show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aundries are a minor source of NP’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equate regulatory control of NP in wastewater is in 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ruption of the laundry industry is unwarran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2:33:25Z</dcterms:created>
  <dc:creator> </dc:creator>
  <dc:description/>
  <dc:language>en-US</dc:language>
  <cp:lastModifiedBy> </cp:lastModifiedBy>
  <dcterms:modified xsi:type="dcterms:W3CDTF">2006-09-18T20:42:05Z</dcterms:modified>
  <cp:revision>12</cp:revision>
  <dc:subject/>
  <dc:title>Slide 1</dc:title>
</cp:coreProperties>
</file>