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AE7-0E27-4132-A1DD-A46BA9AB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6F6-DD32-4B03-9552-EB5E9D4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40B-8C5B-40E6-9D99-D9B03745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EB1-E90F-4F22-8010-84525521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8DF4-B8BF-4716-8D1E-4E2D697A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05F1-7172-48C3-8DF3-7D7CB67E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FFF2-B27D-4719-BD8E-AFCF3A8A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5B7A-2ADA-4A13-9FA2-149C29D5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ADC1-EB26-4F64-A6C0-3B649B57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1856-E111-4DBD-ADF6-F5C1851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D28B-05A4-471B-BD9C-DC0FB6BC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097-AB95-4B1B-814F-1B122B57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0866-C015-4729-ABAC-424CC208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337B-8262-4BCA-885D-BF65233A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0300-9F03-4228-BC53-40CDEB83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7620-CDF5-458C-991F-86A4B93B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B5E6-95E7-455D-8ABF-DA42C138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DE3-2C6D-4F23-A9BF-168D3004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0BF-A582-4A55-9E62-8AE6E7CF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958-D7F3-4B69-B701-A1132A9B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3BF-306A-4B00-9A38-DABCEA7B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89B-D883-4560-A7EC-2492825C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A1D-0703-4185-92FF-EBE3F28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2AB-C6B2-4F0D-83A9-9DC3542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046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0469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5B83-77B5-4522-B734-A45FD1C27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2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2006 Textile Rental Services Association of America / 1800 Diagonal Road, Suite 200 / Alexandria, VA 22314 / 877-770-92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42E9-D9C9-49AA-845B-6A2D05BFF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6 National Pretreatment and Pollution Prevention Worksh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920" y="3201480"/>
            <a:ext cx="569772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ylphenol Ethoxylates and SD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6172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 Laundry Industry Comments by Robert Schaffer, TRSA Dir. Env.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AL LAUNDRY INDUS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ll facilities discharge to POTW’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~ 1300 individual pla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SA/UTSA represent ~ 9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AL LAUNDRY INDUS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ur Industry Endorses Voluntary Programs when there are Demonstrated and Measureable Benefi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a demonstrated success with LaundryES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shown a significant reduction of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ater 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ergy 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harge of Pollut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are continuing the progra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UNDRY INDUSTRY CONCERNS WITH EPA’s SDSI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ck of proven need for SD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emonstrated environmental problem from NP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emonstrated National Water Quality problem with NP’s from our industry or from all wastewater dischar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9% of the NP concentrations found in national survey &lt; Chronic NP WQ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tory control mechanisms are presently available (WQC for N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undry industry &lt; 10% of NP discharges to POTW’s (Chicago Stud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RNS CON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7480" y="1652760"/>
            <a:ext cx="87850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PA response to data evaluations indicating lack of environmental and especially water quality impacts (APE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ERC’s scientific evaluation asser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quatic toxicity drove US, Canada, and EU risk assessment, not endocrine disru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P/NPE not persistent or bioaccumula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PE’s used in laundries are not estrogen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P exhibits weak estrogenic activity at least 10,000 times less than human estroge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S OF SDSI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PA encourages States to ban NPE detergent 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ernatives are available but are significantly more cost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liers will have to carry duplicate inventories (more cos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gative impact on small busi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mounts to defacto regul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wide spread NP water quality problem has been show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aundries are a minor source of NP’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equate regulatory control of NP in wastewater is in pl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ruption of the laundry industry is unwarrant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2:33:25Z</dcterms:created>
  <dc:creator> </dc:creator>
  <dc:description/>
  <dc:language>en-US</dc:language>
  <cp:lastModifiedBy> </cp:lastModifiedBy>
  <dcterms:modified xsi:type="dcterms:W3CDTF">2006-09-18T20:42:05Z</dcterms:modified>
  <cp:revision>12</cp:revision>
  <dc:subject/>
  <dc:title>Slide 1</dc:title>
</cp:coreProperties>
</file>