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C37-391A-49F5-AF7F-4C5BA2F65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24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D4D-9301-4215-B6DA-D39A5768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ull text in handou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ltiyear rate setting, revise penalty and interest provisions, clarify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26920" y="696960"/>
            <a:ext cx="522936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867-EA99-4D6D-AA84-93045C9C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6E9-B8E3-4C4C-8AA9-57487B08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772-55C9-42B1-AED3-39A2EFA3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F32-B272-4A23-91B0-4120831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A86-8EBD-4BC0-A4B9-8500D4E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1C5-58AE-4C05-95A3-AFB1527A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063-82CE-470B-9142-A83D1CF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BFC-46BE-4E47-9CF3-1A06CF0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D82-9E03-40F6-BD6C-7D066D17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937-CF50-46E0-9265-62F96A9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319-25D7-4FDA-B3EC-4E82454A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20C-F735-414A-B32B-4AF07EF2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EC7-FB32-44B9-B3FF-36D0FE219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10287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Pretreatment Streamlining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Local Perspectiv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tober 4 , 200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. Marty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d, Industrial Waste S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LOGO1" descr=""/>
          <p:cNvPicPr/>
          <p:nvPr/>
        </p:nvPicPr>
        <p:blipFill>
          <a:blip r:embed="rId1"/>
          <a:stretch/>
        </p:blipFill>
        <p:spPr>
          <a:xfrm>
            <a:off x="2514600" y="510552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400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#6921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s must be evaluated for the need for a plan or other action to control slug discharges within a year from the final rule’s effective date or from becoming an SIU [403.8(f)(2)(vi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s are required to notify the POTW immediately of any changes at its facility affecting the potential for a slug discharg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2)(vi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gnificant Noncompliance (SNC) definition is expanded to include additional types of Pretreatment Standards and Requiremen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2)(viii)(A-C)]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 reports must include BMP compliance inform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b), (e), (h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U control mechanisms must contain any BMPs required by a Pretreatment Standard, local limits, state or local law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1)(iii)(B)(3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cumentation of compliance with BMP requirements must be maintained as part of the SIU’s and POTW’s record-keeping requiremen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o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ol Authorities which perform sampling for SIUs must perform any required repeat sampling and analysis within 30 days of becoming aware of a viol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2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 periodic compliance reports to comply with sampling requirements, require Control Authority to specify the number of grab samples necessary in periodic and non-categorical SIU reports, and require non-categorical SIUs to report all monitoring resul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3), (4), (6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-Categorical SIUs are required to provide representative samples in their periodic monitoring repor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g)(3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 notifications of changed discharge to go to the Control Authority and the POTW, where the POTW is not the Control Authori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j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43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EPA  Proposes Pretreatment Streamlining Rule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4495320"/>
            <a:ext cx="8743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ly 22, 199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and when the POTW can designate a “duly authorized employee” to sign POTW repor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12(m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744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Final Pretreatment Streamlining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886200"/>
            <a:ext cx="8743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le Published: October 14, 200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ive Date: November 14, 200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896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s Angeles County Sanit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rict Program Submittal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RWQCB – March 6, 200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352680"/>
            <a:ext cx="8744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ion to Mass Limit to Concentration Li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g Discharge Control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C Reporting Ex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pling for Pollutants Not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ual Sampling for Categorical Industrial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7440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gional Water Quality Control Boar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 – March 28, 2006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mature and Incomple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A February 2006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treatment Streamlining Rul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t Sheet  2.0: Required Chan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120" y="4190760"/>
            <a:ext cx="8744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, there are required changes in the   Pretreatment Streamlining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WQCB Notice to Los Angeles Area POT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datory Provisions of Streamlining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982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8(f)(1)(iii)(B)(6) Clarification that slug control requirements must be referenced in SIU control mechan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8(f)(2)(viii)(A-C) Revisions to the SNC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CFR 403.12(g) Modifications to the sampling requirements and clarification of the requirement to report all monitoring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dated removal credits provi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7(h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lug control requirements must be included in SIU control mechanism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[403.8(f)(1)(iii)(B)(6)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ddarger</cp:lastModifiedBy>
  <cp:lastPrinted>2002-01-11T22:25:12Z</cp:lastPrinted>
  <dcterms:modified xsi:type="dcterms:W3CDTF">2006-09-19T20:23:34Z</dcterms:modified>
  <cp:revision>302</cp:revision>
  <dc:subject/>
  <dc:title>Title goes here</dc:title>
</cp:coreProperties>
</file>