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ED51-EC31-40A6-BFB4-71FCA2648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on of Metropolitan Sewerage Agencies (AMSA)….who soon after this statement became known as the National Association of Clean Water Agencies (NACW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3B1-473D-4473-AFBE-C043BA6B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3B2-B793-40F3-B212-25E2E380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067-853C-45D5-BC12-70D204A8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523-0EBD-48C6-A40D-36EFD7B9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D144-9A6C-4DBC-AE71-1B62A257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E6A3-F629-4533-A4AB-69AF896C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3BC5-66CB-4AA4-9A58-A3F436D7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7CBF-2D08-41C0-AEB9-18921A4F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50B8-3534-4808-9A8F-81867E05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1FBA-ADD8-4002-B41D-288C6508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B348-26E3-45DA-A096-07BFDF48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BCF-A0CE-47F8-8285-6BDE4EE9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6541-C7A0-4E88-A1C6-BCB9AC56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0E0B-A277-4D1B-ACB3-C07A5BD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A9BF-1DD7-49CC-A49E-5F123617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3463-545E-4037-A0AB-78E2039C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7882-7D93-4C37-AA21-CE735BAE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501-4211-4D96-A4E0-AE79E60A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F97-B84E-435F-8CA2-E3F13AD4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45C-AD07-4230-9CCE-EDB0FEF0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283-630A-44E6-BE6B-0164C5B2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63A-9715-47ED-87B6-5CC41A8A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22E-2B76-4E47-BA32-38DA57DB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37F-41E8-4DB4-BA42-8BF7797E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A663-976D-4E2E-9F20-AD929D63C6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3D53-2EC3-4B94-A663-5BAF395800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paring Today’s Pretreatment Professional for the Demands of Tomorrow…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ional Pretreatment Program Update:  “The Demands of Toda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PA Effluent Guidelines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New Categorical Standar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inking Water treatment residua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port Deic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 Servic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lorine and chlorinated hydrocarbons mf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echnically based local limits currently addressing these categor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MPs allowed by Streamlining address these discharg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Issues at the National and State Level(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and More TMD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ing in extremely stringent NPDES permit limits and related MAHLs for affected pollutants [e.g. mercury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trient TMD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reatment Program must respond to “limits of technology” NPDES permit limits for total phosphorus and total nitro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Issues at the National and State Level(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6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d Water Quality Standards [WQS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pdated EPA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 North Carolina proposes change in cadmium freshwater WQS from 2 ppb to 0.16 pp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Ws expected to accept NPDES permit limit they cannot meas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ificant Pretreatment Program im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HLs so small that uncontrollable load alone exceeds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50% of NC POTWs will be in this situ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dustrial user can have detectable cadmium values [using 2 ppb lower reporting leve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Issues at the National and State Level(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treatment Baby Boomer Retirement “Brain and Experience Drai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all levels:  EPA…State…POTW…SI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pretreatment training/pretreatment certification program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T Dinosaurs in all agencies need to develop formal approach to pass on the information/lessons learned from the last 3 dec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ation’s wastewater treatment facilities [and pretreatment programs] serve on the front lines of environmental protection.  It is time for agencies which have long been identified with the untreated sewage coming into their faciliti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rect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ssertive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sociate themselves with the significant resource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.clean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609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We Ready for the Challenges to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638680" cy="451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7:33:23Z</dcterms:created>
  <dc:creator>City of</dc:creator>
  <dc:description/>
  <dc:language>en-US</dc:language>
  <cp:lastModifiedBy>City of</cp:lastModifiedBy>
  <dcterms:modified xsi:type="dcterms:W3CDTF">2003-11-13T18:32:26Z</dcterms:modified>
  <cp:revision>10</cp:revision>
  <dc:subject/>
  <dc:title>Preparing Today’s Pretreatment Professional for the Demands of Tomorrow….</dc:title>
</cp:coreProperties>
</file>