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4C4C-5AFA-4764-A4B0-59EA75CAB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on of Metropolitan Sewerage Agencies (AMSA)….who soon after this statement became known as the National Association of Clean Water Agencies (NACW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733-84F7-44A8-8A34-64776B0C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41F-2927-4272-AFED-9081AFB3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2DD-2577-4A23-AF53-533634CC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C37-4B37-4CE6-AB59-02B63FEF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8D6C-B7AF-4C58-9CDD-9DB6F640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8030-DC9A-4979-91AF-971E30D9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7EF8-C159-4BA9-BA8E-369376B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9069-B710-4479-A5AB-92123630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F13B-B4CE-4DDB-9CB4-92904326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9EDA-B8D6-40FA-A205-0BB7758F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04C3-860D-4DD1-9BE6-050F7715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EBC-ED66-403F-BB59-D14CF3EB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5173-76D4-44AC-8726-B157AC9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7DE4-5908-49F8-ADC7-DE1BAEB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0697-386C-4293-ACAC-2BDD9D7A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D3E5-0B0F-47A3-95F7-553C1766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34CA-C15E-42B8-AEC6-0E805B95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1B5-5860-412F-AB68-8310FB92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788-EECB-439A-BB60-FAEF2209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385-D044-4101-AF9A-B507D653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8A6-1418-4839-BA10-14CEC975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2D1-F623-4507-BF72-6B017B97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8FC-D8AC-42EC-972B-563C13A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8B0-AD3A-41BA-9211-A75E6C16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3310-7037-4FF5-B96A-EC27A91C1B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FA76-975B-401F-B9B6-197DEED8DA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paring Today’s Pretreatment Professional for the Demands of Tomorrow…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ional Pretreatment Program Update:  “The Demands of Toda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PA Effluent Guidelines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New Categorical Standar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inking Water treatment residu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port Deic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Servic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lorine and chlorinated hydrocarbons mf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echnically based local limits currently addressing these categor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MPs allowed by Streamlining address these discharg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Issues at the National and State Level(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and More TMD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ing in extremely stringent NPDES permit limits and related MAHLs for affected pollutants [e.g. mercury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trient TMD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reatment Program must respond to “limits of technology” NPDES permit limits for total phosphorus and total nitro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Issues at the National and State Level(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6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d Water Quality Standards [WQ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pdated EPA Crite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 North Carolina proposes change in cadmium freshwater WQS from 2 ppb to 0.16 pp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Ws expected to accept NPDES permit limit they cannot meas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ificant Pretreatment Program im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HLs so small that uncontrollable load alone exceeds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 50% of NC POTWs will be in this situ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dustrial user can have detectable cadmium values [using 2 ppb lower reporting leve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Issues at the National and State Level(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treatment Baby Boomer Retirement “Brain and Experience Drai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all levels:  EPA…State…POTW…SI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pretreatment training/pretreatment certification program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T Dinosaurs in all agencies need to develop formal approach to pass on the information/lessons learned from the last 3 dec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153280" cy="5410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ation’s wastewater treatment facilities [and pretreatment programs] serve on the front lines of environmental protection.  It is time for agencies which have long been identified with the untreated sewage coming into their faciliti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ssertive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sociate themselves with the significant resource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.clean 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609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We Ready for the Challenges to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638680" cy="451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7:33:23Z</dcterms:created>
  <dc:creator>City of</dc:creator>
  <dc:description/>
  <dc:language>en-US</dc:language>
  <cp:lastModifiedBy>City of</cp:lastModifiedBy>
  <dcterms:modified xsi:type="dcterms:W3CDTF">2003-11-13T18:32:26Z</dcterms:modified>
  <cp:revision>10</cp:revision>
  <dc:subject/>
  <dc:title>Preparing Today’s Pretreatment Professional for the Demands of Tomorrow….</dc:title>
</cp:coreProperties>
</file>