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525-BDE6-4E83-B28C-A02385E4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0A8-E205-411C-951A-4FA154C8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88F-6BE2-4084-8E8C-085D4A08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EB4-1B5E-4D1F-93D9-35224C6E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45A3-2975-4976-8044-02328EF8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520A-FD1D-4E53-A975-FA4148D7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82FD-7373-4403-9B75-C714ECC8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C9D7-483A-4404-9619-4FD719A1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99EE-9CB3-4DD5-BE20-B97C697B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483B-32C9-421A-AAEF-014436A0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9F99-9DFF-4C05-921A-09BEEB09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7AF-8F2E-4B90-91B4-DFD9085D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9918-BC02-49F6-9542-B7D918F6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DB64-31E6-4BA9-A43F-537D9B2F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9074-E7BC-4032-965D-8A8A047A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AB21-DF3D-418A-B7C6-44101C55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CAC6-FB83-4B9D-94CF-00FF17A0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CD6-9F35-424A-B8E1-AE7ADBC1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D2B-3B1F-45C7-96E9-DA402056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EAF-CC17-4582-9CD9-88A67FB2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46A-E081-415A-BC9C-2E00D427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7C5-4AB1-433D-9918-0EAA78C5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CF7-9C0F-48DE-87C8-91C31319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34B-5B05-4DE2-9833-8C48ADCB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90C9-8B10-4340-A76B-2CB25EECE82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" name="waterdrop" descr=""/>
          <p:cNvPicPr/>
          <p:nvPr/>
        </p:nvPicPr>
        <p:blipFill>
          <a:blip r:embed="rId10"/>
          <a:stretch/>
        </p:blipFill>
        <p:spPr>
          <a:xfrm>
            <a:off x="0" y="-38088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70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7A7F-7CF1-4ED5-8575-6DA9D8A3B77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waterdrop" descr=""/>
          <p:cNvPicPr/>
          <p:nvPr/>
        </p:nvPicPr>
        <p:blipFill>
          <a:blip r:embed="rId3"/>
          <a:stretch/>
        </p:blipFill>
        <p:spPr>
          <a:xfrm>
            <a:off x="0" y="15228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Karin.north@cityofpaloalto.org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Karin.north@cityofpaloalto.or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hyperlink" Target="http://www.baywise.org/" TargetMode="External"/><Relationship Id="rId5" Type="http://schemas.openxmlformats.org/officeDocument/2006/relationships/hyperlink" Target="http://www.baywise.org/" TargetMode="External"/><Relationship Id="rId6" Type="http://schemas.openxmlformats.org/officeDocument/2006/relationships/hyperlink" Target="http://www.baywise.org/" TargetMode="External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8.jpeg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52600" y="761760"/>
            <a:ext cx="803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ahoma"/>
              </a:rPr>
              <a:t>Emerging Contaminants: Fostering New Relationships to Address a New Problem</a:t>
            </a:r>
            <a:endParaRPr b="0" lang="en-US" sz="4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Karin North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595ff"/>
                </a:solidFill>
                <a:uFillTx/>
                <a:latin typeface="Arial"/>
                <a:hlinkClick r:id="rId2"/>
              </a:rPr>
              <a:t>Karin.north@cityofpaloalto.org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650-494-7629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14400" y="2895480"/>
            <a:ext cx="1600200" cy="83844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819520"/>
            <a:ext cx="1523880" cy="990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2819520"/>
            <a:ext cx="1828800" cy="990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1600200"/>
            <a:ext cx="2133720" cy="99072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er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057400" y="2514600"/>
            <a:ext cx="380880" cy="38088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514600"/>
            <a:ext cx="304560" cy="30492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1120" y="2209680"/>
            <a:ext cx="1600200" cy="68580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3962520"/>
            <a:ext cx="259092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OTW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HH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olid Was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ounty Healt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it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Law enforce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4400" y="2895480"/>
            <a:ext cx="1600200" cy="8384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2819520"/>
            <a:ext cx="1523880" cy="99036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2819520"/>
            <a:ext cx="1828800" cy="990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1600200"/>
            <a:ext cx="2133720" cy="99072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er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057400" y="2514600"/>
            <a:ext cx="380880" cy="38088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2514600"/>
            <a:ext cx="304560" cy="30492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2209680"/>
            <a:ext cx="1600200" cy="68580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3962520"/>
            <a:ext cx="335304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Dept of Toxic Substances Contro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Department of Health Servic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Water Boar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3886200"/>
            <a:ext cx="251460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POTW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HH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Solid Was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County Healt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Cit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Law enforce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14400" y="2895480"/>
            <a:ext cx="1600200" cy="8384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819520"/>
            <a:ext cx="1523880" cy="990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2819520"/>
            <a:ext cx="1828800" cy="99036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1600200"/>
            <a:ext cx="2133720" cy="99072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er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057400" y="2514600"/>
            <a:ext cx="380880" cy="38088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2514600"/>
            <a:ext cx="304560" cy="30492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2209680"/>
            <a:ext cx="1600200" cy="68580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3886200"/>
            <a:ext cx="251460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POTW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HH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Solid Was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County Healt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Cit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Law enforce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3962520"/>
            <a:ext cx="350532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Dept of Toxic Substances Contro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Department of Health Servic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Water Boar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3886200"/>
            <a:ext cx="2895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Environmental Protection Agen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rug Enforcement Administr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705720" y="3809880"/>
            <a:ext cx="2209680" cy="12193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2743200"/>
            <a:ext cx="190476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15000" y="1371600"/>
            <a:ext cx="2286000" cy="1371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43480" y="1371600"/>
            <a:ext cx="2057400" cy="106668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48520" y="4876920"/>
            <a:ext cx="1066680" cy="9144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5105520"/>
            <a:ext cx="1219320" cy="9144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4191120"/>
            <a:ext cx="1905120" cy="1295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666880"/>
            <a:ext cx="236232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1828800"/>
            <a:ext cx="2133360" cy="9907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90840" y="2895480"/>
            <a:ext cx="2476440" cy="1524240"/>
          </a:xfrm>
          <a:prstGeom prst="ellipse">
            <a:avLst/>
          </a:prstGeom>
          <a:solidFill>
            <a:srgbClr val="0033cc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304812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765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eutical Compan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16002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ist Associ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0080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rse Distribu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195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4724280"/>
            <a:ext cx="2209680" cy="18288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Wast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429000" y="2590920"/>
            <a:ext cx="53352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0" y="3429000"/>
            <a:ext cx="11430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819520" y="4038480"/>
            <a:ext cx="68580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429000" y="4343040"/>
            <a:ext cx="609480" cy="762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562720" y="2590560"/>
            <a:ext cx="533160" cy="5331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191120"/>
            <a:ext cx="914400" cy="7617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44197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102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86600" y="39625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ail Pharmac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791320" y="3200040"/>
            <a:ext cx="990360" cy="2286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3809880"/>
            <a:ext cx="1066680" cy="38124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543480" y="1371600"/>
            <a:ext cx="2057400" cy="106668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4876920"/>
            <a:ext cx="1066680" cy="9144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5105520"/>
            <a:ext cx="1219320" cy="9144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90840" y="2895480"/>
            <a:ext cx="247644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3535200" y="3048120"/>
            <a:ext cx="20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429000" y="4343040"/>
            <a:ext cx="685800" cy="762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720" y="4191120"/>
            <a:ext cx="914400" cy="7617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15000" y="1447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eed a simple easy disposal op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ree advertis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67480" y="48769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ny partners availab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705720" y="3809880"/>
            <a:ext cx="2209680" cy="121932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2743200"/>
            <a:ext cx="1904760" cy="9144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1371600"/>
            <a:ext cx="2286000" cy="13716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43480" y="1371600"/>
            <a:ext cx="2057400" cy="106668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4876920"/>
            <a:ext cx="1066680" cy="9144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5105520"/>
            <a:ext cx="1219320" cy="9144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6680" y="4191120"/>
            <a:ext cx="1905120" cy="1295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2666880"/>
            <a:ext cx="236232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1828800"/>
            <a:ext cx="2133360" cy="9907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90840" y="2895480"/>
            <a:ext cx="2476440" cy="1524240"/>
          </a:xfrm>
          <a:prstGeom prst="ellipse">
            <a:avLst/>
          </a:prstGeom>
          <a:solidFill>
            <a:srgbClr val="0033cc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304812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3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eutical Compan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16002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ist Associ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rse Distribu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2520" y="4724280"/>
            <a:ext cx="2209680" cy="18288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Wast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3429000" y="2590920"/>
            <a:ext cx="53352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3429000"/>
            <a:ext cx="11430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819520" y="4038480"/>
            <a:ext cx="68580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429000" y="4343040"/>
            <a:ext cx="609480" cy="762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62720" y="2590560"/>
            <a:ext cx="533160" cy="5331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191120"/>
            <a:ext cx="914400" cy="7617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52880" y="44197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86600" y="39625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ail Pharmac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791320" y="3200040"/>
            <a:ext cx="990360" cy="2286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91320" y="3809880"/>
            <a:ext cx="1066680" cy="38124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705720" y="3809880"/>
            <a:ext cx="2209680" cy="121932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05720" y="2743200"/>
            <a:ext cx="1904760" cy="9144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5000" y="1371600"/>
            <a:ext cx="2286000" cy="13716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90840" y="2895480"/>
            <a:ext cx="247644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3535200" y="3048120"/>
            <a:ext cx="20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16002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ist Associ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562720" y="2590560"/>
            <a:ext cx="533160" cy="5331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102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3962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ail Pharmac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791320" y="3200040"/>
            <a:ext cx="990360" cy="2286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1320" y="3809880"/>
            <a:ext cx="1066680" cy="3049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2008080"/>
            <a:ext cx="27432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owerful partn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ossible cost sharing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ave up-to-date knowledge!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705720" y="3809880"/>
            <a:ext cx="2209680" cy="12193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2743200"/>
            <a:ext cx="190476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1371600"/>
            <a:ext cx="2286000" cy="1371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43480" y="1371600"/>
            <a:ext cx="2057400" cy="106668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4876920"/>
            <a:ext cx="1066680" cy="9144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5105520"/>
            <a:ext cx="1219320" cy="9144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4191120"/>
            <a:ext cx="1905120" cy="129528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666880"/>
            <a:ext cx="236232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1828800"/>
            <a:ext cx="2133360" cy="9907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90840" y="2895480"/>
            <a:ext cx="2476440" cy="1524240"/>
          </a:xfrm>
          <a:prstGeom prst="ellipse">
            <a:avLst/>
          </a:prstGeom>
          <a:solidFill>
            <a:srgbClr val="0033cc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3429000" y="304812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765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3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eutical Compan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67280" y="16002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ist Associ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rse Distribu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4724280"/>
            <a:ext cx="2209680" cy="18288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Wast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3429000" y="2590920"/>
            <a:ext cx="53352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3429000"/>
            <a:ext cx="11430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819520" y="4038480"/>
            <a:ext cx="68580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429000" y="4343040"/>
            <a:ext cx="609480" cy="762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562720" y="2590560"/>
            <a:ext cx="533160" cy="5331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62720" y="4191120"/>
            <a:ext cx="914400" cy="7617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44197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102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86600" y="39625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ail Pharmac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5791320" y="3200040"/>
            <a:ext cx="990360" cy="2286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91320" y="3809880"/>
            <a:ext cx="1066680" cy="38124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066680" y="4191120"/>
            <a:ext cx="1905120" cy="129528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90840" y="2895480"/>
            <a:ext cx="247644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3535200" y="3048120"/>
            <a:ext cx="20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4343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rse Distribu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62520" y="4724280"/>
            <a:ext cx="2209680" cy="18288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Wast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819520" y="4038480"/>
            <a:ext cx="76176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76920" y="4419720"/>
            <a:ext cx="75960" cy="3045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72200" y="1523880"/>
            <a:ext cx="25146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ssential for proper waste 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xtremely knowledgeab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xcellent partne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705720" y="3809880"/>
            <a:ext cx="2209680" cy="12193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2743200"/>
            <a:ext cx="190476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15000" y="1371600"/>
            <a:ext cx="2286000" cy="1371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43480" y="1371600"/>
            <a:ext cx="2057400" cy="10666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48520" y="4876920"/>
            <a:ext cx="106668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5105520"/>
            <a:ext cx="121932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66680" y="4191120"/>
            <a:ext cx="1905120" cy="1295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2666880"/>
            <a:ext cx="2362320" cy="1524240"/>
          </a:xfrm>
          <a:prstGeom prst="ellipse">
            <a:avLst/>
          </a:prstGeom>
          <a:solidFill>
            <a:srgbClr val="0033cc"/>
          </a:solidFill>
          <a:ln w="177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447920" y="1828800"/>
            <a:ext cx="2133360" cy="9907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90840" y="2895480"/>
            <a:ext cx="247644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3535200" y="3048120"/>
            <a:ext cx="20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765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862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3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eutical Compan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7280" y="16002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ist Associ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0080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343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rse Distribu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195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62520" y="4724280"/>
            <a:ext cx="2209680" cy="18288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Wast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3276360" y="2666520"/>
            <a:ext cx="609480" cy="38124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0" y="3429000"/>
            <a:ext cx="11430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819520" y="4038480"/>
            <a:ext cx="76176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429000" y="4343040"/>
            <a:ext cx="685800" cy="762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562720" y="2590560"/>
            <a:ext cx="533160" cy="5331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62720" y="4191120"/>
            <a:ext cx="914400" cy="7617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76920" y="4419720"/>
            <a:ext cx="75960" cy="3045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102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34320" y="3962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ail Pharmac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791320" y="3200040"/>
            <a:ext cx="990360" cy="2286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91320" y="3809880"/>
            <a:ext cx="1066680" cy="3049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Palo Alto’s Work on Emerging Contaminant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6240" y="2666520"/>
            <a:ext cx="73915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Polybrominated diphenyl ethers (PBDEs) </a:t>
            </a: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Triclosan</a:t>
            </a: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Pharmaceuticals</a:t>
            </a: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pic>
        <p:nvPicPr>
          <p:cNvPr id="119" name="images" descr=""/>
          <p:cNvPicPr/>
          <p:nvPr/>
        </p:nvPicPr>
        <p:blipFill>
          <a:blip r:embed="rId5"/>
          <a:stretch/>
        </p:blipFill>
        <p:spPr>
          <a:xfrm>
            <a:off x="5257800" y="342900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120" name="images" descr=""/>
          <p:cNvPicPr/>
          <p:nvPr/>
        </p:nvPicPr>
        <p:blipFill>
          <a:blip r:embed="rId6"/>
          <a:stretch/>
        </p:blipFill>
        <p:spPr>
          <a:xfrm>
            <a:off x="5257800" y="4800600"/>
            <a:ext cx="1154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National Collaboration is Key!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Work with pharmaceutical companies to craft solution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Modify DEA Regulations 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Education is vita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Many partner agencies available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Develop funding alternatives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Karin North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ity of Palo Alto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650-494-7629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595ff"/>
                </a:solidFill>
                <a:uFillTx/>
                <a:latin typeface="Arial"/>
                <a:hlinkClick r:id="rId2"/>
              </a:rPr>
              <a:t>Karin.north@cityofpaloalto.org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2006 Regional Residential Pharmaceutical Disposal Campaign</a:t>
            </a:r>
            <a:endParaRPr b="0" lang="en-US" sz="40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ff"/>
                </a:solidFill>
                <a:latin typeface="Arial"/>
              </a:rPr>
              <a:t>Regional coordination through Bay Area Pollution Prevention Group </a:t>
            </a:r>
            <a:endParaRPr b="0" lang="en-US" sz="2200" spc="-1" strike="noStrike">
              <a:solidFill>
                <a:srgbClr val="3366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ff"/>
                </a:solidFill>
                <a:latin typeface="Arial"/>
              </a:rPr>
              <a:t>Week of disposal events throughout the region during one week in May 2006</a:t>
            </a:r>
            <a:endParaRPr b="0" lang="en-US" sz="2200" spc="-1" strike="noStrike">
              <a:solidFill>
                <a:srgbClr val="3366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3366ff"/>
                </a:solidFill>
                <a:latin typeface="Arial"/>
              </a:rPr>
              <a:t>By the book” events with pharmacist and police involvement</a:t>
            </a:r>
            <a:endParaRPr b="0" lang="en-US" sz="2200" spc="-1" strike="noStrike">
              <a:solidFill>
                <a:srgbClr val="3366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ff"/>
                </a:solidFill>
                <a:latin typeface="Arial"/>
              </a:rPr>
              <a:t>Publicity and media outreach coordinated regionally</a:t>
            </a:r>
            <a:endParaRPr b="0" lang="en-US" sz="2200" spc="-1" strike="noStrike">
              <a:solidFill>
                <a:srgbClr val="3366ff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ff"/>
              </a:solidFill>
              <a:latin typeface="Arial"/>
            </a:endParaRPr>
          </a:p>
        </p:txBody>
      </p:sp>
      <p:pic>
        <p:nvPicPr>
          <p:cNvPr id="123" name="Bus_Ad" descr=""/>
          <p:cNvPicPr/>
          <p:nvPr/>
        </p:nvPicPr>
        <p:blipFill>
          <a:blip r:embed="rId6"/>
          <a:stretch/>
        </p:blipFill>
        <p:spPr>
          <a:xfrm>
            <a:off x="152280" y="4056120"/>
            <a:ext cx="4419720" cy="2801880"/>
          </a:xfrm>
          <a:prstGeom prst="rect">
            <a:avLst/>
          </a:prstGeom>
          <a:ln w="0">
            <a:noFill/>
          </a:ln>
        </p:spPr>
      </p:pic>
      <p:pic>
        <p:nvPicPr>
          <p:cNvPr id="124" name="flyerhor" descr=""/>
          <p:cNvPicPr/>
          <p:nvPr/>
        </p:nvPicPr>
        <p:blipFill>
          <a:blip r:embed="rId7"/>
          <a:stretch/>
        </p:blipFill>
        <p:spPr>
          <a:xfrm>
            <a:off x="4572000" y="4419720"/>
            <a:ext cx="45720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Regional Campaign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(continued)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556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19 Agencies and organizations participated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38 collection events regionally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3,685 pounds collected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9% controlled substances (median)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721 pounds – from Palo Alto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127" name="sortmeds" descr=""/>
          <p:cNvPicPr/>
          <p:nvPr/>
        </p:nvPicPr>
        <p:blipFill>
          <a:blip r:embed="rId7"/>
          <a:stretch/>
        </p:blipFill>
        <p:spPr>
          <a:xfrm>
            <a:off x="5851440" y="1828800"/>
            <a:ext cx="3292560" cy="2468520"/>
          </a:xfrm>
          <a:prstGeom prst="rect">
            <a:avLst/>
          </a:prstGeom>
          <a:ln w="0">
            <a:noFill/>
          </a:ln>
        </p:spPr>
      </p:pic>
      <p:pic>
        <p:nvPicPr>
          <p:cNvPr id="128" name="police_sort" descr=""/>
          <p:cNvPicPr/>
          <p:nvPr/>
        </p:nvPicPr>
        <p:blipFill>
          <a:blip r:embed="rId8"/>
          <a:stretch/>
        </p:blipFill>
        <p:spPr>
          <a:xfrm>
            <a:off x="5851440" y="4389480"/>
            <a:ext cx="329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Regional Campaign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(continued)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Extensive Advertising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Dedicated website (</a:t>
            </a:r>
            <a:r>
              <a:rPr b="0" lang="en-US" sz="2400" spc="-1" strike="noStrike" u="sng">
                <a:solidFill>
                  <a:srgbClr val="9595ff"/>
                </a:solidFill>
                <a:uFillTx/>
                <a:latin typeface="Arial"/>
                <a:hlinkClick r:id="rId4"/>
              </a:rPr>
              <a:t>www.</a:t>
            </a:r>
            <a:r>
              <a:rPr b="0" lang="en-US" sz="2400" spc="-1" strike="noStrike" u="sng">
                <a:solidFill>
                  <a:srgbClr val="9595ff"/>
                </a:solidFill>
                <a:uFillTx/>
                <a:latin typeface="Arial"/>
                <a:hlinkClick r:id="rId5"/>
              </a:rPr>
              <a:t>BayWise</a:t>
            </a:r>
            <a:r>
              <a:rPr b="0" lang="en-US" sz="2400" spc="-1" strike="noStrike" u="sng">
                <a:solidFill>
                  <a:srgbClr val="9595ff"/>
                </a:solidFill>
                <a:uFillTx/>
                <a:latin typeface="Arial"/>
                <a:hlinkClick r:id="rId6"/>
              </a:rPr>
              <a:t>.org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65 newspaper ads in local and regional paper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&gt;215,000 direct mailing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&gt;30,000 flyers distributed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320 transit ad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Radio PSA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Media Assistance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5 press event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10 newspaper article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4 radio interview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5 TV stations covered event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131" name="BARTAD" descr=""/>
          <p:cNvPicPr/>
          <p:nvPr/>
        </p:nvPicPr>
        <p:blipFill>
          <a:blip r:embed="rId17"/>
          <a:stretch/>
        </p:blipFill>
        <p:spPr>
          <a:xfrm>
            <a:off x="4724280" y="2895480"/>
            <a:ext cx="4149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Regional Campaign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(continued)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By the (DEA) book” events are costly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Staff time - ~1,980 staff hours from 19 agencie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Pharmacist time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Police involvement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Demand for proper disposal is high – need sustainable solution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Why was the Regional Campaign Successful?</a:t>
            </a:r>
            <a:endParaRPr b="0" lang="en-US" sz="40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-17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-4680" y="-177840"/>
            <a:ext cx="9153360" cy="7215120"/>
            <a:chOff x="-4680" y="-177840"/>
            <a:chExt cx="9153360" cy="7215120"/>
          </a:xfrm>
        </p:grpSpPr>
        <p:grpSp>
          <p:nvGrpSpPr>
            <p:cNvPr id="137" name=""/>
            <p:cNvGrpSpPr/>
            <p:nvPr/>
          </p:nvGrpSpPr>
          <p:grpSpPr>
            <a:xfrm>
              <a:off x="0" y="-173160"/>
              <a:ext cx="9144000" cy="7205760"/>
              <a:chOff x="0" y="-173160"/>
              <a:chExt cx="9144000" cy="720576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0" y="-173160"/>
                <a:ext cx="9144000" cy="7205400"/>
                <a:chOff x="0" y="-173160"/>
                <a:chExt cx="9144000" cy="7205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0" y="-173160"/>
                  <a:ext cx="6966000" cy="720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0" y="-173160"/>
                  <a:ext cx="9144000" cy="5259240"/>
                  <a:chOff x="0" y="-173160"/>
                  <a:chExt cx="9144000" cy="525924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0" y="-173160"/>
                    <a:ext cx="9144000" cy="525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0" y="-173160"/>
                    <a:ext cx="5089680" cy="5160600"/>
                    <a:chOff x="0" y="-173160"/>
                    <a:chExt cx="5089680" cy="5160600"/>
                  </a:xfrm>
                </p:grpSpPr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0" y="-173160"/>
                      <a:ext cx="5089680" cy="516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0" y="-173160"/>
                      <a:ext cx="3657600" cy="1188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              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45" name=""/>
              <p:cNvSpPr/>
              <p:nvPr/>
            </p:nvSpPr>
            <p:spPr>
              <a:xfrm>
                <a:off x="0" y="-173160"/>
                <a:ext cx="9144000" cy="720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-4680" y="-177840"/>
              <a:ext cx="9153360" cy="7215120"/>
            </a:xfrm>
            <a:prstGeom prst="rect">
              <a:avLst/>
            </a:prstGeom>
            <a:noFill/>
            <a:ln w="93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47" name="collaboration" descr=""/>
          <p:cNvPicPr/>
          <p:nvPr/>
        </p:nvPicPr>
        <p:blipFill>
          <a:blip r:embed="rId2"/>
          <a:stretch/>
        </p:blipFill>
        <p:spPr>
          <a:xfrm>
            <a:off x="2514600" y="2133720"/>
            <a:ext cx="44578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705720" y="3809880"/>
            <a:ext cx="2209680" cy="12193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2743200"/>
            <a:ext cx="190476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1371600"/>
            <a:ext cx="2286000" cy="1371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43480" y="1371600"/>
            <a:ext cx="2057400" cy="10666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4876920"/>
            <a:ext cx="106668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5105520"/>
            <a:ext cx="121932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4191120"/>
            <a:ext cx="1905120" cy="1295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666880"/>
            <a:ext cx="236232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1828800"/>
            <a:ext cx="2133360" cy="9907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2895480"/>
            <a:ext cx="2514600" cy="1524240"/>
          </a:xfrm>
          <a:prstGeom prst="ellipse">
            <a:avLst/>
          </a:prstGeom>
          <a:solidFill>
            <a:srgbClr val="0033cc"/>
          </a:solidFill>
          <a:ln w="2030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304812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eutical Compan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6002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ist Associ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rse Distribu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4724280"/>
            <a:ext cx="2209680" cy="18288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Wast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429000" y="2590920"/>
            <a:ext cx="53352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3429000"/>
            <a:ext cx="11430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819520" y="4038480"/>
            <a:ext cx="68580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429000" y="4343040"/>
            <a:ext cx="609480" cy="762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562720" y="2590560"/>
            <a:ext cx="533160" cy="5331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4191120"/>
            <a:ext cx="914400" cy="7617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4197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02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6600" y="39625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ail Pharmac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791320" y="3200040"/>
            <a:ext cx="990360" cy="2286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3809880"/>
            <a:ext cx="990360" cy="3049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705720" y="3809880"/>
            <a:ext cx="2209680" cy="12193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743200"/>
            <a:ext cx="190476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1371600"/>
            <a:ext cx="2286000" cy="1371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43480" y="1371600"/>
            <a:ext cx="2057400" cy="10666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4876920"/>
            <a:ext cx="106668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5105520"/>
            <a:ext cx="121932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4191120"/>
            <a:ext cx="1905120" cy="1295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666880"/>
            <a:ext cx="236232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1828800"/>
            <a:ext cx="2133360" cy="990720"/>
          </a:xfrm>
          <a:prstGeom prst="ellipse">
            <a:avLst/>
          </a:prstGeom>
          <a:solidFill>
            <a:srgbClr val="0033cc"/>
          </a:solidFill>
          <a:ln w="1522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90840" y="2895480"/>
            <a:ext cx="247644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304812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eutical Compan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6002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ist Associ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rse Distribu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4724280"/>
            <a:ext cx="2209680" cy="18288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Wast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429000" y="2590920"/>
            <a:ext cx="53352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3429000"/>
            <a:ext cx="11430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819520" y="4038480"/>
            <a:ext cx="68580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429000" y="4343040"/>
            <a:ext cx="609480" cy="762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562720" y="2590560"/>
            <a:ext cx="533160" cy="5331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91120"/>
            <a:ext cx="914400" cy="7617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44197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86600" y="39625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ail Pharmac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91320" y="3200040"/>
            <a:ext cx="990360" cy="2286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3809880"/>
            <a:ext cx="990360" cy="3049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0:29:59Z</dcterms:created>
  <dc:creator>kdidrik</dc:creator>
  <dc:description/>
  <dc:language>en-US</dc:language>
  <cp:lastModifiedBy>kdidrik</cp:lastModifiedBy>
  <dcterms:modified xsi:type="dcterms:W3CDTF">2006-09-29T22:40:25Z</dcterms:modified>
  <cp:revision>27</cp:revision>
  <dc:subject/>
  <dc:title>Emerging Contaminants in Wastewater</dc:title>
</cp:coreProperties>
</file>