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CFA8-9CBC-4ED0-9AEF-3434260C5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8 States identified as “incorporation by Referenc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EED-47F2-4A8C-AE02-5AEE8800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7BE-B947-4F7E-B9DB-DEFF80BB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853-14A9-41ED-B7FF-AB9B7075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924-3313-4D09-94EC-3190C413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323F-89C6-4748-9317-1890D638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DE13-FF8E-4FCA-84B0-D63884FD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3751-2500-4B67-8554-6BC82D49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1246-6F52-4085-8864-161FECAE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F048-823A-4D31-8D2D-99307D7F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355D-D435-4D42-9F08-5594A881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E037-3C95-4211-83DE-BF27AB76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8F6-EE5D-4A5D-A7A7-0121B609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A7CC-D37B-404C-BED1-D8E48499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84D7-408A-4A92-8110-E6B44BD8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4DD9-03ED-494D-B0C0-CE082E81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F80C-3ADC-424A-8A31-51AB6F5F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F653-536E-4F66-88DC-F25CA92C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492-CEB8-460D-BCED-3EEF42D5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A1A-8955-4284-8ADE-86F23680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7B2-2868-4B7E-BD28-D5E32694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049-C356-4E29-947C-C0398C5D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41C-22E2-4FF6-A6FC-9B84002C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3F6-1727-4C37-B8AB-5B3E82D9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86D-D3ED-4BB7-BDF4-D7AB4516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D722-4082-4999-9121-C2F9EC248B98}" type="slidenum">
              <a:rPr b="0" lang="en-US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0A2D-E64C-40C1-A234-85668CA6B9A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78f4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78f4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Pretreatment Streamlining Rul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ne Year of Implementatio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al Association Clean Water Agencies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al Pretreatment &amp; Pollution Prevent 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ober 4, 2006   -   New Orleans,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 Marie Pick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A HQ - Office of Water – Office of Wastewat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78f48"/>
                </a:solidFill>
                <a:uFillTx/>
                <a:latin typeface="Trebuchet MS"/>
              </a:rPr>
              <a:t>Final Streamlining Rule Timeline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October 14, 2005: 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Published in Federal Register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70 FR 60134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November 14, 2005:  Effective Date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30 days after publication in Federal Register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November 16, 2005:  NACWA 2005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Presentation / Discussions in Kansas City, MO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EPA Activities to Implement </a:t>
            </a:r>
            <a:r>
              <a:rPr b="0" lang="en-US" sz="3600" spc="-1" strike="noStrike" u="sng">
                <a:solidFill>
                  <a:srgbClr val="078f48"/>
                </a:solidFill>
                <a:uFillTx/>
                <a:latin typeface="Trebuchet MS"/>
              </a:rPr>
              <a:t>Pretreatment Streamlining Rule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raining and Outreach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ool Developmen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tate and POTW Program Modifications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8f48"/>
                </a:solidFill>
                <a:uFillTx/>
                <a:latin typeface="Trebuchet MS"/>
              </a:rPr>
              <a:t>Pretreatment Streamlining Rule:</a:t>
            </a: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    </a:t>
            </a:r>
            <a:br>
              <a:rPr sz="3600"/>
            </a:br>
            <a:r>
              <a:rPr b="0" lang="en-US" sz="3600" spc="-1" strike="noStrike" u="sng">
                <a:solidFill>
                  <a:srgbClr val="078f48"/>
                </a:solidFill>
                <a:uFillTx/>
                <a:latin typeface="Trebuchet MS"/>
              </a:rPr>
              <a:t>EPA Training and Outreach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10 EPA Regions + Headquarters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35 States with Approved State Programs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15 States + Tribes and Territories where EPA is the Approval Authority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Approximately 1400 Approved POTW Pretreatment Programs implemented out of an estimated 14,800 total POTWs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Approximately 30,000 Significant / Categorical Industries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8f48"/>
                </a:solidFill>
                <a:uFillTx/>
                <a:latin typeface="Trebuchet MS"/>
              </a:rPr>
              <a:t>Pretreatment Streamlining Rule:</a:t>
            </a: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    </a:t>
            </a:r>
            <a:br>
              <a:rPr sz="3600"/>
            </a:br>
            <a:r>
              <a:rPr b="0" lang="en-US" sz="3600" spc="-1" strike="noStrike" u="sng">
                <a:solidFill>
                  <a:srgbClr val="078f48"/>
                </a:solidFill>
                <a:uFillTx/>
                <a:latin typeface="Trebuchet MS"/>
              </a:rPr>
              <a:t>EPA Training and Outreach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Since Rule Became Effective in Nov. 2005: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Over 50 Presentations and Discussion Sessions to States and POTWs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4 Presentations and Discussion Sessions to Industrial Trade Associations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Countless letters, mailings, emails, telephone call inquiries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8f48"/>
                </a:solidFill>
                <a:uFillTx/>
                <a:latin typeface="Trebuchet MS"/>
              </a:rPr>
              <a:t>Pretreatment Streamlining Rule:</a:t>
            </a: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78f48"/>
                </a:solidFill>
                <a:latin typeface="Trebuchet MS"/>
              </a:rPr>
              <a:t>Tool Development</a:t>
            </a:r>
            <a:endParaRPr b="0" lang="en-US" sz="3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Fact Sheet Development Status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Summary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process of being posted on web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Required Changes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posted on web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Equivalent Mass Limits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final review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Equivalent Concentration Limits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review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New Classifications for CIUs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process of being posted on web</a:t>
            </a:r>
            <a:endParaRPr b="0" lang="en-US" sz="20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Sampling/Pollutants-Not-Present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review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BMPs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review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Slug Control Plans – </a:t>
            </a:r>
            <a:r>
              <a:rPr b="0" i="1" lang="en-US" sz="2000" spc="-1" strike="noStrike">
                <a:solidFill>
                  <a:srgbClr val="078f48"/>
                </a:solidFill>
                <a:latin typeface="Arial"/>
              </a:rPr>
              <a:t>in review</a:t>
            </a: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78f4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8f48"/>
                </a:solidFill>
                <a:latin typeface="Arial"/>
              </a:rPr>
              <a:t>Others?  -- What are your priority Fact Sheets?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8f48"/>
                </a:solidFill>
                <a:uFillTx/>
                <a:latin typeface="Trebuchet MS"/>
              </a:rPr>
              <a:t>Pretreatment Streamlining Rule:</a:t>
            </a: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78f48"/>
                </a:solidFill>
                <a:latin typeface="Trebuchet MS"/>
              </a:rPr>
              <a:t>Tool Development</a:t>
            </a:r>
            <a:endParaRPr b="0" lang="en-US" sz="3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Guidance Manual Updates/Revisions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Model Sewer Use Ordinance and Checklist </a:t>
            </a: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78f48"/>
                </a:solidFill>
                <a:latin typeface="Arial"/>
              </a:rPr>
              <a:t>in final review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Control Authority Pretreatment Audit Checklist and Instructions” – </a:t>
            </a:r>
            <a:r>
              <a:rPr b="0" i="1" lang="en-US" sz="2400" spc="-1" strike="noStrike">
                <a:solidFill>
                  <a:srgbClr val="078f48"/>
                </a:solidFill>
                <a:latin typeface="Arial"/>
              </a:rPr>
              <a:t>in review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Introduction to the National Pretreatment Program” – </a:t>
            </a:r>
            <a:r>
              <a:rPr b="0" i="1" lang="en-US" sz="2400" spc="-1" strike="noStrike">
                <a:solidFill>
                  <a:srgbClr val="078f48"/>
                </a:solidFill>
                <a:latin typeface="Arial"/>
              </a:rPr>
              <a:t>in review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Industrial User Permitting Guidance Manual” – </a:t>
            </a:r>
            <a:r>
              <a:rPr b="0" i="1" lang="en-US" sz="2400" spc="-1" strike="noStrike">
                <a:solidFill>
                  <a:srgbClr val="078f48"/>
                </a:solidFill>
                <a:latin typeface="Arial"/>
              </a:rPr>
              <a:t>Spring 2007 …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78f48"/>
                </a:solidFill>
                <a:uFillTx/>
                <a:latin typeface="Trebuchet MS"/>
              </a:rPr>
              <a:t>Pretreatment Streamlining Rule:</a:t>
            </a: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78f48"/>
                </a:solidFill>
                <a:latin typeface="Trebuchet MS"/>
              </a:rPr>
              <a:t>State &amp; POTW Program Modifications</a:t>
            </a:r>
            <a:endParaRPr b="0" lang="en-US" sz="3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78f48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78f48"/>
                </a:solidFill>
                <a:latin typeface="Arial"/>
              </a:rPr>
              <a:t>prior to Streamlining: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15 States “Incorporate[d] by Reference”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35 States with Unique Regulations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?? POTWs “Incorporate by Reference”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?? POTWs with Unique Regulations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f48"/>
                </a:solidFill>
                <a:latin typeface="Arial"/>
              </a:rPr>
              <a:t>96 POTW Program Modifications “in progress”</a:t>
            </a:r>
            <a:endParaRPr b="0" lang="en-US" sz="28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4475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Trebuchet MS"/>
              </a:rPr>
              <a:t>Contact information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:</a:t>
            </a:r>
            <a:br>
              <a:rPr sz="40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an Pickr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202) 564-790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ickrel.jan@epa.gov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r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reg Schan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202) 564-072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chaner.greg@epa.gov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7:12:41Z</dcterms:created>
  <dc:creator> </dc:creator>
  <dc:description/>
  <cp:keywords/>
  <dc:language>en-US</dc:language>
  <cp:lastModifiedBy> </cp:lastModifiedBy>
  <dcterms:modified xsi:type="dcterms:W3CDTF">2006-10-04T13:15:55Z</dcterms:modified>
  <cp:revision>24</cp:revision>
  <dc:subject/>
  <dc:title>Pretreatment Streamlining Rule: One Year of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33</vt:lpwstr>
  </property>
</Properties>
</file>