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BECF-DDCB-4D8A-B99F-CEA137938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least 8 States identified as “incorporation by Reference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43C2-10C8-4E9F-BE1A-708B3B911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9EF9-4F01-4005-B451-72C8BB79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DBFE-2DEE-43E4-B7C4-4C4C42CA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016C-4239-4C98-9D3E-DF852610F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4E1D-FAB1-4C3C-AEE2-87C45235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9FB1-BB13-45D5-9212-4D039546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2F1F-9CF1-4F25-83BB-3A8C9B4F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BD94-2B88-4D08-AC9C-A4580D7F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33BC-73F6-4646-976B-BE7CF342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6054-DF14-4EF5-B496-FD41D556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F172-D7D7-49B9-B226-D7F91A02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DC26-52C4-4CF1-A256-ACA07D5C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3E59-F957-46BE-B315-87FACE3F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8075-5E7B-441F-9299-F4601F82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0CB5-69DA-453D-BE98-744B571C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76B2-BD62-4541-A6E1-2EA7AFDA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9819-1B6D-4751-A630-056AF747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E669-E260-4A31-B3A5-750CF67C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0ACE-48AA-4D74-8137-EFE893EE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6F02-1FD3-4050-BB0B-D0F77248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A84D-5604-45DF-BF7E-A5A5227B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ACEF-D1EB-4200-ABFF-133D37AC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8FF0-16A7-4272-9298-5827AA8A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0EBB-9D15-4028-8C4C-EDB4C8ED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8f48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8f48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A5C2-BCC5-4E53-A42E-07EFF2F6B0F1}" type="slidenum">
              <a:rPr b="0" lang="en-US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362C-A1C2-4B39-9001-583AE56262D9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78f4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78f4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78f4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78f4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78f4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78f4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Pretreatment Streamlining Rul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One Year of Implementation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tional Association Clean Water Agencies’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tional Pretreatment &amp; Pollution Prevent Works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tober 4, 2006   -   New Orleans,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n Marie Pickr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PA HQ - Office of Water – Office of Wastewat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78f48"/>
                </a:solidFill>
                <a:uFillTx/>
                <a:latin typeface="Trebuchet MS"/>
              </a:rPr>
              <a:t>Final Streamlining Rule Timeline</a:t>
            </a:r>
            <a:endParaRPr b="0" lang="en-US" sz="3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October 14, 2005: </a:t>
            </a: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Published in Federal Register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70 FR 60134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November 14, 2005:  Effective Date</a:t>
            </a: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30 days after publication in Federal Register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November 16, 2005:  NACWA 2005</a:t>
            </a: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Presentation / Discussions in Kansas City, MO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8f48"/>
                </a:solidFill>
                <a:latin typeface="Trebuchet MS"/>
              </a:rPr>
              <a:t>EPA Activities to Implement </a:t>
            </a:r>
            <a:r>
              <a:rPr b="0" lang="en-US" sz="3600" spc="-1" strike="noStrike" u="sng">
                <a:solidFill>
                  <a:srgbClr val="078f48"/>
                </a:solidFill>
                <a:uFillTx/>
                <a:latin typeface="Trebuchet MS"/>
              </a:rPr>
              <a:t>Pretreatment Streamlining Rule</a:t>
            </a:r>
            <a:endParaRPr b="0" lang="en-US" sz="3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raining and Outreach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ool Developmen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tate and POTW Program Modifications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78f48"/>
                </a:solidFill>
                <a:uFillTx/>
                <a:latin typeface="Trebuchet MS"/>
              </a:rPr>
              <a:t>Pretreatment Streamlining Rule:</a:t>
            </a:r>
            <a:r>
              <a:rPr b="0" lang="en-US" sz="3600" spc="-1" strike="noStrike">
                <a:solidFill>
                  <a:srgbClr val="078f48"/>
                </a:solidFill>
                <a:latin typeface="Trebuchet MS"/>
              </a:rPr>
              <a:t>    </a:t>
            </a:r>
            <a:br>
              <a:rPr sz="3600"/>
            </a:br>
            <a:r>
              <a:rPr b="0" lang="en-US" sz="3600" spc="-1" strike="noStrike" u="sng">
                <a:solidFill>
                  <a:srgbClr val="078f48"/>
                </a:solidFill>
                <a:uFillTx/>
                <a:latin typeface="Trebuchet MS"/>
              </a:rPr>
              <a:t>EPA Training and Outreach</a:t>
            </a:r>
            <a:endParaRPr b="0" lang="en-US" sz="3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10 EPA Regions + Headquarters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35 States with Approved State Programs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15 States + Tribes and Territories where EPA is the Approval Authority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Approximately 1400 Approved POTW Pretreatment Programs implemented out of an estimated 14,800 total POTWs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Approximately 30,000 Significant / Categorical Industries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78f48"/>
                </a:solidFill>
                <a:uFillTx/>
                <a:latin typeface="Trebuchet MS"/>
              </a:rPr>
              <a:t>Pretreatment Streamlining Rule:</a:t>
            </a:r>
            <a:r>
              <a:rPr b="0" lang="en-US" sz="3600" spc="-1" strike="noStrike">
                <a:solidFill>
                  <a:srgbClr val="078f48"/>
                </a:solidFill>
                <a:latin typeface="Trebuchet MS"/>
              </a:rPr>
              <a:t>    </a:t>
            </a:r>
            <a:br>
              <a:rPr sz="3600"/>
            </a:br>
            <a:r>
              <a:rPr b="0" lang="en-US" sz="3600" spc="-1" strike="noStrike" u="sng">
                <a:solidFill>
                  <a:srgbClr val="078f48"/>
                </a:solidFill>
                <a:uFillTx/>
                <a:latin typeface="Trebuchet MS"/>
              </a:rPr>
              <a:t>EPA Training and Outreach</a:t>
            </a:r>
            <a:endParaRPr b="0" lang="en-US" sz="3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9246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Since Rule Became Effective in Nov. 2005:</a:t>
            </a: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Over 50 Presentations and Discussion Sessions to States and POTWs</a:t>
            </a: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4 Presentations and Discussion Sessions to Industrial Trade Associations</a:t>
            </a: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Countless letters, mailings, emails, telephone call inquiries</a:t>
            </a: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78f48"/>
                </a:solidFill>
                <a:uFillTx/>
                <a:latin typeface="Trebuchet MS"/>
              </a:rPr>
              <a:t>Pretreatment Streamlining Rule:</a:t>
            </a:r>
            <a:r>
              <a:rPr b="0" lang="en-US" sz="3600" spc="-1" strike="noStrike">
                <a:solidFill>
                  <a:srgbClr val="078f48"/>
                </a:solidFill>
                <a:latin typeface="Trebuchet MS"/>
              </a:rPr>
              <a:t> </a:t>
            </a:r>
            <a:br>
              <a:rPr sz="2400"/>
            </a:br>
            <a:r>
              <a:rPr b="0" lang="en-US" sz="3200" spc="-1" strike="noStrike">
                <a:solidFill>
                  <a:srgbClr val="078f48"/>
                </a:solidFill>
                <a:latin typeface="Trebuchet MS"/>
              </a:rPr>
              <a:t>Tool Development</a:t>
            </a:r>
            <a:endParaRPr b="0" lang="en-US" sz="3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Fact Sheet Development Status</a:t>
            </a: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78f4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Summary – </a:t>
            </a:r>
            <a:r>
              <a:rPr b="0" i="1" lang="en-US" sz="2000" spc="-1" strike="noStrike">
                <a:solidFill>
                  <a:srgbClr val="078f48"/>
                </a:solidFill>
                <a:latin typeface="Arial"/>
              </a:rPr>
              <a:t>in process of being posted on web</a:t>
            </a: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78f4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Required Changes – </a:t>
            </a:r>
            <a:r>
              <a:rPr b="0" i="1" lang="en-US" sz="2000" spc="-1" strike="noStrike">
                <a:solidFill>
                  <a:srgbClr val="078f48"/>
                </a:solidFill>
                <a:latin typeface="Arial"/>
              </a:rPr>
              <a:t>posted on web</a:t>
            </a:r>
            <a:endParaRPr b="0" lang="en-US" sz="2000" spc="-1" strike="noStrike">
              <a:solidFill>
                <a:srgbClr val="078f48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78f4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Equivalent Mass Limits – </a:t>
            </a:r>
            <a:r>
              <a:rPr b="0" i="1" lang="en-US" sz="2000" spc="-1" strike="noStrike">
                <a:solidFill>
                  <a:srgbClr val="078f48"/>
                </a:solidFill>
                <a:latin typeface="Arial"/>
              </a:rPr>
              <a:t>in final review</a:t>
            </a: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78f4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Equivalent Concentration Limits – </a:t>
            </a:r>
            <a:r>
              <a:rPr b="0" i="1" lang="en-US" sz="2000" spc="-1" strike="noStrike">
                <a:solidFill>
                  <a:srgbClr val="078f48"/>
                </a:solidFill>
                <a:latin typeface="Arial"/>
              </a:rPr>
              <a:t>in review</a:t>
            </a: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78f4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New Classifications for CIUs – </a:t>
            </a:r>
            <a:r>
              <a:rPr b="0" i="1" lang="en-US" sz="2000" spc="-1" strike="noStrike">
                <a:solidFill>
                  <a:srgbClr val="078f48"/>
                </a:solidFill>
                <a:latin typeface="Arial"/>
              </a:rPr>
              <a:t>in process of being posted on web</a:t>
            </a:r>
            <a:endParaRPr b="0" lang="en-US" sz="2000" spc="-1" strike="noStrike">
              <a:solidFill>
                <a:srgbClr val="078f48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78f4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Sampling/Pollutants-Not-Present – </a:t>
            </a:r>
            <a:r>
              <a:rPr b="0" i="1" lang="en-US" sz="2000" spc="-1" strike="noStrike">
                <a:solidFill>
                  <a:srgbClr val="078f48"/>
                </a:solidFill>
                <a:latin typeface="Arial"/>
              </a:rPr>
              <a:t>in review</a:t>
            </a: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78f4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BMPs – </a:t>
            </a:r>
            <a:r>
              <a:rPr b="0" i="1" lang="en-US" sz="2000" spc="-1" strike="noStrike">
                <a:solidFill>
                  <a:srgbClr val="078f48"/>
                </a:solidFill>
                <a:latin typeface="Arial"/>
              </a:rPr>
              <a:t>in review</a:t>
            </a: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78f4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Slug Control Plans – </a:t>
            </a:r>
            <a:r>
              <a:rPr b="0" i="1" lang="en-US" sz="2000" spc="-1" strike="noStrike">
                <a:solidFill>
                  <a:srgbClr val="078f48"/>
                </a:solidFill>
                <a:latin typeface="Arial"/>
              </a:rPr>
              <a:t>in review</a:t>
            </a: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78f4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Others?  -- What are your priority Fact Sheets?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78f48"/>
                </a:solidFill>
                <a:uFillTx/>
                <a:latin typeface="Trebuchet MS"/>
              </a:rPr>
              <a:t>Pretreatment Streamlining Rule:</a:t>
            </a:r>
            <a:r>
              <a:rPr b="0" lang="en-US" sz="3600" spc="-1" strike="noStrike">
                <a:solidFill>
                  <a:srgbClr val="078f48"/>
                </a:solidFill>
                <a:latin typeface="Trebuchet MS"/>
              </a:rPr>
              <a:t> </a:t>
            </a:r>
            <a:br>
              <a:rPr sz="3600"/>
            </a:br>
            <a:r>
              <a:rPr b="0" lang="en-US" sz="3200" spc="-1" strike="noStrike">
                <a:solidFill>
                  <a:srgbClr val="078f48"/>
                </a:solidFill>
                <a:latin typeface="Trebuchet MS"/>
              </a:rPr>
              <a:t>Tool Development</a:t>
            </a:r>
            <a:endParaRPr b="0" lang="en-US" sz="3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Guidance Manual Updates/Revisions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Model Sewer Use Ordinance and Checklist </a:t>
            </a: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78f48"/>
                </a:solidFill>
                <a:latin typeface="Arial"/>
              </a:rPr>
              <a:t>in final review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Control Authority Pretreatment Audit Checklist and Instructions” – </a:t>
            </a:r>
            <a:r>
              <a:rPr b="0" i="1" lang="en-US" sz="2400" spc="-1" strike="noStrike">
                <a:solidFill>
                  <a:srgbClr val="078f48"/>
                </a:solidFill>
                <a:latin typeface="Arial"/>
              </a:rPr>
              <a:t>in review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Introduction to the National Pretreatment Program” – </a:t>
            </a:r>
            <a:r>
              <a:rPr b="0" i="1" lang="en-US" sz="2400" spc="-1" strike="noStrike">
                <a:solidFill>
                  <a:srgbClr val="078f48"/>
                </a:solidFill>
                <a:latin typeface="Arial"/>
              </a:rPr>
              <a:t>in review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Industrial User Permitting Guidance Manual” – </a:t>
            </a:r>
            <a:r>
              <a:rPr b="0" i="1" lang="en-US" sz="2400" spc="-1" strike="noStrike">
                <a:solidFill>
                  <a:srgbClr val="078f48"/>
                </a:solidFill>
                <a:latin typeface="Arial"/>
              </a:rPr>
              <a:t>Spring 2007 …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78f48"/>
                </a:solidFill>
                <a:uFillTx/>
                <a:latin typeface="Trebuchet MS"/>
              </a:rPr>
              <a:t>Pretreatment Streamlining Rule:</a:t>
            </a:r>
            <a:r>
              <a:rPr b="0" lang="en-US" sz="3600" spc="-1" strike="noStrike">
                <a:solidFill>
                  <a:srgbClr val="078f48"/>
                </a:solidFill>
                <a:latin typeface="Trebuchet MS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78f48"/>
                </a:solidFill>
                <a:latin typeface="Trebuchet MS"/>
              </a:rPr>
              <a:t>State &amp; POTW Program Modifications</a:t>
            </a:r>
            <a:endParaRPr b="0" lang="en-US" sz="3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78f48"/>
                </a:solidFill>
                <a:latin typeface="Arial"/>
              </a:rPr>
              <a:t>…</a:t>
            </a:r>
            <a:r>
              <a:rPr b="0" i="1" lang="en-US" sz="2800" spc="-1" strike="noStrike">
                <a:solidFill>
                  <a:srgbClr val="078f48"/>
                </a:solidFill>
                <a:latin typeface="Arial"/>
              </a:rPr>
              <a:t>prior to Streamlining:</a:t>
            </a: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15 States “Incorporate[d] by Reference”</a:t>
            </a: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35 States with Unique Regulations</a:t>
            </a: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?? POTWs “Incorporate by Reference”</a:t>
            </a: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?? POTWs with Unique Regulations</a:t>
            </a: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96 POTW Program Modifications “in progress”</a:t>
            </a: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144756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Trebuchet MS"/>
              </a:rPr>
              <a:t>Contact information</a:t>
            </a: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:</a:t>
            </a:r>
            <a:br>
              <a:rPr sz="40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Jan Pickr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202) 564-7904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ickrel.jan@epa.gov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r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Greg Schan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202) 564-072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chaner.greg@epa.gov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17:12:41Z</dcterms:created>
  <dc:creator> </dc:creator>
  <dc:description/>
  <cp:keywords/>
  <dc:language>en-US</dc:language>
  <cp:lastModifiedBy> </cp:lastModifiedBy>
  <dcterms:modified xsi:type="dcterms:W3CDTF">2006-10-04T13:15:55Z</dcterms:modified>
  <cp:revision>24</cp:revision>
  <dc:subject/>
  <dc:title>Pretreatment Streamlining Rule: One Year of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33</vt:lpwstr>
  </property>
</Properties>
</file>