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C29E-2CB7-4FDC-A5F5-6F71831BC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Titl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40 pt Arial Bold, Ce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itle/Speaker: 32 pt Arial, Ce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ed T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40 pt Arial Bold, Flush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: 32 pt Arial, Flush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s: Level 1 - Image “dropbullet.gif”; Level 2, 4 and 5 - Normal Text; Level 3 - Wingding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4C4-8E44-4ECA-A54F-594E3EA1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472-11DB-46FD-B94D-4ACEC345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833-85E0-4805-AC87-6E582877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A2B-D714-4186-866C-9BBA6391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73A-9106-480F-9106-8EFD0104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ED5-5530-4AD0-8648-609CC950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34A-B9B8-4FF5-9B39-90897C5D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4D7-F771-4A73-A19F-AC96EE37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013-C8D3-4AFC-A9E6-4FD2705E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0EC-F6AC-419F-B4AC-7256A39D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2B3-91CA-4CF4-BC71-FA943117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716-7A07-4AAB-BBB0-2FCF9AF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83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73d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&lt;footer&gt;</a:t>
            </a: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ebmu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4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A34B-D121-46D2-A068-02AA76270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83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Nonylphenol Ethoxylates: </a:t>
            </a:r>
            <a:br>
              <a:rPr sz="3600"/>
            </a:b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A Wastewater Perspective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Jen Jackso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jacksonj@ebmud.com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ctober 6, 2006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23968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Emerging” Contaminants (ECs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onylphenol Ethoxylate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ECs: the POTW Challeng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merging” Contaminant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3880"/>
            <a:ext cx="849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ynthetic or naturally occurring chemic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Have not been commonly monitored in the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otential to enter the environment and cause known or suspected adverse ecological and/or human health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May be new chemical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Release may have occurred for a long time, but only recently recognized as a potential problem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New use of existing 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merging” Contaminants </a:t>
            </a:r>
            <a:br>
              <a:rPr sz="4000"/>
            </a:b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creasing attention to emerging contaminan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2002 report from the U.S. Geological Survey concludes that U.S. waterways are impacted by wastewater and contain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Hormon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harmaceutical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onsumer product ingredien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876920" y="1828800"/>
            <a:ext cx="3657600" cy="180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5"/>
          <a:srcRect l="4688" t="34380" r="25785" b="14628"/>
          <a:stretch/>
        </p:blipFill>
        <p:spPr>
          <a:xfrm rot="802800">
            <a:off x="4952520" y="3962520"/>
            <a:ext cx="4038840" cy="222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Nonylphenol Ethoxylate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Group of compounds within larger alkylphenol ethoxylates group used i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Detergents (wetting agents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lastics (stabilize polymers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esticides (emulsifiers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Occurrence of alkylphenol ethoxylate metabolites and intermediates i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Effluent and biosolids (Ahel et al 1994; Xia 2002) 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Groundwater affected by septic systems and landfill leachate (Swartz et al 2006; Barnes et al 2004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Waterways (USGS 2002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oncentrations are extraordinarily low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arts per billion – one drop in Olympic sized swimming poo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What’s significant?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Cs: POTW Challeng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Widely expanded use of industrial chemicals in domestic and commercial applications – 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multiple pathways to sanitary sewer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otential impacts to organisms at low concentration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Endocrine disruptio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ersistence in the environment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Bioaccumulatio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ynergistic effect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Chronic toxicity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Future regulatio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e.g. Nonylphenol water quality criterio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ublic perceptio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Less tolerance of risk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Cs: POTW Challenge 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Decline in number industri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50% loss in Federal SIUs 1994 - 2005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36% loss in Local SIU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Important customer base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Important to local economy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ost of treatment increases for other ratepayers when industries clos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724280" y="2711520"/>
          <a:ext cx="4191120" cy="2544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2711520"/>
                    <a:ext cx="41911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724280" y="24829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BMUD Waste Minimization Per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ption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pectrum of op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ecautionary principl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Regula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Wait for the science to understand significanc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nterim solutions?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PA’s Safer Detergents Stewardship Initiative (SDSI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9:57:55Z</dcterms:created>
  <dc:creator>Mary Orr</dc:creator>
  <dc:description/>
  <dc:language>en-US</dc:language>
  <cp:lastModifiedBy>Rog and Jen</cp:lastModifiedBy>
  <cp:lastPrinted>2002-01-07T18:21:09Z</cp:lastPrinted>
  <dcterms:modified xsi:type="dcterms:W3CDTF">2006-10-05T01:45:21Z</dcterms:modified>
  <cp:revision>62</cp:revision>
  <dc:subject/>
  <dc:title>EBMUD PowerPoint Template 11- 01</dc:title>
</cp:coreProperties>
</file>