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5B5-C79D-4CD6-A0E2-680339972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Titl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40 pt Arial Bold, 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itle/Speaker: 32 pt Arial, 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ed T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40 pt Arial Bold, Flush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: 32 pt Arial, Flush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s: Level 1 - Image “dropbullet.gif”; Level 2, 4 and 5 - Normal Text; Level 3 - Wingding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6DA-DC54-4B27-9A86-EF0F1734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A07-837E-4586-9251-B7236F3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4D8-97BF-4F2D-AB40-78320A83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D2B-006F-452E-8EE4-7D504BBF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33F-B816-4727-8951-28DF6C5D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C7A-6BE3-4DC0-B659-9B683702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658-BA4A-49BC-B186-05A2F89B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7B8-03F8-4B24-A476-933EF8E7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36D-A0AB-4DF0-9DAC-CBFF7E58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39E-F08B-42CE-80D0-517E791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E3D-0442-4575-9838-F60F91C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86F-AA9A-4249-8FB4-2CAD18AC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73d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&lt;footer&gt;</a:t>
            </a: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ebmu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4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E825-1CAF-4844-A7EB-A81B18ADF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Nonylphenol Ethoxylates: </a:t>
            </a:r>
            <a:br>
              <a:rPr sz="3600"/>
            </a:b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A Wastewater Perspective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Jen Jacks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jacksonj@ebmud.co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ctober 6, 2006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2396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Emerging” Contaminants (EC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nylphenol Ethoxylate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ECs: the POTW Challeng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merging” Contaminant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3880"/>
            <a:ext cx="849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ynthetic or naturally occurring chemic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Have not been commonly monitored in the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otential to enter the environment and cause known or suspected adverse ecological and/or human health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May be new chemical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Release may have occurred for a long time, but only recently recognized as a potential problem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New use of existing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merging” Contaminants </a:t>
            </a:r>
            <a:br>
              <a:rPr sz="4000"/>
            </a:b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creasing attention to emerging contamina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2002 report from the U.S. Geological Survey concludes that U.S. waterways are impacted by wastewater and contain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Hormon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harmaceutical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nsumer product ingredien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876920" y="1828800"/>
            <a:ext cx="3657600" cy="18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rcRect l="4688" t="34380" r="25785" b="14628"/>
          <a:stretch/>
        </p:blipFill>
        <p:spPr>
          <a:xfrm rot="802800">
            <a:off x="4952520" y="3962520"/>
            <a:ext cx="4038840" cy="222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Nonylphenol Ethoxylate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Group of compounds within larger alkylphenol ethoxylates group used i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Detergents (wetting agents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lastics (stabilize polymers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esticides (emulsifiers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Occurrence of alkylphenol ethoxylate metabolites and intermediates i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Effluent and biosolids (Ahel et al 1994; Xia 2002) 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Groundwater affected by septic systems and landfill leachate (Swartz et al 2006; Barnes et al 2004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Waterways (USGS 2002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oncentrations are extraordinarily low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arts per billion – one drop in Olympic sized swimming poo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What’s significant?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Cs: POTW Challeng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Widely expanded use of industrial chemicals in domestic and commercial applications – 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multiple pathways to sanitary sewer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otential impacts to organisms at low concentration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Endocrine disruptio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Persistence in the environment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Bioaccumulatio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ynergistic effect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Chronic toxicity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Future regulatio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e.g. Nonylphenol water quality criterion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ublic perceptio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Less tolerance of risk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Cs: POTW Challenge </a:t>
            </a: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Decline in number industri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50% loss in Federal SIUs 1994 - 2005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36% loss in Local SIUs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Important customer bas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Important to local economy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ost of treatment increases for other ratepayers when industries clos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724280" y="2711520"/>
          <a:ext cx="4191120" cy="2544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2711520"/>
                    <a:ext cx="41911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724280" y="24829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BMUD Waste Minimization Per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ption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pectrum of op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ecautionary principl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gula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Wait for the science to understand significanc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terim solutions?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PA’s Safer Detergents Stewardship Initiative (SDSI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19:57:55Z</dcterms:created>
  <dc:creator>Mary Orr</dc:creator>
  <dc:description/>
  <dc:language>en-US</dc:language>
  <cp:lastModifiedBy>Rog and Jen</cp:lastModifiedBy>
  <cp:lastPrinted>2002-01-07T18:21:09Z</cp:lastPrinted>
  <dcterms:modified xsi:type="dcterms:W3CDTF">2006-10-05T01:45:21Z</dcterms:modified>
  <cp:revision>62</cp:revision>
  <dc:subject/>
  <dc:title>EBMUD PowerPoint Template 11- 01</dc:title>
</cp:coreProperties>
</file>