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2840" y="385812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52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2840" y="38581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520" y="38581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0840" y="13903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8480" y="13903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2840" y="38581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0840" y="38581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8480" y="38581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2840" y="1390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5520" y="139032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81160" y="76320"/>
            <a:ext cx="777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5520" y="139032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2840" y="38581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2840" y="1390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552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95520" y="38581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552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2840" y="385812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2840" y="385812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552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2840" y="38581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95520" y="38581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0840" y="13903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68480" y="13903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2840" y="38581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40840" y="38581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68480" y="385812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520" y="139032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1160" y="76320"/>
            <a:ext cx="777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520" y="139032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2840" y="38581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52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520" y="38581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520" y="139032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2840" y="385812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295280" y="1168560"/>
            <a:ext cx="7315200" cy="75960"/>
          </a:xfrm>
          <a:prstGeom prst="rect">
            <a:avLst/>
          </a:prstGeom>
          <a:gradFill rotWithShape="0">
            <a:gsLst>
              <a:gs pos="0">
                <a:srgbClr val="6b059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17720" y="0"/>
            <a:ext cx="15228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12840" y="1390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9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0099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35080" y="1849320"/>
            <a:ext cx="7323120" cy="15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81160" y="1587600"/>
            <a:ext cx="7657920" cy="63360"/>
          </a:xfrm>
          <a:prstGeom prst="rect">
            <a:avLst/>
          </a:prstGeom>
          <a:gradFill rotWithShape="0">
            <a:gsLst>
              <a:gs pos="0">
                <a:srgbClr val="6b059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7720" y="0"/>
            <a:ext cx="15228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5861160"/>
            <a:ext cx="1868400" cy="996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00160" y="1849320"/>
            <a:ext cx="804384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Nonylphenol Ethoxylates in Wastewater Treatment Plants  </a:t>
            </a:r>
            <a:endParaRPr b="1" lang="en-US" sz="48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33280" y="4832280"/>
            <a:ext cx="8010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nryk Melcer – Brown &amp; Caldwel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35080" y="289080"/>
            <a:ext cx="800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NACWA National Pretreatment &amp; Pollution Prevention Workshop      New Orleans,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68560" y="5518080"/>
            <a:ext cx="30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October 6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Aggregate NP Equivalent Concentrations  in U.S. Fresh Surface Water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(includes NPE)</a:t>
            </a: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38320" y="1319040"/>
            <a:ext cx="7512120" cy="4921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Environmental Monitoring Conclusions</a:t>
            </a:r>
            <a:endParaRPr b="1" lang="en-US" sz="40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00240" y="151272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Results suggest, on nationwide basis, the likelihood of surface water concentrations exceeding EPA WQC for NP is low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ahoma"/>
              </a:rPr>
              <a:t>Fate in POTWs</a:t>
            </a:r>
            <a:endParaRPr b="1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PERC sponsored report on fate of NP/NPEs in POTW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view state of science in 40 years of studi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, pilot and full scale WW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rategies for optimizing plant performance for NP/NPE remova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view by NACWA, WEF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ublication expected by WEF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Tahoma"/>
              </a:rPr>
              <a:t>Treatment Technologies Reviewed</a:t>
            </a:r>
            <a:endParaRPr b="1" lang="en-US" sz="3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2480" y="1252080"/>
            <a:ext cx="423540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imary clarifi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ary process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l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ling filters (TF/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cale – lagoons, oxidation ditches, SB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ew technologies: MBRs, MBBRs, BAF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ludge treatmen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565600" y="1647720"/>
            <a:ext cx="30290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Treatability of NPEs – 1</a:t>
            </a:r>
            <a:endParaRPr b="1" lang="en-US" sz="48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455616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idely found in municipal sewag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vels lower than 10 years ago:  100-1000 µg/L to &lt;10 µg/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WW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treatment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90-95 percent removals of primary compound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784840" y="1631880"/>
            <a:ext cx="283212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Treatability of NPEs – 2</a:t>
            </a:r>
            <a:endParaRPr b="1" lang="en-US" sz="48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449568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PE1 &amp; NPE2 often remain after treatmen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mol NPEs break down to NPE1, N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rmation of carboxylated residues – NPEC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o accumulation of NPE residues in biosolid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54640" y="1967040"/>
            <a:ext cx="35431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76320"/>
            <a:ext cx="79628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Impact of SRT on Effluent Quality</a:t>
            </a:r>
            <a:endParaRPr b="1" lang="en-US" sz="36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8840" y="5793840"/>
            <a:ext cx="7605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enefit of high SRT system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ve to biological nutrient removal (BNR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rewes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et al.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tudy based on pilot and full-scale plants in the U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16160" y="1306440"/>
            <a:ext cx="7288200" cy="444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0800" y="76320"/>
            <a:ext cx="79628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6600"/>
                </a:solidFill>
                <a:latin typeface="Tahoma"/>
              </a:rPr>
              <a:t>Optimum AS Operating Conditions</a:t>
            </a:r>
            <a:endParaRPr b="1" lang="en-US" sz="3500" spc="-1" strike="noStrike">
              <a:solidFill>
                <a:srgbClr val="ff66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32320" y="1533600"/>
            <a:ext cx="3495600" cy="44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311120" y="1527120"/>
          <a:ext cx="3651480" cy="4442040"/>
        </p:xfrm>
        <a:graphic>
          <a:graphicData uri="http://schemas.openxmlformats.org/drawingml/2006/table">
            <a:tbl>
              <a:tblPr/>
              <a:tblGrid>
                <a:gridCol w="1905120"/>
                <a:gridCol w="17463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Arial Narrow"/>
                        </a:rPr>
                        <a:t>Param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Arial Narrow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RT (h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p to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RT (da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gt;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5 – 9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 conc (mg/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gt;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mp (</a:t>
                      </a:r>
                      <a:r>
                        <a:rPr b="1" lang="en-US" sz="2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gt;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Summary</a:t>
            </a:r>
            <a:endParaRPr b="1" lang="en-US" sz="48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PE levels in municipal plants lower than 10 years ago:  100-1000 µg/L to &lt;10 µg/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90-95 percent removals of primary compound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igh SRT systems favor NPE remova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nvironmental monitoring shows levels below EPA WQC criteri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Definitions, characteristics of NPEs, NP</a:t>
            </a: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Entry to, and levels in environment</a:t>
            </a: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Fate in wastewater treatment plants</a:t>
            </a: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ahoma"/>
              </a:rPr>
              <a:t>Definitions</a:t>
            </a:r>
            <a:endParaRPr b="1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2480" y="1390320"/>
            <a:ext cx="793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nylphenol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thoxylates (NPEs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erformance, cost-effective surfactants in laundry detergents, cleaning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idely in consumer, institutional, industrial and agricultur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ume use for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nylphenol (NP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material in NPE manuf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in anaerobic biodegradation of NPE surf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ahoma"/>
              </a:rPr>
              <a:t>Chemistry</a:t>
            </a:r>
            <a:endParaRPr b="1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68400" y="1742400"/>
            <a:ext cx="6073560" cy="1632240"/>
            <a:chOff x="968400" y="1742400"/>
            <a:chExt cx="6073560" cy="1632240"/>
          </a:xfrm>
        </p:grpSpPr>
        <p:sp>
          <p:nvSpPr>
            <p:cNvPr id="93" name=""/>
            <p:cNvSpPr/>
            <p:nvPr/>
          </p:nvSpPr>
          <p:spPr>
            <a:xfrm>
              <a:off x="4334400" y="2347200"/>
              <a:ext cx="3834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12960" y="2347200"/>
              <a:ext cx="6598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40680" y="229248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5040" y="1742400"/>
              <a:ext cx="7851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7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38360" y="175860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68400" y="2291400"/>
              <a:ext cx="780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70760" y="228852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3600" y="2835000"/>
              <a:ext cx="780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34400" y="2831040"/>
              <a:ext cx="780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44280" y="2431440"/>
              <a:ext cx="697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082840" y="2336400"/>
              <a:ext cx="975960" cy="784800"/>
              <a:chOff x="5082840" y="2336400"/>
              <a:chExt cx="975960" cy="784800"/>
            </a:xfrm>
          </p:grpSpPr>
          <p:sp>
            <p:nvSpPr>
              <p:cNvPr id="104" name=""/>
              <p:cNvSpPr/>
              <p:nvPr/>
            </p:nvSpPr>
            <p:spPr>
              <a:xfrm>
                <a:off x="5082840" y="2726640"/>
                <a:ext cx="736200" cy="394200"/>
              </a:xfrm>
              <a:custGeom>
                <a:avLst/>
                <a:gdLst/>
                <a:ahLst/>
                <a:rect l="l" t="t" r="r" b="b"/>
                <a:pathLst>
                  <a:path w="507" h="311">
                    <a:moveTo>
                      <a:pt x="0" y="0"/>
                    </a:moveTo>
                    <a:lnTo>
                      <a:pt x="168" y="310"/>
                    </a:lnTo>
                    <a:lnTo>
                      <a:pt x="506" y="310"/>
                    </a:lnTo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38880" y="3010680"/>
                <a:ext cx="267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11840" y="2336400"/>
                <a:ext cx="246960" cy="784800"/>
              </a:xfrm>
              <a:custGeom>
                <a:avLst/>
                <a:gdLst/>
                <a:ahLst/>
                <a:rect l="l" t="t" r="r" b="b"/>
                <a:pathLst>
                  <a:path w="170" h="619">
                    <a:moveTo>
                      <a:pt x="4" y="618"/>
                    </a:moveTo>
                    <a:lnTo>
                      <a:pt x="169" y="3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5730480" y="2444760"/>
                <a:ext cx="203040" cy="289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82840" y="2336400"/>
                <a:ext cx="730440" cy="391680"/>
              </a:xfrm>
              <a:custGeom>
                <a:avLst/>
                <a:gdLst/>
                <a:ahLst/>
                <a:rect l="l" t="t" r="r" b="b"/>
                <a:pathLst>
                  <a:path w="503" h="309">
                    <a:moveTo>
                      <a:pt x="502" y="0"/>
                    </a:moveTo>
                    <a:lnTo>
                      <a:pt x="165" y="0"/>
                    </a:lnTo>
                    <a:lnTo>
                      <a:pt x="0" y="308"/>
                    </a:lnTo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5202720" y="2480760"/>
                <a:ext cx="199080" cy="207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670400" y="2663640"/>
              <a:ext cx="13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76880" y="2663640"/>
              <a:ext cx="13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44760" y="2663640"/>
              <a:ext cx="13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81760" y="2663640"/>
              <a:ext cx="13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35120" y="2663640"/>
              <a:ext cx="13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9600" y="2663640"/>
              <a:ext cx="13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1760" y="2115720"/>
              <a:ext cx="13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95560" y="2846160"/>
              <a:ext cx="0" cy="12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30600" y="2846160"/>
              <a:ext cx="0" cy="12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30600" y="2298600"/>
              <a:ext cx="0" cy="12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987480" y="4037760"/>
            <a:ext cx="8159040" cy="1573560"/>
            <a:chOff x="987480" y="4037760"/>
            <a:chExt cx="8159040" cy="1573560"/>
          </a:xfrm>
        </p:grpSpPr>
        <p:sp>
          <p:nvSpPr>
            <p:cNvPr id="121" name=""/>
            <p:cNvSpPr/>
            <p:nvPr/>
          </p:nvSpPr>
          <p:spPr>
            <a:xfrm>
              <a:off x="4351320" y="4611600"/>
              <a:ext cx="4208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28800" y="4611600"/>
              <a:ext cx="6598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59400" y="455688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42680" y="4037760"/>
              <a:ext cx="7851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7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57800" y="405324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87480" y="4555800"/>
              <a:ext cx="7794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1640" y="455580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21960" y="5071680"/>
              <a:ext cx="7812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52400" y="5068440"/>
              <a:ext cx="782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62640" y="4717800"/>
              <a:ext cx="488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100480" y="4629600"/>
              <a:ext cx="976680" cy="742320"/>
              <a:chOff x="5100480" y="4629600"/>
              <a:chExt cx="976680" cy="742320"/>
            </a:xfrm>
          </p:grpSpPr>
          <p:sp>
            <p:nvSpPr>
              <p:cNvPr id="132" name=""/>
              <p:cNvSpPr/>
              <p:nvPr/>
            </p:nvSpPr>
            <p:spPr>
              <a:xfrm>
                <a:off x="5100480" y="4998600"/>
                <a:ext cx="736920" cy="372960"/>
              </a:xfrm>
              <a:custGeom>
                <a:avLst/>
                <a:gdLst/>
                <a:ahLst/>
                <a:rect l="l" t="t" r="r" b="b"/>
                <a:pathLst>
                  <a:path w="507" h="311">
                    <a:moveTo>
                      <a:pt x="0" y="0"/>
                    </a:moveTo>
                    <a:lnTo>
                      <a:pt x="168" y="310"/>
                    </a:lnTo>
                    <a:lnTo>
                      <a:pt x="506" y="310"/>
                    </a:lnTo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56520" y="5267520"/>
                <a:ext cx="267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30200" y="4629600"/>
                <a:ext cx="246960" cy="742320"/>
              </a:xfrm>
              <a:custGeom>
                <a:avLst/>
                <a:gdLst/>
                <a:ahLst/>
                <a:rect l="l" t="t" r="r" b="b"/>
                <a:pathLst>
                  <a:path w="170" h="619">
                    <a:moveTo>
                      <a:pt x="4" y="618"/>
                    </a:moveTo>
                    <a:lnTo>
                      <a:pt x="169" y="3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748840" y="4732200"/>
                <a:ext cx="203040" cy="273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00480" y="4629600"/>
                <a:ext cx="730800" cy="370440"/>
              </a:xfrm>
              <a:custGeom>
                <a:avLst/>
                <a:gdLst/>
                <a:ahLst/>
                <a:rect l="l" t="t" r="r" b="b"/>
                <a:pathLst>
                  <a:path w="503" h="309">
                    <a:moveTo>
                      <a:pt x="502" y="0"/>
                    </a:moveTo>
                    <a:lnTo>
                      <a:pt x="165" y="0"/>
                    </a:lnTo>
                    <a:lnTo>
                      <a:pt x="0" y="308"/>
                    </a:lnTo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5220720" y="4766040"/>
                <a:ext cx="199080" cy="196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1689480" y="4937760"/>
              <a:ext cx="13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95600" y="4937760"/>
              <a:ext cx="13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62400" y="4937760"/>
              <a:ext cx="14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00480" y="4937760"/>
              <a:ext cx="13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53480" y="4937760"/>
              <a:ext cx="13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28320" y="4937760"/>
              <a:ext cx="13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00480" y="4420440"/>
              <a:ext cx="13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14640" y="5110920"/>
              <a:ext cx="0" cy="115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48600" y="5110920"/>
              <a:ext cx="0" cy="115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48600" y="4593240"/>
              <a:ext cx="0" cy="115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6360" y="4428720"/>
              <a:ext cx="23601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221000" y="3322800"/>
            <a:ext cx="0" cy="63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41360" y="1646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Comic Sans MS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88620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Comic Sans MS"/>
              </a:rPr>
              <a:t>N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7000" y="538020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Comic Sans MS"/>
              </a:rPr>
              <a:t>n=1-100, typically 1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ahoma"/>
              </a:rPr>
              <a:t>Phys-Chem Properties</a:t>
            </a:r>
            <a:endParaRPr b="1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ater solubilit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for low mole NPEs &amp;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or high mole N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Use in deter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ctanol-water partition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or low mole NPEs &amp;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Adsorption to sludge, land application, mobility in s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for high mole N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apor pressur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for NPEs and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imited emission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ahoma"/>
              </a:rPr>
              <a:t>Biodegradation</a:t>
            </a:r>
            <a:endParaRPr b="1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2480" y="1390680"/>
            <a:ext cx="79311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iterature review finds b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iodegradation pathway is complex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erobic and anaerobic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omatic ring breaks during bio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P/NPE degrade in surface waters, sediments,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P/NPEs &amp; ether carboxylate (NPEC) degradation intermediates not expected to be persis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overnment assessments conclude NP/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NPEs not persistent nor bioaccumulativ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vironment Canada, Washington DOE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Tahoma"/>
              </a:rPr>
              <a:t>NPE Entry into Environment</a:t>
            </a:r>
            <a:endParaRPr b="1" lang="en-US" sz="4200" spc="-1" strike="noStrike">
              <a:solidFill>
                <a:srgbClr val="ff66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325520" y="1357200"/>
            <a:ext cx="7250040" cy="5241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4205160" y="233208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1160" y="763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ahoma"/>
              </a:rPr>
              <a:t>Levels in the Environment</a:t>
            </a:r>
            <a:endParaRPr b="1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2840" y="1390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lkylphenols &amp; Ethoxylates Research Council (APERC) conducted extensive literature review of NP/NPE monitoring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-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 studies, many by US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s provided  raw data f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8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script submitted for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1160" y="43920"/>
            <a:ext cx="777240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Percent Rank NP Concs                 vs. EPA Chronic WQC</a:t>
            </a:r>
            <a:endParaRPr b="1" lang="en-US" sz="4000" spc="-1" strike="noStrike">
              <a:solidFill>
                <a:srgbClr val="ff66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41560" y="1320840"/>
            <a:ext cx="7511760" cy="490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7:46:40Z</dcterms:created>
  <dc:creator>Scott Bash</dc:creator>
  <dc:description/>
  <dc:language>en-US</dc:language>
  <cp:lastModifiedBy>Chris Hornback</cp:lastModifiedBy>
  <cp:lastPrinted>2000-03-09T18:41:59Z</cp:lastPrinted>
  <dcterms:modified xsi:type="dcterms:W3CDTF">2006-10-11T16:22:30Z</dcterms:modified>
  <cp:revision>445</cp:revision>
  <dc:subject>City Council Presentation</dc:subject>
  <dc:title>29Jun99 COA</dc:title>
</cp:coreProperties>
</file>