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976-0589-410C-990B-D66D960D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B5C-4510-4467-8EE0-1415B854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B4D-35C8-43BF-89A7-35390077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527-CC45-4295-B8EC-61159ED3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845-B099-49B5-AFFD-3112155A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558-9BFA-4485-9650-BC17F539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689-B213-4559-ADE5-C1F4E971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A93-7B1F-4080-8D21-B6A4A866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A81-1858-441D-AFF7-0A9F9155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937-B4D1-48D2-BC4C-871A09EE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A64-CA2F-4026-ABC2-5723185D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E99-C909-4B0B-9B54-B68DDB1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E57E-7E1F-44A4-BABB-2C3784192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armaceuticals in the Environment – A Review of P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MA Initiativ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k Mastrocco, DAB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izer I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rmaceutical Research and Manufacturers of Ame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pared f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CW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6 National Pretreatment and Pollution Prevention Worksho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 October 200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uman Risk Assess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included 26 USGS human health pharmaceutic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steroidal analgesics, non-steroidal anti-inflamma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iate analge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nchodil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2 receptor antagon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microbial, antibiotics, antibac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ium blocker, ACE inhibitor, anti-hypertens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otonin uptake inhibitors, anti-depres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oglyce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-coagul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diac glyco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-hyperlipide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523880"/>
            <a:ext cx="80773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248520"/>
            <a:ext cx="76964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6248520"/>
            <a:ext cx="8384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53080" y="600696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600696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uman Risk Assess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cc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66cc"/>
                </a:solidFill>
                <a:latin typeface="Tahoma"/>
              </a:rPr>
              <a:t>Results of this human health assessment indicate that no appreciable human health risk exists from the presence of these trace residues in surface water and drinking water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hwab, B. W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uman pharmaceuticals in US surface waters: A human health risk assess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g. Tox. Pharmac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2005,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2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96-3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Human Health Publication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ristensen, F.M. (1998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armaceuticals in the environment – A Human Risk?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g. Toxicol. &amp; Pharmacol., 28, 212-221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ulman, et al., (2002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human health risk assessment of pharmaceuticals in the aquatic environmen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uman &amp; Ecological Risk Assessment, 8 (4), pp. 657-68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s, M.N., (2003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armaceuticals and drinking water supply in the Netherlan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Kiwa N.V. Wate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b, et al., (2003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irect human exposure to pharmaceuticals via drinking wate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xicology Letters, 142, 157-167.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All concluded that environmental exposure to human pharmaceuticals poses little human health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6324480"/>
            <a:ext cx="77724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77120" y="609588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ce-based Approach: A step-wi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he basis for a credible response using a ‘step-wise’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the potential for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potential impacts to aquatic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and respond to emerging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gulatory environmental assess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A-CDER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enter for Drug Evaluation and Researc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tory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deral Food, Drug, and Cosmetic Act (FFD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Environmental Policy Act (NE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s all Federal agencies to assess the environmental impacts of their actions. Op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tegorical Exclusion (CE): actions that individually or cumulatively do not significantly affect the quality of the human environm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vironmental Assessment (EA): Any new drug (or added indication) expected to reach an environmental concentration of 1 ppb or more.  This equates to production of 44,000 kg/y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vironmental Impact Statement (EIS): Required for actions expected to have environmental impa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raordinary Circumstances may be invoked if the action may significantly affect the quality of the human environm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324480"/>
            <a:ext cx="7696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477120" y="609588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roach to aquatic assess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ure is expected to be continuous due to low level excretion of med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ute toxicity is unlikely barring ‘catastrophic’ exposures (e.g., spi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is on understanding chronic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llenge: Limited historical data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nningham, V.L.; Buzby, M.; Hutchinson, T.; Mastrocco, F.; Parke, N.; Roden, N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s of Human Pharmaceuticals on Aquatic Life: Next Step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viron. Sci. Technol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3456 - 346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P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MA PIE Public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ll (2005) The detection of pharmaceutical compounds in surface water is a matter of significant interest to the pharmaceutical indust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ci. Tot. Envir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n p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ll (2005) Pharmaceutical data do not elude researchers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nviron. Sci. Techn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(Oct 1 2005,  p 292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bamazepine risk assessment (SETAC presentations, Nov. 2005, May 200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nningham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uman Health and Environmental Risk Assessment of Carbamazepine in Surface Waters of North America and Europe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nviron. Sci. Technol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ted August 20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gesics case study (SETAC poster, Nov, 2005); manuscript in prepar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ce-based Approach: A step-wi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he basis for a credible response using a ‘step-wise’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the potential for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aquatic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derstand and respond to emerging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urces of Unused Medicin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jor source of pharmaceuticals in the environment is patient excretion and incomplete removal in wastewater treatment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hold disposal of unused medicines is a comparatively minor contributor to environmental concent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term care facilities could generate one-third of unused medici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6324480"/>
            <a:ext cx="7696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477120" y="609588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ustry is committed to assessing the significance of pharmaceuticals in the environment using science- based approach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uman risk assessment concluded that, for the compounds investigated to date, no appreciable risk to human health ex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ustry is evaluating published data on aquatic life impacts and formulating an approach to assess the potential for impacts to ecosyst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ustry is continuing to research sources of unused medicine, to identify options for their disposal and to participate in discussions with stakehold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6324480"/>
            <a:ext cx="7696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477120" y="609588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MA PIE Perspec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cience-based appro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necessary to understand and address concerns resulting from detection of pharmaceutical in the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identify knowledge gaps requiring further investi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enerate data to prioritize further investi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provide confidence to industry, communities and governments that safety of pharmaceuticals in the environment is well understo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3244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5840" y="143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629400" y="6095880"/>
          <a:ext cx="13716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6095880"/>
                    <a:ext cx="13716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ce-based Approach: A step-wi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he basis for a credible response using a ‘step-wise’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potential for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potential impacts to 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potential impacts to aquatic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and respond to emerging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ce-based Approach: A step-wi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he basis for a credible response using a ‘step-wise’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derstand the potential for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aquatic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and respond to emerging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G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ynylestradiol (EE2) results: The importance of analytical accu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324480"/>
            <a:ext cx="77724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77120" y="609588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52280" y="1752480"/>
            <a:ext cx="87631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5880" y="5029200"/>
            <a:ext cx="83844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G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ynylestradiol (EE2) results: The importance of analytical accu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GS EE2 results significantly higher than ot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31 ng/L vs. 5-15 ng/L; greater than 50-fold differe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ed USGS data to ID location of high EE2 detects: Rural Florida and Mont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‘likely’ EE2 source identifi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ytical interference due to sample matrix identified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rnes, et al. (1999)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ehavior and occurrence of estrogens in municipal sewage treatment plants - I. Investigations in Germany, Canada and Brazil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cience of the Total Environment 225:81-9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hors aware of matrix interference, acknowledge discordance, identify results as “erroneously” included and corrected in report, but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er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ublish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oplin, et al. (2002)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sponse to Comment on “Pharmaceuticals, Hormones, and Other Organic Wastewater Contaminants in U.S. Streams, 1999-2000: A National Reconnaissance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nvir. Sci. Tech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4007-400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324480"/>
            <a:ext cx="7696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477120" y="6118200"/>
          <a:ext cx="137160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118200"/>
                    <a:ext cx="13716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G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ynylestradiol (EE2) results: The importance of analytical accu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44792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62120" y="1600200"/>
            <a:ext cx="7848360" cy="44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5105520"/>
            <a:ext cx="5562720" cy="838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-related public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76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GS Paper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32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olpin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armaceuticals, Hormones, &amp; Other Wastewater Contaminants in U.S. Streams, 1999-2000: A National Reconnaissanc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nviron. Sci. Technol.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002,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6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1202-1211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E™ Papers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32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erson, P.D.; D’Aco, V.J.; Shanahan, P.; Chapra, S.C.;  Buzby, M.E.; Cunningham, V.L.; DuPlessie, B.M.; Hayes, E.P.; Mastrocco, F.J.; Parke, N.J.; Rader, J.C.; Samuelian, J.H.; Schwab, B.W.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reening analysis of human pharmaceutical compounds in U.S. surface waters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. Environ. Sci. Techno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2004,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838-849.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32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nningham, V.L.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PhAT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Model:  Estimating the Distribution of Pharmaceuticals in the Environment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outhwest Hydrolog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November/December 2003, 20-21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32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nningham, V. L.; Constable, D. J.; Hannah, R. E.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vironmental Risk Assessment of Paroxetin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nviron. Sci. Technol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00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8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3351-3359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ce-based Approach: A step-wi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he basis for a credible response using a ‘step-wise’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the potential for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potential impacts to 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aquatic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and respond to emerging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13:31:48Z</dcterms:created>
  <dc:creator>Thomas Burns</dc:creator>
  <dc:description/>
  <dc:language>en-US</dc:language>
  <cp:lastModifiedBy>Frank Mastrocco</cp:lastModifiedBy>
  <cp:lastPrinted>2003-04-30T20:28:09Z</cp:lastPrinted>
  <dcterms:modified xsi:type="dcterms:W3CDTF">2006-09-26T20:12:46Z</dcterms:modified>
  <cp:revision>2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nsitivityCode">
    <vt:lpwstr>NONE</vt:lpwstr>
  </property>
  <property fmtid="{D5CDD505-2E9C-101B-9397-08002B2CF9AE}" pid="3" name="_EmailEntryID">
    <vt:lpwstr>000000003DC237DCC39D254E892218B5A927CA220700E766672C3E0AB6459AFD8504FDF62ACC0000000FB02B0000E766672C3E0AB6459AFD8504FDF62ACC0000010604690000</vt:lpwstr>
  </property>
  <property fmtid="{D5CDD505-2E9C-101B-9397-08002B2CF9AE}" pid="4" name="_EmailStoreID">
    <vt:lpwstr>0000000038A1BB1005E5101AA1BB08002B2A56C20000454D534D44422E444C4C00000000000000001B55FA20AA6611CD9BC800AA002FC45A0C0000004D4F50414D5245584D3233002F6F3D5066697A65722F6F753D4C6567616C2F636E3D526563697069656E74732F636E3D343746303332463900</vt:lpwstr>
  </property>
  <property fmtid="{D5CDD505-2E9C-101B-9397-08002B2CF9AE}" pid="5" name="_ReviewCycleID">
    <vt:r8>-1725222187</vt:r8>
  </property>
</Properties>
</file>