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14.wmf" ContentType="image/x-wmf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15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12.wmf" ContentType="image/x-wmf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60768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685656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30400" y="1735200"/>
            <a:ext cx="6227640" cy="87120"/>
          </a:xfrm>
          <a:custGeom>
            <a:avLst/>
            <a:gdLst/>
            <a:ahLst/>
            <a:rect l="l" t="t" r="r" b="b"/>
            <a:pathLst>
              <a:path w="3923" h="55">
                <a:moveTo>
                  <a:pt x="3922" y="0"/>
                </a:moveTo>
                <a:lnTo>
                  <a:pt x="0" y="0"/>
                </a:lnTo>
                <a:lnTo>
                  <a:pt x="0" y="54"/>
                </a:lnTo>
                <a:lnTo>
                  <a:pt x="3922" y="54"/>
                </a:lnTo>
                <a:lnTo>
                  <a:pt x="3922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779040" cy="6603840"/>
          </a:xfrm>
          <a:custGeom>
            <a:avLst/>
            <a:gdLst/>
            <a:ahLst/>
            <a:rect l="l" t="t" r="r" b="b"/>
            <a:pathLst>
              <a:path w="6160" h="4160">
                <a:moveTo>
                  <a:pt x="6159" y="0"/>
                </a:moveTo>
                <a:lnTo>
                  <a:pt x="4479" y="0"/>
                </a:lnTo>
                <a:lnTo>
                  <a:pt x="0" y="0"/>
                </a:lnTo>
                <a:lnTo>
                  <a:pt x="0" y="4159"/>
                </a:lnTo>
                <a:lnTo>
                  <a:pt x="1920" y="4159"/>
                </a:lnTo>
                <a:lnTo>
                  <a:pt x="1920" y="3999"/>
                </a:lnTo>
                <a:lnTo>
                  <a:pt x="4399" y="3999"/>
                </a:lnTo>
                <a:lnTo>
                  <a:pt x="4399" y="3839"/>
                </a:lnTo>
                <a:lnTo>
                  <a:pt x="320" y="3839"/>
                </a:lnTo>
                <a:lnTo>
                  <a:pt x="320" y="320"/>
                </a:lnTo>
                <a:lnTo>
                  <a:pt x="6159" y="320"/>
                </a:lnTo>
                <a:lnTo>
                  <a:pt x="6159" y="0"/>
                </a:lnTo>
              </a:path>
            </a:pathLst>
          </a:custGeom>
          <a:solidFill>
            <a:srgbClr val="400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6320" y="6348240"/>
            <a:ext cx="3940200" cy="254160"/>
          </a:xfrm>
          <a:prstGeom prst="rect">
            <a:avLst/>
          </a:prstGeom>
          <a:solidFill>
            <a:srgbClr val="771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6320" y="509760"/>
            <a:ext cx="7242120" cy="6348240"/>
          </a:xfrm>
          <a:custGeom>
            <a:avLst/>
            <a:gdLst/>
            <a:ahLst/>
            <a:rect l="l" t="t" r="r" b="b"/>
            <a:pathLst>
              <a:path w="4562" h="3999">
                <a:moveTo>
                  <a:pt x="4561" y="0"/>
                </a:moveTo>
                <a:lnTo>
                  <a:pt x="4240" y="0"/>
                </a:lnTo>
                <a:lnTo>
                  <a:pt x="4240" y="3678"/>
                </a:lnTo>
                <a:lnTo>
                  <a:pt x="2480" y="3678"/>
                </a:lnTo>
                <a:lnTo>
                  <a:pt x="2480" y="3838"/>
                </a:lnTo>
                <a:lnTo>
                  <a:pt x="0" y="3838"/>
                </a:lnTo>
                <a:lnTo>
                  <a:pt x="0" y="3998"/>
                </a:lnTo>
                <a:lnTo>
                  <a:pt x="4561" y="3998"/>
                </a:lnTo>
                <a:lnTo>
                  <a:pt x="4561" y="0"/>
                </a:lnTo>
              </a:path>
            </a:pathLst>
          </a:custGeom>
          <a:solidFill>
            <a:srgbClr val="c90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77240" y="0"/>
            <a:ext cx="509760" cy="509760"/>
          </a:xfrm>
          <a:prstGeom prst="rect">
            <a:avLst/>
          </a:prstGeom>
          <a:solidFill>
            <a:srgbClr val="771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3816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62120" indent="-15264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066680" indent="-15228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152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152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1522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we putting in the water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sumer Products Present 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w Pretreatment Challe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CWA 2006 National Pre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lution Prevention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5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Orl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dilemma?  Is there a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ccurrence of some emerging contaminants correlates with ecological effects and sexual abnormalities in fi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ntaminants do not pose a probl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they occur at low concentrations in the environ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erm and synergistic effects are not yet know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caution should be advi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4950000"/>
            <a:ext cx="10670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should we do?   What can w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autionary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n activity raises threats of harm to human health or the environment, precautionary measures should be taken even if some cause and effect relationships are not fully established scientif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atgue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4876920"/>
            <a:ext cx="1371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should we do?   What can w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autionary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there are threats of serious or irreversible damage, lack of full scientific certainty shall not be used as a reason for postponing cost-effective measures to prevent environmental degrad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should we do?   What can w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nd 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nd scientific evidence repres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undamental prerequisite in the decision-making proces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4718160"/>
            <a:ext cx="1665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should we do?   What can w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ced Wastewater Trea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Pretrea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lution 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Edu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001000" y="4800600"/>
            <a:ext cx="14749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f I had the answer…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0">
              <a:spcBef>
                <a:spcPts val="700"/>
              </a:spcBef>
              <a:buNone/>
              <a:tabLst>
                <a:tab algn="l" pos="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 would go here……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BD07175_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18493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 fontScale="95000"/>
          </a:bodyPr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on Sense lived a long life, but died from heart failure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ne really knows how old he was, his birth records were long ago entangled in miles and miles of bureaucratic red tap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n to close friends as Horse Sense and Sound Thinking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 selflessly devoted himself to a life of servic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ping folks get jobs done without a lot of fanfa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les and regulations and petty, frivolous lawsui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d no power over Common S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7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orgman,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167652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we putting in the water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sumer Products Present 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w Pretreatment Challe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CWA 2006 National Pre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lution Prevention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5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Orl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we talking abo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of Emerging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ing Contam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constitu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Contam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of Potential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unds of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lutants of Conc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Constitu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EN00378_" descr=""/>
          <p:cNvPicPr/>
          <p:nvPr/>
        </p:nvPicPr>
        <p:blipFill>
          <a:blip r:embed="rId1"/>
          <a:stretch/>
        </p:blipFill>
        <p:spPr>
          <a:xfrm>
            <a:off x="609480" y="4952880"/>
            <a:ext cx="12956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we talking abo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ing Contam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ocrine Disrupting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no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hogenic Microorganis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rmaceut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3120" y="4648320"/>
            <a:ext cx="66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we talking abo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ing Contami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Disrupting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ial 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no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ogenic Microorganis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rmaceut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E01460_" descr=""/>
          <p:cNvPicPr/>
          <p:nvPr/>
        </p:nvPicPr>
        <p:blipFill>
          <a:blip r:embed="rId1"/>
          <a:stretch/>
        </p:blipFill>
        <p:spPr>
          <a:xfrm>
            <a:off x="8472600" y="4800600"/>
            <a:ext cx="1149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we talking about these contamin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ademics, state officials, and environmental advocates are star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question whether massive amounts of discarded pharmaceuticals, which are often flushed down the dr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e a threat to the nation’s aquatic life and possibly to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ashington Post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we talking about these contamin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nt reports concerning emergent contaminants in wa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ch as antibiotics, vitamins, pharmaceuticals, and other supplements have raised concerns for many environmentali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adworks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792680"/>
            <a:ext cx="15238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we talking about these contamin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water pouring from sewage-treatment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oulder and Den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bending the gender of fish living downstrea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new study has sh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3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nver Post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1419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we talking about these contamin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analytical capabilities have allowed scienti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dentify chemicals in the environ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extremely small concentration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erging contaminants are those chemicals th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been shown to occur widely in our water resources and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ied as being a potential environmental or public health r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24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Younos,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038480" y="5029200"/>
            <a:ext cx="1600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7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What are we putting in the water?</a:t>
            </a:r>
            <a:br>
              <a:rPr sz="2800"/>
            </a:b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Consumer Products Present a New Pretreatment Chall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are we talking about these contamin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evant, Minute Qua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– Effect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for Conc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gative Conno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vs. Bene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ment Challen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49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Uncertain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E01832_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13716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44:58Z</dcterms:created>
  <dc:creator>STucker</dc:creator>
  <dc:description/>
  <dc:language>en-US</dc:language>
  <cp:lastModifiedBy>STucker</cp:lastModifiedBy>
  <cp:lastPrinted>31146-01-14T19:25:53Z</cp:lastPrinted>
  <dcterms:modified xsi:type="dcterms:W3CDTF">2006-10-04T21:58:47Z</dcterms:modified>
  <cp:revision>22</cp:revision>
  <dc:subject/>
  <dc:title>What are we putting in the water? Consumer Products Present a New Pretreatment Challenge</dc:title>
</cp:coreProperties>
</file>