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400-12DF-431F-9EF8-9C1870F4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7086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802040"/>
            <a:ext cx="7086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A20-B174-4ED3-AD61-1382E817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256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B4C-6225-4EAC-9D95-558AE411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7400" y="388620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3560" y="388620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80204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7400" y="480204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3560" y="480204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8D5-8E0B-42C0-8B19-D34A4204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8219-1784-4BF4-B97E-00034573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CBA2-E20F-445D-9C44-D819A71C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002B-F044-4464-AC53-CC6F7494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E77A-CBC0-43B8-B3F0-18339664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E064-D0AF-4DAD-B90F-75BBE721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160" y="2130120"/>
            <a:ext cx="792468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DC7C-498B-472F-8032-6CA4AF20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F349-3C96-41A6-9FC1-F625A17C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25B-11E6-4B1F-B469-C51C1ABD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256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8F2D-429E-4159-A19F-7C063B05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7086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3E71-6E5D-4AFA-AD5B-C748791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7086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240" y="4802040"/>
            <a:ext cx="7086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9183-67FE-47E1-92AD-C17349BC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256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D999-D32F-4E9B-AA11-4DC6EB0A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67400" y="388620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3560" y="388620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240" y="480204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67400" y="480204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3560" y="4802040"/>
            <a:ext cx="22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CFE8-A076-47EA-838E-DE217DFA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DC0-8D20-4821-8306-17702578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BC2-AD3E-48DD-A158-86F368B0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BE39-46D3-407F-9C68-A8BABDD5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2130120"/>
            <a:ext cx="792468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A8C-89B7-42A6-8D7A-92B27585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5A8-D1DC-4D76-81A5-5EAD76FA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2560" y="480204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D2D-18C7-4B03-BAE1-1CFF70A6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2560" y="3886200"/>
            <a:ext cx="3458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7086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4DF-8319-4A91-BF4C-EB3530AC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0CC0-B1A3-43E8-8826-0AD338521CD7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F0EE-9469-454C-82B3-DB22C15DC881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272776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pa.gov/mercury/roadmap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72776"/>
                </a:solidFill>
                <a:latin typeface="Century Gothic"/>
              </a:rPr>
              <a:t>U.S. EPA Headquarters Update</a:t>
            </a:r>
            <a:endParaRPr b="0" lang="en-US" sz="41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NACWA 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2006 National Pretreatment and Pollution Prevention Workshop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New Orleans, Louisiana – OCT 5, 2006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Deborah G. Nagle, EPA HQ Office of Water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72776"/>
                </a:solidFill>
                <a:uFillTx/>
                <a:latin typeface="Century Gothic"/>
              </a:rPr>
              <a:t>Additional Activities Coordinated with Others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ROMERR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CROMERR = </a:t>
            </a:r>
            <a:r>
              <a:rPr b="1" lang="en-US" sz="2400" spc="-1" strike="noStrike">
                <a:solidFill>
                  <a:srgbClr val="272776"/>
                </a:solidFill>
                <a:latin typeface="Century Gothic"/>
              </a:rPr>
              <a:t>CRO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ss </a:t>
            </a:r>
            <a:r>
              <a:rPr b="1" lang="en-US" sz="2400" spc="-1" strike="noStrike">
                <a:solidFill>
                  <a:srgbClr val="272776"/>
                </a:solidFill>
                <a:latin typeface="Century Gothic"/>
              </a:rPr>
              <a:t>M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edia </a:t>
            </a:r>
            <a:r>
              <a:rPr b="1" lang="en-US" sz="2400" spc="-1" strike="noStrike">
                <a:solidFill>
                  <a:srgbClr val="272776"/>
                </a:solidFill>
                <a:latin typeface="Century Gothic"/>
              </a:rPr>
              <a:t>E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lectronic </a:t>
            </a:r>
            <a:r>
              <a:rPr b="1" lang="en-US" sz="2400" spc="-1" strike="noStrike">
                <a:solidFill>
                  <a:srgbClr val="272776"/>
                </a:solidFill>
                <a:latin typeface="Century Gothic"/>
              </a:rPr>
              <a:t>R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eporting </a:t>
            </a:r>
            <a:r>
              <a:rPr b="1" lang="en-US" sz="2400" spc="-1" strike="noStrike">
                <a:solidFill>
                  <a:srgbClr val="272776"/>
                </a:solidFill>
                <a:latin typeface="Century Gothic"/>
              </a:rPr>
              <a:t>R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ule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Published Oct. 13, 2005 (70 FR59847) 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Effective Jan. 11, 2006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272776"/>
                </a:solidFill>
                <a:latin typeface="Century Gothic"/>
              </a:rPr>
              <a:t>Authorized program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 means a Federal program that EPA has delegated, authorized, or approved a state, tribe, or local government to administer, or a program that EPA has delegated, authorized, or approved a state, tribe or local government to administer in lieu of a Federal program, under other provisions of Title 40 and such delegation, authorization, or approval has not been withdrawn or expired. ”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OEI has requested our assistance!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0DF-EA83-4340-9BD1-61594689EE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72776"/>
                </a:solidFill>
                <a:uFillTx/>
                <a:latin typeface="Century Gothic"/>
              </a:rPr>
              <a:t>Additional Activities Coordinated with Others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Mercury Methods &amp; Roadmap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Issued July 5, 2006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entury Gothic"/>
                <a:hlinkClick r:id="rId1"/>
              </a:rPr>
              <a:t>http://www.epa.gov/mercury/roadmap.htm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Priority Activities” for Water – pgs 30-33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Mercury Automobile Switche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Characterize Mining Release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Characterize mercury Discharges to Surface Water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915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1566"/>
                </a:solidFill>
                <a:latin typeface="Century Gothic"/>
              </a:rPr>
              <a:t>Issue Mercury Water Quality Criterion Implementation Guidance 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Improve Tools for Tracking Mercury in Fish Tissue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915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1566"/>
                </a:solidFill>
                <a:latin typeface="Century Gothic"/>
              </a:rPr>
              <a:t>Develop Alternative Approaches and Tools for identifying Mercury Impairments and Developing Mercury TMDL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7915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1566"/>
                </a:solidFill>
                <a:latin typeface="Century Gothic"/>
              </a:rPr>
              <a:t>Promote Proper Collection and Recycling of Dental Amalgam Waste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Fluorescent Lamp Recycling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Analyze Sectors and Trends for Mercury Releases in the TRI/NEI Database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8B7-A9AE-4473-996E-10E5838657E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2130120"/>
            <a:ext cx="830556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72776"/>
                </a:solidFill>
                <a:uFillTx/>
                <a:latin typeface="Century Gothic"/>
              </a:rPr>
              <a:t>Contact information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:</a:t>
            </a:r>
            <a:br>
              <a:rPr sz="4000"/>
            </a:br>
            <a:br>
              <a:rPr sz="1600"/>
            </a:br>
            <a:r>
              <a:rPr b="0" lang="en-US" sz="3600" spc="-1" strike="noStrike">
                <a:solidFill>
                  <a:srgbClr val="298c12"/>
                </a:solidFill>
                <a:latin typeface="Century Gothic"/>
              </a:rPr>
              <a:t>Deborah G. Nagle</a:t>
            </a:r>
            <a:br>
              <a:rPr sz="3600"/>
            </a:br>
            <a:r>
              <a:rPr b="0" lang="en-US" sz="3600" spc="-1" strike="noStrike">
                <a:solidFill>
                  <a:srgbClr val="298c12"/>
                </a:solidFill>
                <a:latin typeface="Century Gothic"/>
              </a:rPr>
              <a:t>(202) 564-1185</a:t>
            </a:r>
            <a:br>
              <a:rPr sz="3600"/>
            </a:br>
            <a:r>
              <a:rPr b="0" lang="en-US" sz="3600" spc="-1" strike="noStrike">
                <a:solidFill>
                  <a:srgbClr val="298c12"/>
                </a:solidFill>
                <a:latin typeface="Century Gothic"/>
              </a:rPr>
              <a:t>nagle.deborah@epa.gov</a:t>
            </a:r>
            <a:br>
              <a:rPr sz="3600"/>
            </a:br>
            <a:r>
              <a:rPr b="0" lang="en-US" sz="3600" spc="-1" strike="noStrike">
                <a:solidFill>
                  <a:srgbClr val="272776"/>
                </a:solidFill>
                <a:latin typeface="Century Gothic"/>
              </a:rPr>
              <a:t>or</a:t>
            </a:r>
            <a:br>
              <a:rPr sz="3600"/>
            </a:br>
            <a:r>
              <a:rPr b="0" lang="en-US" sz="3600" spc="-1" strike="noStrike">
                <a:solidFill>
                  <a:srgbClr val="298c12"/>
                </a:solidFill>
                <a:latin typeface="Century Gothic"/>
              </a:rPr>
              <a:t>Jan Marie Pickrel</a:t>
            </a:r>
            <a:br>
              <a:rPr sz="3600"/>
            </a:br>
            <a:r>
              <a:rPr b="0" lang="en-US" sz="3600" spc="-1" strike="noStrike">
                <a:solidFill>
                  <a:srgbClr val="298c12"/>
                </a:solidFill>
                <a:latin typeface="Century Gothic"/>
              </a:rPr>
              <a:t>(202) 564-7904</a:t>
            </a:r>
            <a:br>
              <a:rPr sz="3600"/>
            </a:br>
            <a:r>
              <a:rPr b="0" lang="en-US" sz="3600" spc="-1" strike="noStrike">
                <a:solidFill>
                  <a:srgbClr val="298c12"/>
                </a:solidFill>
                <a:latin typeface="Century Gothic"/>
              </a:rPr>
              <a:t>pickrel.jan@epa.gov</a:t>
            </a:r>
            <a:br>
              <a:rPr sz="3600"/>
            </a:b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380988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80" y="72"/>
                  <a:pt x="160" y="0"/>
                  <a:pt x="240" y="0"/>
                </a:cubicBezTo>
                <a:cubicBezTo>
                  <a:pt x="320" y="0"/>
                  <a:pt x="392" y="144"/>
                  <a:pt x="480" y="144"/>
                </a:cubicBezTo>
                <a:cubicBezTo>
                  <a:pt x="568" y="144"/>
                  <a:pt x="720" y="24"/>
                  <a:pt x="768" y="0"/>
                </a:cubicBezTo>
              </a:path>
            </a:pathLst>
          </a:custGeom>
          <a:noFill/>
          <a:ln w="5724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38098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80" y="72"/>
                  <a:pt x="160" y="0"/>
                  <a:pt x="240" y="0"/>
                </a:cubicBezTo>
                <a:cubicBezTo>
                  <a:pt x="320" y="0"/>
                  <a:pt x="392" y="144"/>
                  <a:pt x="480" y="144"/>
                </a:cubicBezTo>
                <a:cubicBezTo>
                  <a:pt x="568" y="144"/>
                  <a:pt x="720" y="24"/>
                  <a:pt x="768" y="0"/>
                </a:cubicBezTo>
              </a:path>
            </a:pathLst>
          </a:custGeom>
          <a:noFill/>
          <a:ln w="57240">
            <a:solidFill>
              <a:srgbClr val="2727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Topic Outline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Pretreatment Program Specific Activities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Implementing Streamlining Regulations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Removal Credits ANPRM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Strategies in response to OIG Report 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Performance Measurement Pilot Program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Approval Authority Oversight Strategy for CIUs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Performance Measurement Pilot Program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Migration to ICIS-NPDES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Activities Coordinated with Office of Science &amp; Technology and Others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New Source Guidance 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Centralized Waste Treatment FAQs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Design for the Environment (DfE)’s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Safer Detergents Stewardship initiative”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Migration to ICIS-NPDES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CROMERR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2776"/>
                </a:solidFill>
                <a:latin typeface="Century Gothic"/>
              </a:rPr>
              <a:t>Mercury Roadmap</a:t>
            </a: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9D3-E96C-444C-A77A-F6706408ED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72776"/>
                </a:solidFill>
                <a:uFillTx/>
                <a:latin typeface="Century Gothic"/>
              </a:rPr>
              <a:t>Pretreatment Program Specific Activities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br>
              <a:rPr sz="4000"/>
            </a:br>
            <a:r>
              <a:rPr b="0" lang="en-US" sz="3300" spc="-1" strike="noStrike">
                <a:solidFill>
                  <a:srgbClr val="272776"/>
                </a:solidFill>
                <a:latin typeface="Century Gothic"/>
              </a:rPr>
              <a:t>EPA Activities to Implement Pretreatment Streamlining Rule</a:t>
            </a:r>
            <a:endParaRPr b="0" lang="en-US" sz="33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Training and Outreach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Tool Development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State and POTW Program Modifications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139-0FFD-45C2-8B3E-29BFAB5885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72776"/>
                </a:solidFill>
                <a:uFillTx/>
                <a:latin typeface="Century Gothic"/>
              </a:rPr>
              <a:t>Pretreatment Program Specific Activities</a:t>
            </a:r>
            <a:br>
              <a:rPr sz="2800"/>
            </a:br>
            <a:r>
              <a:rPr b="0" lang="en-US" sz="3300" spc="-1" strike="noStrike">
                <a:solidFill>
                  <a:srgbClr val="272776"/>
                </a:solidFill>
                <a:latin typeface="Century Gothic"/>
              </a:rPr>
              <a:t>Removal Credits ANPRM</a:t>
            </a:r>
            <a:endParaRPr b="0" lang="en-US" sz="33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Advanced Notice of Potential Rule Making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Published October 14, 2005  (70 FR 60199)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Requested comments on the potential addition of 20 pollutants to Appendix G (lists of pollutants eligible for Removal Credits)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Requested comments on definition of “consistent removal”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8 commenters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A86-A45E-4CFD-B735-527AED8528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72776"/>
                </a:solidFill>
                <a:uFillTx/>
                <a:latin typeface="Century Gothic"/>
              </a:rPr>
              <a:t>Pretreatment Program Specific Activities</a:t>
            </a:r>
            <a:br>
              <a:rPr sz="2800"/>
            </a:br>
            <a:r>
              <a:rPr b="0" lang="en-US" sz="3300" spc="-1" strike="noStrike">
                <a:solidFill>
                  <a:srgbClr val="272776"/>
                </a:solidFill>
                <a:latin typeface="Century Gothic"/>
              </a:rPr>
              <a:t>Strategies in response to OIG Report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Approval Authority Oversight Strategy for CIUs discharging to POTWs without Approved Pretreatment Programs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Performance Measurement Pilot Program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9DB-4334-4969-A028-1FB600CF92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Century Gothic"/>
              </a:rPr>
              <a:t>Pretreatment Program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Century Gothic"/>
              </a:rPr>
              <a:t>Proposed Performance Measures Conceptual Model</a:t>
            </a:r>
            <a:br>
              <a:rPr sz="4000"/>
            </a:b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35040" y="1819440"/>
          <a:ext cx="6073920" cy="40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819440"/>
                    <a:ext cx="60739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553080" y="1752480"/>
            <a:ext cx="0" cy="33530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295280"/>
            <a:ext cx="6972480" cy="457200"/>
          </a:xfrm>
          <a:prstGeom prst="rightArrow">
            <a:avLst>
              <a:gd name="adj1" fmla="val 50000"/>
              <a:gd name="adj2" fmla="val 131323"/>
            </a:avLst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9" name=""/>
          <p:cNvSpPr/>
          <p:nvPr/>
        </p:nvSpPr>
        <p:spPr>
          <a:xfrm>
            <a:off x="238320" y="1006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42596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34408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Basic </a:t>
            </a:r>
            <a:r>
              <a:rPr b="0" lang="en-US" sz="1000" spc="-1" strike="noStrike">
                <a:solidFill>
                  <a:srgbClr val="272776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272776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Arial Bold"/>
                <a:ea typeface="Arial Bold"/>
              </a:rPr>
              <a:t>Enhanced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34408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320" y="1981080"/>
          <a:ext cx="9067320" cy="4019760"/>
        </p:xfrm>
        <a:graphic>
          <a:graphicData uri="http://schemas.openxmlformats.org/drawingml/2006/table">
            <a:tbl>
              <a:tblPr/>
              <a:tblGrid>
                <a:gridCol w="1007640"/>
                <a:gridCol w="946080"/>
                <a:gridCol w="860400"/>
                <a:gridCol w="938520"/>
                <a:gridCol w="897120"/>
                <a:gridCol w="1007640"/>
                <a:gridCol w="852480"/>
                <a:gridCol w="760680"/>
                <a:gridCol w="860760"/>
                <a:gridCol w="936000"/>
              </a:tblGrid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72776"/>
                          </a:solidFill>
                          <a:latin typeface="Arial"/>
                          <a:ea typeface="Times New Roman"/>
                        </a:rPr>
                        <a:t>Performance Measur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losions/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zardou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mospher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 violations/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osion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ills due to nondomestic user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erenc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s Through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ct permits and representative sampling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lly comply with local limits and catagorical standard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solids voluntarily meet Exceptional Quality (Table 3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Us voluntarily at zero discharg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erging Pollutant Controls voluntarily implemented (dental mercury, etc.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72776"/>
                          </a:solidFill>
                          <a:latin typeface="Arial"/>
                          <a:ea typeface="Times New Roman"/>
                        </a:rPr>
                        <a:t>Regulatory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72776"/>
                          </a:solidFill>
                          <a:latin typeface="Arial"/>
                          <a:ea typeface="Times New Roman"/>
                        </a:rPr>
                        <a:t>Authority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5(b)(1)&amp;(7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5(b)(2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5(b)(3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5(a)(1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amp;(b)(4), (5), (6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5(c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8(f)(1)(iii) &amp; (v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12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6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WA 1251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iminate discharge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3 Reg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3.2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WA 1251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iminate discharge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WA 1251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iminate discharge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72776"/>
                          </a:solidFill>
                          <a:latin typeface="Arial"/>
                          <a:ea typeface="Times New Roman"/>
                        </a:rPr>
                        <a:t>Method to Quantify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72776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explosion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ances of hazardous events (incl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sed cup test)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pH violation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served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osion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spill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instances of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erence and pass through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facilities with incorrect permits or unrepresentative sampling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SIUs with no violation of cat’l stds and local limits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facilities at Exceptional Quality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facilities at zero discharg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pollutants &amp; facilities with effective control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Protect Infrastructur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        Investment          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Homeland Security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Basic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        Watershed        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Protection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Proactive, High-performanc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        Environmental         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Protection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Enhanced, “beyond compliance”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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  <a:ea typeface="Arial Bold"/>
                        </a:rPr>
                        <a:t>               Environmental               </a:t>
                      </a: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 Bold"/>
                        </a:rPr>
                        <a:t>Performance</a:t>
                      </a:r>
                      <a:endParaRPr b="0" lang="en-US" sz="10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72776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579-FC6A-40D6-A206-58DB70CCBF7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72776"/>
                </a:solidFill>
                <a:uFillTx/>
                <a:latin typeface="Century Gothic"/>
              </a:rPr>
              <a:t>Additional Activities Coordinated with OST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New Source Guidance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Signed 28 September 2006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Available on Pretreatment Publications website and the Industrial Publications website: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272776"/>
                </a:solidFill>
                <a:latin typeface="Century Gothic"/>
              </a:rPr>
              <a:t>Pretreatment Publications // Policy and Guidance Documents: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 http://cfpub.epa.gov/npdes/docs.cfm?document_type_id=1&amp;view=Policy%20and%20Guidance%20Documents&amp;program_id=3&amp;sort=name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272776"/>
                </a:solidFill>
                <a:latin typeface="Century Gothic"/>
              </a:rPr>
              <a:t>Industrial and Commercial Facilities Publications // Policy and Guidance Documents: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http://cfpub.epa.gov/npdes/docs.cfm?document_type_id=1&amp;view=Policy%20and%20Guidance%20Documents&amp;program_id=14&amp;sort=name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74C-B6FE-49D6-84A9-EF5E531B26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72776"/>
                </a:solidFill>
                <a:uFillTx/>
                <a:latin typeface="Century Gothic"/>
              </a:rPr>
              <a:t>Additional Activities Coordinated with OST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entralized Waste Treatment FAQs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The dominant scope is Applicability -- Specifically, are the following CWT and if not, when would they become CWT?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Mobile activities such as power or truck washing, carpet cleaning, or heating ventilation/ air conditioning servicing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Oil or antifreeze change out at gas stations or oil change facilitie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Railroad line maintenance operations (including spill clean up from railroad operations) at a railroad line maintenance facility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Emergency response or environmental clean-up/ remediation 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Ion exchange or resin regenerations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Off-site medical/hospital sterilization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272776"/>
                </a:solidFill>
                <a:latin typeface="Century Gothic"/>
              </a:rPr>
              <a:t>POTW sludge processing</a:t>
            </a: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C9B-F702-42E5-BF23-D40C2B587B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72776"/>
                </a:solidFill>
                <a:uFillTx/>
                <a:latin typeface="Century Gothic"/>
              </a:rPr>
              <a:t>Additional Activities Coordinated with Others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Migration to ICIS-NPDES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13 States using ICIS-NPDES instead of PCS: AK, DC, HI, ID, IN, MD, MA, NH, NM, PR, RI, VI, and UT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All Federal Enforcement &amp; Compliance info now entered into ICIS-FE&amp;C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Developing a FAQs document 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16 states, tribes and territories will migrate from PCS to ICIS-NPDES by August 21, 2006:  CT, GA, MT, NE, NV, PA, SD, Saint Regis Tribe, Navajo Nation, Guam, American Samoa, Canal Zone, Mariana Islands, Gulf of Mexico, Atlantic Offshore and Trust territories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4AE-DBC3-4C47-9F96-77EBAE6031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8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07:55Z</dcterms:created>
  <dc:creator> </dc:creator>
  <dc:description/>
  <cp:keywords/>
  <dc:language>en-US</dc:language>
  <cp:lastModifiedBy>EPA</cp:lastModifiedBy>
  <dcterms:modified xsi:type="dcterms:W3CDTF">2006-10-03T16:16:05Z</dcterms:modified>
  <cp:revision>54</cp:revision>
  <dc:subject/>
  <dc:title>U.S. EPA Headquarters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21033</vt:lpwstr>
  </property>
</Properties>
</file>