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E25-A4DC-443C-9000-4163FC09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80204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D39-7C0F-4681-BF33-96037E75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256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167-914E-4287-8136-6A16272D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40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356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40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356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15A-A79E-46DD-8C5B-E8CBE12C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B749-3C21-4F72-9A85-E339E93D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02AE-2B22-4C2D-BE43-ECCB0758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3177-4CF2-4DD2-86AF-BBE32AE2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CBF5-F3C1-4C33-A380-85150CE8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BD8C-9127-487F-8576-43DEA89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160" y="2130120"/>
            <a:ext cx="79246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82BB-2127-467B-B4D9-6FAB8033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6976-8391-4E4F-BB54-8FFFB9B8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EAF-88CC-46FE-A7CA-D4B31E0A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256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26EF-13C2-4F79-A065-49D6FE8E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1E0B-8DBA-43C4-A3C2-7765ADF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240" y="480204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4A86-3292-44F5-885E-F471CD00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256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090D-6760-4B12-B8F1-6C62FE65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6740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356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24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6740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356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FC97-DAFA-4121-BCAC-7FFE216C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17E-E981-4355-9EE3-6567FD31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A36-59B1-46CD-8F03-978553D6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B18-9E77-4AAC-81E4-C847F47C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2130120"/>
            <a:ext cx="79246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20F-459C-471E-AA28-9F6E0CD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B8B-5C71-41E2-AED4-694843D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256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7B6-7EA4-4AC0-8276-92B7EBC1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1B3-8555-4404-9FC0-6C33E65B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54CB-0EA0-4EF4-9906-3496FF6ECD2A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1449-57BB-42E3-A4F6-12D7417713DD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pa.gov/mercury/roadmap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72776"/>
                </a:solidFill>
                <a:latin typeface="Century Gothic"/>
              </a:rPr>
              <a:t>U.S. EPA Headquarters Update</a:t>
            </a:r>
            <a:endParaRPr b="0" lang="en-US" sz="41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NACWA 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2006 National Pretreatment and Pollution Prevention Workshop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New Orleans, Louisiana – OCT 5, 2006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Deborah G. Nagle, EPA HQ Office of Water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thers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ROMERR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CROMERR =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CRO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ss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M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edia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E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lectronic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R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eporting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R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ule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Published Oct. 13, 2005 (70 FR59847)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Effective Jan. 11, 2006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Authorized program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means a Federal program that EPA has delegated, authorized, or approved a state, tribe, or local government to administer, or a program that EPA has delegated, authorized, or approved a state, tribe or local government to administer in lieu of a Federal program, under other provisions of Title 40 and such delegation, authorization, or approval has not been withdrawn or expired. ”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OEI has requested our assistance!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54E-26F1-409D-B798-D8480C2284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thers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Mercury Methods &amp; Roadmap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Issued July 5, 2006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entury Gothic"/>
                <a:hlinkClick r:id="rId1"/>
              </a:rPr>
              <a:t>http://www.epa.gov/mercury/roadmap.htm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Priority Activities” for Water – pgs 30-33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Mercury Automobile Switche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Characterize Mining Release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Characterize mercury Discharges to Surface Water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915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1566"/>
                </a:solidFill>
                <a:latin typeface="Century Gothic"/>
              </a:rPr>
              <a:t>Issue Mercury Water Quality Criterion Implementation Guidance 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Improve Tools for Tracking Mercury in Fish Tissue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915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1566"/>
                </a:solidFill>
                <a:latin typeface="Century Gothic"/>
              </a:rPr>
              <a:t>Develop Alternative Approaches and Tools for identifying Mercury Impairments and Developing Mercury TMDL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915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1566"/>
                </a:solidFill>
                <a:latin typeface="Century Gothic"/>
              </a:rPr>
              <a:t>Promote Proper Collection and Recycling of Dental Amalgam Waste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luorescent Lamp Recycling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Analyze Sectors and Trends for Mercury Releases in the TRI/NEI Database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094-1764-4A50-9832-E4F014A422A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830556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72776"/>
                </a:solidFill>
                <a:uFillTx/>
                <a:latin typeface="Century Gothic"/>
              </a:rPr>
              <a:t>Contact information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:</a:t>
            </a:r>
            <a:br>
              <a:rPr sz="4000"/>
            </a:br>
            <a:br>
              <a:rPr sz="1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Deborah G. Nagle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(202) 564-1185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nagle.deborah@epa.gov</a:t>
            </a:r>
            <a:br>
              <a:rPr sz="3600"/>
            </a:br>
            <a:r>
              <a:rPr b="0" lang="en-US" sz="3600" spc="-1" strike="noStrike">
                <a:solidFill>
                  <a:srgbClr val="272776"/>
                </a:solidFill>
                <a:latin typeface="Century Gothic"/>
              </a:rPr>
              <a:t>or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Jan Marie Pickrel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(202) 564-7904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pickrel.jan@epa.gov</a:t>
            </a:r>
            <a:br>
              <a:rPr sz="3600"/>
            </a:b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38098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80" y="72"/>
                  <a:pt x="160" y="0"/>
                  <a:pt x="240" y="0"/>
                </a:cubicBezTo>
                <a:cubicBezTo>
                  <a:pt x="320" y="0"/>
                  <a:pt x="392" y="144"/>
                  <a:pt x="480" y="144"/>
                </a:cubicBezTo>
                <a:cubicBezTo>
                  <a:pt x="568" y="144"/>
                  <a:pt x="720" y="24"/>
                  <a:pt x="768" y="0"/>
                </a:cubicBezTo>
              </a:path>
            </a:pathLst>
          </a:custGeom>
          <a:noFill/>
          <a:ln w="5724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38098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80" y="72"/>
                  <a:pt x="160" y="0"/>
                  <a:pt x="240" y="0"/>
                </a:cubicBezTo>
                <a:cubicBezTo>
                  <a:pt x="320" y="0"/>
                  <a:pt x="392" y="144"/>
                  <a:pt x="480" y="144"/>
                </a:cubicBezTo>
                <a:cubicBezTo>
                  <a:pt x="568" y="144"/>
                  <a:pt x="720" y="24"/>
                  <a:pt x="768" y="0"/>
                </a:cubicBezTo>
              </a:path>
            </a:pathLst>
          </a:custGeom>
          <a:noFill/>
          <a:ln w="5724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Topic Outline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Pretreatment Program Specific Activities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Implementing Streamlining Regulations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Removal Credits ANPRM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Strategies in response to OIG Report 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Performance Measurement Pilot Program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Approval Authority Oversight Strategy for CIU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Performance Measurement Pilot Program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Migration to ICIS-NPDE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Activities Coordinated with Office of Science &amp; Technology and Others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New Source Guidance 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Centralized Waste Treatment FAQ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Design for the Environment (DfE)’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Safer Detergents Stewardship initiative”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Migration to ICIS-NPDE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CROMERR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Mercury Roadmap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E67-A164-4448-9C43-3B784A9EF7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2776"/>
                </a:solidFill>
                <a:uFillTx/>
                <a:latin typeface="Century Gothic"/>
              </a:rPr>
              <a:t>Pretreatment Program Specific Activities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en-US" sz="3300" spc="-1" strike="noStrike">
                <a:solidFill>
                  <a:srgbClr val="272776"/>
                </a:solidFill>
                <a:latin typeface="Century Gothic"/>
              </a:rPr>
              <a:t>EPA Activities to Implement Pretreatment Streamlining Rule</a:t>
            </a:r>
            <a:endParaRPr b="0" lang="en-US" sz="33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raining and Outreach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ool Development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State and POTW Program Modifications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780-D62C-471B-8C9D-04995732C1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2776"/>
                </a:solidFill>
                <a:uFillTx/>
                <a:latin typeface="Century Gothic"/>
              </a:rPr>
              <a:t>Pretreatment Program Specific Activities</a:t>
            </a:r>
            <a:br>
              <a:rPr sz="2800"/>
            </a:br>
            <a:r>
              <a:rPr b="0" lang="en-US" sz="3300" spc="-1" strike="noStrike">
                <a:solidFill>
                  <a:srgbClr val="272776"/>
                </a:solidFill>
                <a:latin typeface="Century Gothic"/>
              </a:rPr>
              <a:t>Removal Credits ANPRM</a:t>
            </a:r>
            <a:endParaRPr b="0" lang="en-US" sz="33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Advanced Notice of Potential Rule Making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Published October 14, 2005  (70 FR 60199)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Requested comments on the potential addition of 20 pollutants to Appendix G (lists of pollutants eligible for Removal Credits)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Requested comments on definition of “consistent removal”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8 commenters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DB3-2545-45AA-8019-37EF951845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2776"/>
                </a:solidFill>
                <a:uFillTx/>
                <a:latin typeface="Century Gothic"/>
              </a:rPr>
              <a:t>Pretreatment Program Specific Activities</a:t>
            </a:r>
            <a:br>
              <a:rPr sz="2800"/>
            </a:br>
            <a:r>
              <a:rPr b="0" lang="en-US" sz="3300" spc="-1" strike="noStrike">
                <a:solidFill>
                  <a:srgbClr val="272776"/>
                </a:solidFill>
                <a:latin typeface="Century Gothic"/>
              </a:rPr>
              <a:t>Strategies in response to OIG Report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Approval Authority Oversight Strategy for CIUs discharging to POTWs without Approved Pretreatment Programs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Performance Measurement Pilot Program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B29-1884-42C9-93B7-B7484C6C12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Century Gothic"/>
              </a:rPr>
              <a:t>Pretreatment Program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Century Gothic"/>
              </a:rPr>
              <a:t>Proposed Performance Measures Conceptual Model</a:t>
            </a:r>
            <a:br>
              <a:rPr sz="4000"/>
            </a:b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35040" y="1819440"/>
          <a:ext cx="6073920" cy="40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819440"/>
                    <a:ext cx="60739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553080" y="1752480"/>
            <a:ext cx="0" cy="33530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6972480" cy="457200"/>
          </a:xfrm>
          <a:prstGeom prst="rightArrow">
            <a:avLst>
              <a:gd name="adj1" fmla="val 50000"/>
              <a:gd name="adj2" fmla="val 131323"/>
            </a:avLst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9" name=""/>
          <p:cNvSpPr/>
          <p:nvPr/>
        </p:nvSpPr>
        <p:spPr>
          <a:xfrm>
            <a:off x="238320" y="1006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42596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34408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Basic </a:t>
            </a:r>
            <a:r>
              <a:rPr b="0" lang="en-US" sz="1000" spc="-1" strike="noStrike">
                <a:solidFill>
                  <a:srgbClr val="272776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272776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Arial Bold"/>
                <a:ea typeface="Arial Bold"/>
              </a:rPr>
              <a:t>Enhanced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3440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320" y="1981080"/>
          <a:ext cx="9067320" cy="4019760"/>
        </p:xfrm>
        <a:graphic>
          <a:graphicData uri="http://schemas.openxmlformats.org/drawingml/2006/table">
            <a:tbl>
              <a:tblPr/>
              <a:tblGrid>
                <a:gridCol w="1007640"/>
                <a:gridCol w="946080"/>
                <a:gridCol w="860400"/>
                <a:gridCol w="938520"/>
                <a:gridCol w="897120"/>
                <a:gridCol w="1007640"/>
                <a:gridCol w="852480"/>
                <a:gridCol w="760680"/>
                <a:gridCol w="860760"/>
                <a:gridCol w="93600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Performance Measur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losions/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zardou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mospher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 violations/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osion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ills due to nondomestic user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erenc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s Through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ct permits and representative sampling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ly comply with local limits and catagorical standard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solids voluntarily meet Exceptional Quality (Table 3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Us voluntarily at zero discharg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erging Pollutant Controls voluntarily implemented (dental mercury, etc.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Regulator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Authorit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b)(1)&amp;(7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b)(2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b)(3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a)(1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(b)(4), (5), (6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c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8(f)(1)(iii) &amp; (v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12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6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A 1251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minate discharge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3 Reg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2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A 1251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minate discharge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A 1251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minate discharge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Method to Quantif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explosion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ances of hazardous events (incl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ed cup test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pH violation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served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osion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spill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instances of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erence and pass through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facilities with incorrect permits or unrepresentative sampling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SIUs with no violation of cat’l stds and local limit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facilities at Exceptional Qualit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facilities at zero discharg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pollutants &amp; facilities with effective control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Protect Infrastructur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        Investment          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Homeland Securit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Basic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        Watershed        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Protection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Proactive, High-performanc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        Environmental         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Protection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Enhanced, “beyond compliance”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               Environmental               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</a:rPr>
                        <a:t>Performanc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82F-882F-4C86-AA9C-B41C9CBD00D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ST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New Source Guidance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Signed 28 September 2006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Available on Pretreatment Publications website and the Industrial Publications website: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272776"/>
                </a:solidFill>
                <a:latin typeface="Century Gothic"/>
              </a:rPr>
              <a:t>Pretreatment Publications // Policy and Guidance Documents: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 http://cfpub.epa.gov/npdes/docs.cfm?document_type_id=1&amp;view=Policy%20and%20Guidance%20Documents&amp;program_id=3&amp;sort=name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272776"/>
                </a:solidFill>
                <a:latin typeface="Century Gothic"/>
              </a:rPr>
              <a:t>Industrial and Commercial Facilities Publications // Policy and Guidance Documents: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http://cfpub.epa.gov/npdes/docs.cfm?document_type_id=1&amp;view=Policy%20and%20Guidance%20Documents&amp;program_id=14&amp;sort=name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964-31A5-4994-9028-48A636FE66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ST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entralized Waste Treatment FAQs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The dominant scope is Applicability -- Specifically, are the following CWT and if not, when would they become CWT?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Mobile activities such as power or truck washing, carpet cleaning, or heating ventilation/ air conditioning servicing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Oil or antifreeze change out at gas stations or oil change facilitie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Railroad line maintenance operations (including spill clean up from railroad operations) at a railroad line maintenance facility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Emergency response or environmental clean-up/ remediation 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Ion exchange or resin regeneration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Off-site medical/hospital sterilization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POTW sludge processing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6B3-C2B9-4140-8045-D37CD6F6C5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thers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Migration to ICIS-NPDES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13 States using ICIS-NPDES instead of PCS: AK, DC, HI, ID, IN, MD, MA, NH, NM, PR, RI, VI, and UT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All Federal Enforcement &amp; Compliance info now entered into ICIS-FE&amp;C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Developing a FAQs document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16 states, tribes and territories will migrate from PCS to ICIS-NPDES by August 21, 2006:  CT, GA, MT, NE, NV, PA, SD, Saint Regis Tribe, Navajo Nation, Guam, American Samoa, Canal Zone, Mariana Islands, Gulf of Mexico, Atlantic Offshore and Trust territories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780-9791-43B3-BDA3-7B67D18C44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07:55Z</dcterms:created>
  <dc:creator> </dc:creator>
  <dc:description/>
  <cp:keywords/>
  <dc:language>en-US</dc:language>
  <cp:lastModifiedBy>EPA</cp:lastModifiedBy>
  <dcterms:modified xsi:type="dcterms:W3CDTF">2006-10-03T16:16:05Z</dcterms:modified>
  <cp:revision>54</cp:revision>
  <dc:subject/>
  <dc:title>U.S. EPA Headquarter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21033</vt:lpwstr>
  </property>
</Properties>
</file>