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8A81-E6F5-4954-BF7A-9A1EF1B9C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DA26-98CE-44E4-8813-C51B16DF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A995-4744-4EA9-A71B-9ADCE6C1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8BC5-B96C-45B8-BEDC-C8514A8B5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DA17-89AE-4788-AABB-1D198CD6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6EC7-3F01-4D82-B337-873BB1BE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61E2-03C0-43DF-A90C-8A880D20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7DBE-D6BA-4288-ACDF-BF4D4820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4750-E604-4851-A8C5-3A56B881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7CBF-08A1-4BEC-9253-327541A2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0D99-60BE-4699-A071-9736621E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014A-997C-4374-A623-65009255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D898-88F9-46DD-9D1A-86133BFE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92DA-7B08-45CD-A710-EB7E7F70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2AF8-1470-4620-9FC3-198E2B33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DE54-CDBE-42F4-9548-7EDFA3EE7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8599-BE54-491D-8AA8-118F85B20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9B93-E35F-406F-A838-1B5E5BEA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A126-F955-46AC-AEA5-4A8143DD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4190-2068-4CAF-9164-E6397CEF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7570-E0EF-474B-83C5-70EA7EB7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45E0-1952-4D93-BAA4-25F7180D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9FA9-5053-4AFE-A8DE-CA164C96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150F-4ED9-4627-8E9C-AFC2F283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C663-2BF5-4FD0-B984-025466AE686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5419-0945-4797-A2FA-418D6C2F62D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Pretreatment Streamlining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7816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’s required and what optional provisions can help control non-domestic contributions to your treatment pl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ptember 28, 200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vid J. Knight P.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shington State Dept of Ec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Optional Provisions 3/6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Using BMPs in lieu of Local Limit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“Best Management Practices” in lieu of local limits (for all or certain groups of Users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of BMP’s in ADDITION to local limits to control users not meeting SIU status need only meet the requirements to be part of the approved progra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y require modifications to the Local Limits evaluations, Ordinance, Permitting process, Enforcement, and program procedu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Optional Provisions 4/6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Mass Based Limits for Water Cons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ows Control Authorities to apply equivalent mass based limits where water conservation is employ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ral fairly rigorous conditions are include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facility must have a baseline of flow data from continuous flow metering device, put in fact she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A must determine that dilution not used, establish a production basis, monitor produ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requires changes to several program are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Optional Provisions 5/6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Non-Significant CIU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ol Authorities may categorize users which discharge 100gpd or less of categorical wastewater as “Non-Significant CIU’s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SCIU’s require onl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ide an annual certification (see 403.12(q)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ide a new permit application every five yea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’s must change most program are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Optional Provisions 6/6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Middle Tier SIU’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ows POTWs to categorize CIU’s with .01% or less of POTW flow or loadings as middle-tier CIU’s with less self monitoring &amp; oversigh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igible if IU was not in SNC (2yrs) &amp; has stable enough operation for representative samp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rmits must be written so that if eligibility is withdrawn, prior requirements are restore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nges required to most program areas (-ER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moval Credits and Net Gross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03.7 - 1/8 of pretreatment regulations address “removal credits”.  Not allowed in Washingt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 POTWs in Washington use Net-Gross determinations either (403.15) – Requires IU source water = receiving waters, demonstrate that limits would be met but for pollutants in source wat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reamlining” may have done well to eliminate rather than expand seldom used provis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Required Provision 1/6 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Slug Discharge Control Plan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w criteria for requiring spill plans (spill could violate a pretreatment standard or requirement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grate review of slug discharge potential into the permitting process (add in permit when a plan is needed). Use fact sheets to explai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iewing spill plans part of normal insp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sure Ordinance uses new definition and gives needed author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Required Provisions 2/6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Sampling and Reporting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e requirements now apply for initial and periodic samp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ow based composites not always requir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ples must be “representative” (document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e samples can be field composit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pdate permit applications, shells, fact sheets and POTW inspection and sampling procedu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e ordinances might need to be updat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Required Provisions 3/6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Definition of SNC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s violations of instantaneous limits, best management practices, and/or narrative limi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ly SIUs must meet Chronic &amp; T.R. criteri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IUs causing Pass Through, Interference, imminent endangerment, or which adversely affect the pretreatment program can be SN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Optional) Reports &lt; 45 days late not SN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nge Ordinance, ERP, Permits, Procedu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Required Provision 4/6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How Permits Use BMP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’s may develop BMP’s in lieu of conc. limi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’s must ensure permits require IUs subject to BMPs (in Categorical Standards if no local lim.)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ly with applicable BMP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ort on applicable BMP’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eep records showing BMP’s are employ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rmitting procedures must clarify the proces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dinance may need to provide legal authorit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Required Provision 5/6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Who Signs Reports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th POTWs and IU’s must meet updated requirements of 403.12(l) and (m) for who can sign annual and periodic repor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uly” authorized representative term defin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cal Ordinances should be amended &amp; permit shell and program procedures modified to describe how the program ensures submittals are properly sign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Required Provision 6/6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Who Must Do Resampling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“common sense” clarification, Wh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OTW must re-sample if they find a violation.  This ensures compliance really me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a routine sample has already been taken and it shows a return to compliance, no resampling is needed, but POTW can still 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OTW can ask the IU to resample for th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dify the ERP and oversight procedu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Optional Provisions 1/6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Sampling Pollutants Not Present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empts Categorical Users from requirements to sample for pollutants in categorical standards which they have shown are not present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quires specific documentation to be provided, included in the fact sheet, and maintained by the POT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quires periodic certification and new analysis of raw wastewater each permit cyc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Optional Provisions 2/6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Using General Permit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TWs may issue general permits for certain categories of similar use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rule preamble provides good background information on how EPA expects this to be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ended for Categorical Users w/ conc. based limi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t intended to limit options for control mechanisms for minor users, which could use this approac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pdate ordinance, permit procedures, program manu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8:29:05Z</dcterms:created>
  <dc:creator>State of Washington</dc:creator>
  <dc:description/>
  <dc:language>en-US</dc:language>
  <cp:lastModifiedBy>State of Washington</cp:lastModifiedBy>
  <dcterms:modified xsi:type="dcterms:W3CDTF">2006-09-27T19:02:49Z</dcterms:modified>
  <cp:revision>3</cp:revision>
  <dc:subject/>
  <dc:title>Pretreatment Streaml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