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62E-C99F-4A77-855B-90B59DEA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E60-EA8E-4D4E-94B6-B06ACC0E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D8C-ECA5-4A44-ABE4-155D24F2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258-535F-40F6-BF1A-6201DDD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816-AFA2-4F44-8742-3947A562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BD7B-6DF5-4823-9910-85EBB18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CFD1-209C-40F2-B759-107E8AC9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F7E7-7AD1-41E6-BED5-7DFA3CA7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4B1-7675-46CF-A150-D70EF708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1EEC-4CE4-493A-910C-457988E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6A40-B4A6-4A62-8690-A69A9E5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250-D4D5-4A9A-8989-7D6C804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5E7-5D98-4CC6-AD34-D510526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90F-68AC-441F-AB06-7074021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E5B-BF0C-40A4-B032-C66F3CE7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040-30DB-4D1F-92B2-37CCB9A1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63A7-DFFF-4679-996F-E04031A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DE8-F17D-49C3-9FBB-DAA10A5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29E-7D35-4C90-BA8E-3E6E76A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0F1-2442-4689-9F72-D7A71DDB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4B8-A2F0-48E6-9428-C9473FF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270-C575-4D1C-BC95-BA89B53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F7C-988C-447A-B510-BB6A670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F59-4FC9-4D20-B312-9EB15DF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F3F2-C9BE-4873-9D8E-28133E0101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FE4-E6E7-434D-8446-97AE998F05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Pretreatment Streamlining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’s required and what optional provisions can help control non-domestic contributions to your treatment p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tember 28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J. Knight P.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 State Dept of Ec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3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Using BMPs in lieu of Local Limi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“Best Management Practices” in lieu of local limits (for all or certain groups of User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of BMP’s in ADDITION to local limits to control users not meeting SIU status need only meet the requirements to be part of the approved progr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require modifications to the Local Limits evaluations, Ordinance, Permitting process, Enforcement, and program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4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ass Based Limits for Water Con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Control Authorities to apply equivalent mass based limits where water conservation is employ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fairly rigorous conditions are includ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facility must have a baseline of flow data from continuous flow metering device, put in fact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A must determine that dilution not used, establish a production basis, monitor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quires changes to several program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5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Non-Significant CIU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Authorities may categorize users which discharge 100gpd or less of categorical wastewater as “Non-Significant CIU’s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SCIU’s require on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annual certification (see 403.12(q)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new permit application every five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ust change most program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6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iddle Tier SIU’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POTWs to categorize CIU’s with .01% or less of POTW flow or loadings as middle-tier CIU’s with less self monitoring &amp; oversigh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gible if IU was not in SNC (2yrs) &amp; has stable enough operation for representative sa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its must be written so that if eligibility is withdrawn, prior requirements are restor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required to most program areas (-E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moval Credits and Net Gros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3.7 - 1/8 of pretreatment regulations address “removal credits”.  Not allowed in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POTWs in Washington use Net-Gross determinations either (403.15) – Requires IU source water = receiving waters, demonstrate that limits would be met but for pollutants in sourc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eamlining” may have done well to eliminate rather than expand seldom used prov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1/6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lug Discharge Control Pla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criteria for requiring spill plans (spill could violate a pretreatment standard or require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 review of slug discharge potential into the permitting process (add in permit when a plan is needed). Use fact sheets to expl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ing spill plans part of normal insp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Ordinance uses new definition and gives needed auth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s 2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ampling and Report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 requirements now apply for initial and periodic samp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based composites not always requi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must be “representative” (docum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amples can be field composi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permit applications, shells, fact sheets and POTW inspection and sampling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ordinances might need to be upd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s 3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efinition of SNC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s violations of instantaneous limits, best management practices, and/or narrative lim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SIUs must meet Chronic &amp; T.R. crite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IUs causing Pass Through, Interference, imminent endangerment, or which adversely affect the pretreatment program can be S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Optional) Reports &lt; 45 days late not S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 Ordinance, ERP, Permits,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4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ow Permits Use BMP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ay develop BMP’s in lieu of conc. lim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ust ensure permits require IUs subject to BMPs (in Categorical Standards if no local lim.)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y with applicable BM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ort on applicable BMP’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records showing BMP’s are employ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itting procedures must clarify the proc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dinance may need to provide legal autho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5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ho Signs Reports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OTWs and IU’s must meet updated requirements of 403.12(l) and (m) for who can sign annual and periodic repo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ly” authorized representative term defin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 Ordinances should be amended &amp; permit shell and program procedures modified to describe how the program ensures submittals are properly sign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6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ho Must Do Resamp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“common sense” clarification, W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TW must re-sample if they find a violation.  This ensures compliance really m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 routine sample has already been taken and it shows a return to compliance, no resampling is needed, but POTW can still 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TW can ask the IU to resample for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y the ERP and oversight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1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ampling Pollutants Not Pres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mpts Categorical Users from requirements to sample for pollutants in categorical standards which they have shown are not present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specific documentation to be provided, included in the fact sheet, and maintained by the POT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periodic certification and new analysis of raw wastewater each permit cyc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2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Using General Permi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Ws may issue general permits for certain categories of similar us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ule preamble provides good background information on how EPA expects this to be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nded for Categorical Users w/ conc. based limi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tended to limit options for control mechanisms for minor users, which could use this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date ordinance, permit procedures, program man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29:05Z</dcterms:created>
  <dc:creator>State of Washington</dc:creator>
  <dc:description/>
  <dc:language>en-US</dc:language>
  <cp:lastModifiedBy>State of Washington</cp:lastModifiedBy>
  <dcterms:modified xsi:type="dcterms:W3CDTF">2006-09-27T19:02:49Z</dcterms:modified>
  <cp:revision>3</cp:revision>
  <dc:subject/>
  <dc:title>Pretreatment Streaml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