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D15-C4C7-4F3C-B9F8-8CEFE21A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614-84FD-4285-B2B4-D2736116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B1C-A001-4C37-97BB-A0FBB59E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355-CA97-4413-8AA2-85576619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ED3-051E-44A6-8AD8-570A1A4B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953F-9F4A-4A01-8BE3-67EAC0FE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62A-9BEC-42B2-A177-EA59E7BC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A2F-41FE-4C38-A9E2-4FB28715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619-EA7C-41FF-B215-36EEFB41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6B2-1F34-4A5B-98E7-AFE5626D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428-22AC-49BB-AFF7-F3866510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36B-FE4F-4DC4-B77F-2CE9F2CD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DCC0-3F4E-4935-9EDF-52C5C624C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osali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Pretreatment Streamlining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1295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EPA – Region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doption of Streamlining Optional Chan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95280" y="1981080"/>
          <a:ext cx="6248520" cy="44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6248520" cy="44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ptional Changes to Foll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819520"/>
            <a:ext cx="829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MP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lutants not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NC Late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ignificant C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 Per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MP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2120" y="1573200"/>
          <a:ext cx="769608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73200"/>
                    <a:ext cx="769608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ollutants Not Pres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143000" y="1600200"/>
          <a:ext cx="6705720" cy="508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670572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NC: Late Repor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38080" y="1523880"/>
          <a:ext cx="7315200" cy="49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31520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on-Significant CI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219320" y="1523880"/>
          <a:ext cx="7086600" cy="50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708660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eneral Permi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90720" y="1566720"/>
          <a:ext cx="6933960" cy="529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66720"/>
                    <a:ext cx="6933960" cy="52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rriers to adopting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447920"/>
            <a:ext cx="8750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es cannot adopt as quickly as POTWs would like because of legislative sche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pling with other state reg changes (e.g. CAFO reg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TW is updating legal authority to address other areas resulting in a substantial legal authority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 Model Legal Authority not final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64760" y="1924200"/>
            <a:ext cx="440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t McCorm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treatment Coor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A Region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3-312-63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cormick.curt@epa.g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A Region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r8_states" descr=""/>
          <p:cNvPicPr/>
          <p:nvPr/>
        </p:nvPicPr>
        <p:blipFill>
          <a:blip r:embed="rId1"/>
          <a:stretch/>
        </p:blipFill>
        <p:spPr>
          <a:xfrm>
            <a:off x="2438280" y="1465200"/>
            <a:ext cx="48769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uthorization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orado:  Not Authorized (Working towards deleg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tana:  Not Author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th Dakota:  Author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uth Dakota:  Author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tah:  Author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yoming:  Not Author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roved Region 8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roved Programs:  69   Many are Regional POTWs (e.g. Metro WWRD has approx 60 connector citi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Us:  6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Us:  4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ero Discharging CIUs:  1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ly Regulate &gt;9000 non-S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TW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ows range from 1 – 227+ mgd.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120" y="1943280"/>
          <a:ext cx="761976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43280"/>
                    <a:ext cx="761976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oulder" descr=""/>
          <p:cNvPicPr/>
          <p:nvPr/>
        </p:nvPicPr>
        <p:blipFill>
          <a:blip r:embed="rId1"/>
          <a:stretch/>
        </p:blipFill>
        <p:spPr>
          <a:xfrm>
            <a:off x="0" y="2362320"/>
            <a:ext cx="4495680" cy="3555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TW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chanical and many lago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ouisville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5720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gion 8 Direct Implemen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2819520"/>
            <a:ext cx="829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orado:  26 Approved Programs (+1 unde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yoming:  5 Approved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tana:  6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miss7" descr=""/>
          <p:cNvPicPr/>
          <p:nvPr/>
        </p:nvPicPr>
        <p:blipFill>
          <a:blip r:embed="rId1"/>
          <a:stretch/>
        </p:blipFill>
        <p:spPr>
          <a:xfrm>
            <a:off x="30240" y="58680"/>
            <a:ext cx="9342360" cy="6558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treamlining Training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gion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PA Region 8 held separate training courses in Colorado and Wyo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ining was held at the Region 8 Pretreatment Implementation Workshop, May 200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uth Dakota and Utah have held t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dopting of Streamlining Required Chan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133720"/>
            <a:ext cx="8673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POTWs that Region 8 directly oversees are working on the changes and most will be submitting for approval by March 2007 (final submittal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st POTWs are also updating their legal authorities at the same time resulting in substantial modif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23:06:18Z</dcterms:created>
  <dc:creator>Curt</dc:creator>
  <dc:description/>
  <dc:language>en-US</dc:language>
  <cp:lastModifiedBy>Curt</cp:lastModifiedBy>
  <dcterms:modified xsi:type="dcterms:W3CDTF">2006-09-19T21:16:49Z</dcterms:modified>
  <cp:revision>16</cp:revision>
  <dc:subject/>
  <dc:title>Pretreatment Streamlining Implementation</dc:title>
</cp:coreProperties>
</file>