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2C9-B6B2-4399-A124-8D4860F9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0BC-6FF7-48A2-BF68-6060A699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DB2-E624-411E-9A0B-256AFE2B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303-0250-4F9C-B3D9-073827A1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C33-FAE3-40EC-86B5-E2949A7B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F3F-C215-45AB-8F98-7FA5F56C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1CE-9AEF-4841-8635-9E64DE66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2E3-4C25-4918-BEEC-55046D85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B1B-0996-4201-9F7F-2DC500D4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1B0-DF25-48BD-B68B-983144D0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346-7E4D-453A-9FE8-62EE8C8C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966-83AB-4027-9B95-05BF4CA0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C890-164F-4A5D-964D-9FCB4A283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osali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retreatment Streamlining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PA – Region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doption of Streamlining Optional Chan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95280" y="1981080"/>
          <a:ext cx="6248520" cy="44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248520" cy="44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ptional Changes to Foll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819520"/>
            <a:ext cx="829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MP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lutants no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NC Late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ignificant C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 Per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M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1573200"/>
          <a:ext cx="769608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73200"/>
                    <a:ext cx="769608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llutants Not Pres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143000" y="1600200"/>
          <a:ext cx="670572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7057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NC: Late Repor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38080" y="1523880"/>
          <a:ext cx="73152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3152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on-Significant CI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219320" y="1523880"/>
          <a:ext cx="7086600" cy="50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708660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eneral Permi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90720" y="1566720"/>
          <a:ext cx="6933960" cy="52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66720"/>
                    <a:ext cx="693396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rriers to adopting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447920"/>
            <a:ext cx="8750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s cannot adopt as quickly as POTWs would like because of legislative sche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pling with other state reg changes (e.g. CAFO reg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TW is updating legal authority to address other areas resulting in a substantial legal authority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 Model Legal Authority not final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64760" y="1924200"/>
            <a:ext cx="440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t McCorm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treatment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A Region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3-312-63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cormick.curt@epa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A Region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8_states" descr=""/>
          <p:cNvPicPr/>
          <p:nvPr/>
        </p:nvPicPr>
        <p:blipFill>
          <a:blip r:embed="rId1"/>
          <a:stretch/>
        </p:blipFill>
        <p:spPr>
          <a:xfrm>
            <a:off x="2438280" y="1465200"/>
            <a:ext cx="48769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uthorization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orado:  Not Authorized (Working towards deleg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tana:  Not Autho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th Dakota:  Autho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uth Dakota:  Autho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tah:  Autho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yoming:  Not Autho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roved Region 8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roved Programs:  69   Many are Regional POTWs (e.g. Metro WWRD has approx 60 connector citi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Us:  6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Us:  4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ero Discharging CIUs:  1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ly Regulate &gt;9000 non-S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W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ows range from 1 – 227+ mgd.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120" y="1943280"/>
          <a:ext cx="761976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43280"/>
                    <a:ext cx="761976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oulder" descr="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555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W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hanical and many lago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ouisville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5720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gion 8 Direct Imple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2819520"/>
            <a:ext cx="829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orado:  26 Approved Programs (+1 und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yoming:  5 Approved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tana:  6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miss7" descr=""/>
          <p:cNvPicPr/>
          <p:nvPr/>
        </p:nvPicPr>
        <p:blipFill>
          <a:blip r:embed="rId1"/>
          <a:stretch/>
        </p:blipFill>
        <p:spPr>
          <a:xfrm>
            <a:off x="30240" y="58680"/>
            <a:ext cx="9342360" cy="6558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reamlining Training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ion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PA Region 8 held separate training courses in Colorado and Wyo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ining was held at the Region 8 Pretreatment Implementation Workshop, May 200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th Dakota and Utah have held 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dopting of Streamlining Required Chan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133720"/>
            <a:ext cx="8673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POTWs that Region 8 directly oversees are working on the changes and most will be submitting for approval by March 2007 (final submittal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POTWs are also updating their legal authorities at the same time resulting in substantial modif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3:06:18Z</dcterms:created>
  <dc:creator>Curt</dc:creator>
  <dc:description/>
  <dc:language>en-US</dc:language>
  <cp:lastModifiedBy>Curt</cp:lastModifiedBy>
  <dcterms:modified xsi:type="dcterms:W3CDTF">2006-09-19T21:16:49Z</dcterms:modified>
  <cp:revision>16</cp:revision>
  <dc:subject/>
  <dc:title>Pretreatment Streamlining Implementation</dc:title>
</cp:coreProperties>
</file>