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4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5.wmf" ContentType="image/x-wmf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6012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5FA-23A8-4CD9-8271-BA53D93D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20320" y="390204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333-71A2-4640-B722-BE0A7A6F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65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DAA4-6FBF-4BEC-87BA-48AE7780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400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768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2032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400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768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1D6-8861-41FE-AA19-81A5C6F6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60120" y="609480"/>
            <a:ext cx="77612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B08-E3A8-4F47-95E2-B3131AE7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65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20320" y="390204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65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4400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67680" y="175248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2032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4400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67680" y="3902040"/>
            <a:ext cx="249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B425-605D-4B48-8C01-08DA40AF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5A18-F75A-4377-923B-00628838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FCCD-6122-4324-8185-30A8041F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60120" y="609480"/>
            <a:ext cx="77612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AC9-3E25-4877-A5F3-184925C9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2AE-3A2E-41B4-AB9F-CECA2A8E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6520" y="390204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144F-D378-4468-839E-6617A55A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6520" y="1752480"/>
            <a:ext cx="378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20320" y="3902040"/>
            <a:ext cx="77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95F-2C60-4679-A470-62079EED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83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83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00000" y="6400800"/>
            <a:ext cx="304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73d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73d9"/>
                </a:solidFill>
                <a:latin typeface="Arial"/>
              </a:rPr>
              <a:t>&lt;footer&gt;</a:t>
            </a:r>
            <a:r>
              <a:rPr b="1" lang="en-US" sz="1200" spc="-1" strike="noStrike">
                <a:solidFill>
                  <a:srgbClr val="6473d9"/>
                </a:solidFill>
                <a:latin typeface="Arial"/>
              </a:rPr>
              <a:t>ebmu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00600" y="6248520"/>
            <a:ext cx="63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3769-9BE1-4FB6-A942-E5CD12D8F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720" y="228564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79880" y="1604520"/>
            <a:ext cx="8640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83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83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2720" y="1523520"/>
            <a:ext cx="8972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83f99"/>
                </a:solidFill>
                <a:latin typeface="Arial"/>
              </a:rPr>
              <a:t>Mercury Control at Dental Facilities – 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83f99"/>
                </a:solidFill>
                <a:latin typeface="Arial"/>
              </a:rPr>
              <a:t>A Cost-Effective Model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NACWA 2006 National Pretreatment and 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Pollution Prevention Workshop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83f99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Ben Horenstein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183f99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183f99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Deirdre Mena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183f99"/>
                </a:solidFill>
                <a:latin typeface="Arial"/>
              </a:rPr>
              <a:t>w:\nab\esd\presentations\NACWA Mercury 10-06.ppt</a:t>
            </a:r>
            <a:endParaRPr b="0" lang="en-US" sz="7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EBMUD’s Dental Line Cleaning </a:t>
            </a:r>
            <a:br>
              <a:rPr sz="3200"/>
            </a:b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Project</a:t>
            </a:r>
            <a:endParaRPr b="1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994040" y="1600200"/>
            <a:ext cx="2930400" cy="2095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638680" y="1600200"/>
            <a:ext cx="2266920" cy="2157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711440" y="3886200"/>
            <a:ext cx="3213000" cy="2209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181480" y="3897360"/>
            <a:ext cx="2990880" cy="224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D21-10C1-493A-8FA2-736BEAD564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83f99"/>
                </a:solidFill>
                <a:latin typeface="Arial"/>
              </a:rPr>
              <a:t>EBMUD’s Dental Permit Program Development</a:t>
            </a:r>
            <a:endParaRPr b="1" lang="en-US" sz="3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20320" y="1962000"/>
            <a:ext cx="77598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Worked with the California Dental Association/local dental societies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Agreed on key issues: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Installation of amalgam separator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Monitoring alternativ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No inspection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imple reporting requirement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2" marL="13716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C2D-3B93-467F-84E4-B7CF172212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83f99"/>
                </a:solidFill>
                <a:latin typeface="Arial"/>
              </a:rPr>
              <a:t>EBMUD’s Dental Permit Program Requirements</a:t>
            </a:r>
            <a:endParaRPr b="1" lang="en-US" sz="3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20320" y="2018880"/>
            <a:ext cx="7759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Require installation of amalgam separators where amalgam is part of core busines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pecialty Exemptions: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Orthodontists, periodontists, and oral surgeon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Variances: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3-day maximum use of amalgam material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Existing sump/separator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Issued to approximately 300 facilitie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171-8BFE-4643-A656-7DE43C1700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60120" y="609120"/>
            <a:ext cx="7761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EBMUD’s Dental Permit Requirements,</a:t>
            </a:r>
            <a:r>
              <a:rPr b="1" lang="en-US" sz="3800" spc="-1" strike="noStrike">
                <a:solidFill>
                  <a:srgbClr val="183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(continued)</a:t>
            </a:r>
            <a:endParaRPr b="1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3600" y="1752480"/>
            <a:ext cx="5352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Install/maintain amalgam separators, ISO Standard 11143 certified 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Monitoring Alternative (CDA’s request)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Appropriate handling of spent fixer solution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Reporting Requirements: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Self-certification on installation of amalgam separator 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Annual amalgam waste/spent fixer offhaul report (one page)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816160" y="1752480"/>
            <a:ext cx="306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6076800" y="2538360"/>
            <a:ext cx="3102120" cy="2428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030-6CC8-406E-BD5E-CB699FA980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0120" y="647640"/>
            <a:ext cx="82659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83f99"/>
                </a:solidFill>
                <a:latin typeface="Arial"/>
              </a:rPr>
              <a:t>EBMUD’s Dental Permit Program Development Resources</a:t>
            </a:r>
            <a:endParaRPr b="1" lang="en-US" sz="3800" spc="-1" strike="noStrike">
              <a:solidFill>
                <a:srgbClr val="183f99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60480" y="1600200"/>
          <a:ext cx="7497720" cy="478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0480" y="1600200"/>
                    <a:ext cx="749772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434-D9C0-40D3-B043-9E4C32E4A8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60120" y="609120"/>
            <a:ext cx="77612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Dental Program Resources</a:t>
            </a:r>
            <a:br>
              <a:rPr sz="2800"/>
            </a:b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 based on EBMUD Model</a:t>
            </a:r>
            <a:endParaRPr b="1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20680" y="1596960"/>
          <a:ext cx="7927920" cy="5070600"/>
        </p:xfrm>
        <a:graphic>
          <a:graphicData uri="http://schemas.openxmlformats.org/drawingml/2006/table">
            <a:tbl>
              <a:tblPr/>
              <a:tblGrid>
                <a:gridCol w="3832200"/>
                <a:gridCol w="2019600"/>
                <a:gridCol w="2076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Ta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Upfro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H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Annual Hou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Background Resea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Database Dev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Meetings/Dental Asso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Permit Develop/Imp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Permit Issu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Compliance Tracking/Database Mainten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Total H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83f99"/>
                          </a:solidFill>
                          <a:latin typeface="Arial"/>
                        </a:rPr>
                        <a:t>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386-511E-4DEC-B8D5-BAFB8523C1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6012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Wastewater Treatment Plant Mercury Loading 2001-06</a:t>
            </a:r>
            <a:endParaRPr b="1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1752480"/>
          <a:ext cx="3798360" cy="4112280"/>
        </p:xfrm>
        <a:graphic>
          <a:graphicData uri="http://schemas.openxmlformats.org/drawingml/2006/table">
            <a:tbl>
              <a:tblPr/>
              <a:tblGrid>
                <a:gridCol w="3798360"/>
              </a:tblGrid>
              <a:tr h="411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52600" y="1371600"/>
          <a:ext cx="8591400" cy="522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2600" y="1371600"/>
                    <a:ext cx="8591400" cy="52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440-7519-420D-88B2-16E83F8620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526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83f99"/>
                </a:solidFill>
                <a:latin typeface="Arial"/>
              </a:rPr>
              <a:t>Impaired receiving water</a:t>
            </a:r>
            <a:endParaRPr b="0" lang="en-US" sz="2600" spc="-1" strike="noStrike">
              <a:solidFill>
                <a:srgbClr val="183f99"/>
              </a:solidFill>
              <a:latin typeface="Arial"/>
            </a:endParaRPr>
          </a:p>
          <a:p>
            <a:pPr marL="3290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183f99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83f99"/>
                </a:solidFill>
                <a:latin typeface="Arial"/>
              </a:rPr>
              <a:t>Identifiable and controllable source + low cost effort = </a:t>
            </a:r>
            <a:endParaRPr b="0" lang="en-US" sz="2600" spc="-1" strike="noStrike">
              <a:solidFill>
                <a:srgbClr val="183f99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83f99"/>
                </a:solidFill>
                <a:latin typeface="Arial"/>
              </a:rPr>
              <a:t>Consistent with both traditional and broadened role of source control </a:t>
            </a:r>
            <a:endParaRPr b="0" lang="en-US" sz="2600" spc="-1" strike="noStrike">
              <a:solidFill>
                <a:srgbClr val="183f99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83f99"/>
                </a:solidFill>
                <a:latin typeface="Arial"/>
              </a:rPr>
              <a:t>Consistent with stewardship principals (including, “doing more than the minimum required”)</a:t>
            </a:r>
            <a:endParaRPr b="0" lang="en-US" sz="2600" spc="-1" strike="noStrike">
              <a:solidFill>
                <a:srgbClr val="183f99"/>
              </a:solidFill>
              <a:latin typeface="Arial"/>
            </a:endParaRPr>
          </a:p>
          <a:p>
            <a:pPr lvl="1" marL="713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83f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5897520" y="1752480"/>
            <a:ext cx="1501920" cy="153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E38-CF24-4698-ACF0-3610DA79E9C6}" type="slidenum">
              <a:t>1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60120" y="533160"/>
            <a:ext cx="7761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rcRect l="27967" t="2714" r="11867" b="67517"/>
          <a:stretch/>
        </p:blipFill>
        <p:spPr>
          <a:xfrm>
            <a:off x="960480" y="884160"/>
            <a:ext cx="7601040" cy="589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D227-3331-49BA-BFED-6E5598ECD16E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0120" y="304920"/>
            <a:ext cx="7761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60120" y="1447920"/>
            <a:ext cx="77612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SzPct val="1316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83f99"/>
                </a:solidFill>
                <a:latin typeface="Arial"/>
              </a:rPr>
              <a:t>Background on EBMUD</a:t>
            </a: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316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83f99"/>
                </a:solidFill>
                <a:latin typeface="Arial"/>
              </a:rPr>
              <a:t>EBMUD’s Pollution Prevention Permit Program</a:t>
            </a: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316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83f99"/>
                </a:solidFill>
                <a:latin typeface="Arial"/>
              </a:rPr>
              <a:t>Mercury in San Francisco Bay</a:t>
            </a: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316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83f99"/>
                </a:solidFill>
                <a:latin typeface="Arial"/>
              </a:rPr>
              <a:t>EBMUD’s Mercury Control Strategies</a:t>
            </a: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3168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83f99"/>
                </a:solidFill>
                <a:latin typeface="Arial"/>
              </a:rPr>
              <a:t>EBMUD’s Dental Program</a:t>
            </a: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3168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83f99"/>
                </a:solidFill>
                <a:latin typeface="Arial"/>
              </a:rPr>
              <a:t>Summary</a:t>
            </a: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C11D-8373-42F4-A5A3-8EAA428557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Background on EBMUD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20680" y="1752480"/>
            <a:ext cx="380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EBMUD provides wastewater treatment for cities on the east-side of San Francisco Bay.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The service area is 83 square-miles, serving  approximately 640,000 customers. 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562720" y="2343240"/>
            <a:ext cx="2914560" cy="2636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076720" y="1752480"/>
            <a:ext cx="380376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E52-A0B6-4086-89B6-51E6C5E22E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EBMUD’s Pollution Prevention Permit Program</a:t>
            </a:r>
            <a:endParaRPr b="1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Over 3,600 permitted facilities in P2 Program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12 categories, including: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Dry Cleaning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Photo-processing/Printing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Vehicle Repair/Vehicle Wash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Denta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Food Servic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D1B1-1DB8-44F6-8F4C-367B0A5067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EBMUD’s Pollution Prevention Permit Program, </a:t>
            </a:r>
            <a:r>
              <a:rPr b="1" lang="en-US" sz="2800" spc="-1" strike="noStrike">
                <a:solidFill>
                  <a:srgbClr val="183f99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20320" y="2324160"/>
            <a:ext cx="7759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Generic permit for each category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ermits are based on Best Management Practice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No application process/no permit fee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No sampling/lab analysi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7AE-FA43-4ED1-9320-B35BD4CF90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Mercury in San Francisco Bay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20320" y="1562040"/>
            <a:ext cx="77598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Mercury among 11 constituents listed on 303(d) list as impairing San Francisco Bay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Fish advisory due to mercury contamination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Major sources of mercury for San Francisco Bay include: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Abandoned mine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Atmospheric deposition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Stormwater runoff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Mercury TMDL development targeting significant reductions from POTWs – even though only 1-2% of tota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B79B-E4DF-46B1-BE79-7A91A22DBE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EBMUD’s Mercury Control Strategies</a:t>
            </a:r>
            <a:endParaRPr b="1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20320" y="1752480"/>
            <a:ext cx="77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Identify readily controllable source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ocus on control strategies with highest return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Develop collaborative approach with stakeholders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Look for grant opportunities to develop/implement project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7392-149C-4006-AA33-0FADD12A0F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EBMUD’s Mercury Control Strategies, </a:t>
            </a: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(continued)</a:t>
            </a:r>
            <a:endParaRPr b="1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20320" y="2037960"/>
            <a:ext cx="7759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ermit program for dental facilitie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ollution prevention outreach program for educational institution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Residential mercury thermometer exchange program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Research project to determine if dental mercury is a source of legacy mercury waste (sewer pipes)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B4D-019C-4774-BCF4-5CF7111AEA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0120" y="609480"/>
            <a:ext cx="7761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83f99"/>
                </a:solidFill>
                <a:latin typeface="Arial"/>
              </a:rPr>
              <a:t>EBMUD’s Mercury Reduction Program for Educational Institutions</a:t>
            </a:r>
            <a:br>
              <a:rPr sz="3400"/>
            </a:br>
            <a:endParaRPr b="1" lang="en-US" sz="3400" spc="-1" strike="noStrike">
              <a:solidFill>
                <a:srgbClr val="183f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20680" y="1752480"/>
            <a:ext cx="3803760" cy="1981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61120" y="1665360"/>
            <a:ext cx="2960640" cy="2220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076720" y="3885840"/>
            <a:ext cx="380376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361120" y="4191120"/>
            <a:ext cx="2960640" cy="2092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1962000" y="1665360"/>
            <a:ext cx="2962440" cy="2220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1962000" y="4191120"/>
            <a:ext cx="2962440" cy="22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4C76-8EFB-498E-9F9D-B9A7B18675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19:57:55Z</dcterms:created>
  <dc:creator>Mary Orr</dc:creator>
  <dc:description/>
  <dc:language>en-US</dc:language>
  <cp:lastModifiedBy>ISD</cp:lastModifiedBy>
  <cp:lastPrinted>2002-01-07T18:21:09Z</cp:lastPrinted>
  <dcterms:modified xsi:type="dcterms:W3CDTF">2006-10-06T12:52:12Z</dcterms:modified>
  <cp:revision>203</cp:revision>
  <dc:subject/>
  <dc:title>EBMUD PowerPoint Template 11- 01</dc:title>
</cp:coreProperties>
</file>