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5.wmf" ContentType="image/x-wm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E7F-5727-4453-B11D-C33A5293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8A8-3898-4AF7-940D-FB7CA3BC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B0D-8B16-422E-9551-B0EA1CDC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8B7-3DCB-4D30-B067-3C0643E1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C95-7191-466F-BDC9-4DD26E8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BF3-B4CB-400F-A6E9-D8586B8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CAD-43C0-47DA-82AD-3C13B77F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2C7-0001-4C0B-ABAF-3884D43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E35-79E1-42C3-9AA1-56C3E52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A27-1D7C-4166-A298-FE3F84D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C87-E2E5-4C88-BCC9-F8BA36F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E1F-7237-4F69-BA08-3A81D64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0000" y="6400800"/>
            <a:ext cx="304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00600" y="624852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420F-6148-47B7-8DC1-9AC87E28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1523520"/>
            <a:ext cx="897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3f99"/>
                </a:solidFill>
                <a:latin typeface="Arial"/>
              </a:rPr>
              <a:t>Mercury Control at Dental Facilities –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3f99"/>
                </a:solidFill>
                <a:latin typeface="Arial"/>
              </a:rPr>
              <a:t>A Cost-Effective Model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ACWA 2006 National Pretreatment and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llution Prevention Workshop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Ben Horenstei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Deirdre Mena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w:\nab\esd\presentations\NACWA Mercury 10-06.ppt</a:t>
            </a:r>
            <a:endParaRPr b="0" lang="en-US" sz="7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BMUD’s Dental Line Cleaning 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oject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94040" y="1600200"/>
            <a:ext cx="293040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66920" cy="2157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711440" y="3886200"/>
            <a:ext cx="3213000" cy="220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181480" y="3897360"/>
            <a:ext cx="2990880" cy="22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CB4-04E1-429B-9CD6-5CA1213EE9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Development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20320" y="1962000"/>
            <a:ext cx="77598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orked with the California Dental Association/local dental societi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greed on key issue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tallation of amalgam separato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onitoring alternativ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 inspec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imple reporting requirem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539-2946-443D-A86F-33BC175B0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Requirements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20320" y="2018880"/>
            <a:ext cx="7759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quire installation of amalgam separators where amalgam is part of core busines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pecialty Exemption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rthodontists, periodontists, and oral surge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Variance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3-day maximum use of amalgam materia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xisting sump/separato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ssued to approximately 300 faciliti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12A-A5F8-4105-B02E-760B3B744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0120" y="609120"/>
            <a:ext cx="776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BMUD’s Dental Permit Requirements,</a:t>
            </a: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3600" y="1752480"/>
            <a:ext cx="5352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tall/maintain amalgam separators, ISO Standard 11143 certified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onitoring Alternative (CDA’s request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ppropriate handling of spent fixer solu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orting Requirement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lf-certification on installation of amalgam separator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nnual amalgam waste/spent fixer offhaul report (one pag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16160" y="1752480"/>
            <a:ext cx="306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076800" y="2538360"/>
            <a:ext cx="3102120" cy="2428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AA6-EE98-4025-85A3-72B0E5B0F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0120" y="647640"/>
            <a:ext cx="82659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Development Resources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60480" y="1600200"/>
          <a:ext cx="7497720" cy="47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0480" y="1600200"/>
                    <a:ext cx="74977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877-EA4F-4750-B130-AB09A32CF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0120" y="609120"/>
            <a:ext cx="77612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Dental Program Resources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based on EBMUD Model</a:t>
            </a:r>
            <a:endParaRPr b="1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20680" y="1596960"/>
          <a:ext cx="7927920" cy="5070600"/>
        </p:xfrm>
        <a:graphic>
          <a:graphicData uri="http://schemas.openxmlformats.org/drawingml/2006/table">
            <a:tbl>
              <a:tblPr/>
              <a:tblGrid>
                <a:gridCol w="3832200"/>
                <a:gridCol w="2019600"/>
                <a:gridCol w="2076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Upfro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Annual Hou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Background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Database De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Meetings/Dental Asso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Permit Develop/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Permit Issu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Compliance Tracking/Database Mainte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Tot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DA5-E456-4327-ACB7-59273FE33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012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Wastewater Treatment Plant Mercury Loading 2001-06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752480"/>
          <a:ext cx="3798360" cy="4112280"/>
        </p:xfrm>
        <a:graphic>
          <a:graphicData uri="http://schemas.openxmlformats.org/drawingml/2006/table">
            <a:tbl>
              <a:tblPr/>
              <a:tblGrid>
                <a:gridCol w="3798360"/>
              </a:tblGrid>
              <a:tr h="411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2600" y="1371600"/>
          <a:ext cx="8591400" cy="522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1371600"/>
                    <a:ext cx="8591400" cy="52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482-7326-4F3A-B3A7-41209E4BB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52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Impaired receiving water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Identifiable and controllable source + low cost effort = 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Consistent with both traditional and broadened role of source control 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Consistent with stewardship principals (including, “doing more than the minimum required”)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897520" y="1752480"/>
            <a:ext cx="150192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6E9-CAEC-4B3C-8366-CF8CFB5E5072}" type="slidenum">
              <a:t>1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0120" y="533160"/>
            <a:ext cx="7761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7967" t="2714" r="11867" b="67517"/>
          <a:stretch/>
        </p:blipFill>
        <p:spPr>
          <a:xfrm>
            <a:off x="960480" y="884160"/>
            <a:ext cx="7601040" cy="589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643-4C4B-4F05-B4A0-B93E5BF951D8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0120" y="304920"/>
            <a:ext cx="7761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60120" y="1447920"/>
            <a:ext cx="7761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Background on EBMUD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Pollution Prevention Permit Program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Mercury in San Francisco Bay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Mercury Control Strategies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Dental Program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Summary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D7-59F7-4CAF-B5C5-F4A5AEA4D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ackground on EBMUD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20680" y="175248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 provides wastewater treatment for cities on the east-side of San Francisco Bay.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he service area is 83 square-miles, serving  approximately 640,000 customers.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562720" y="2343240"/>
            <a:ext cx="2914560" cy="2636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076720" y="1752480"/>
            <a:ext cx="380376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769-BAC4-4255-839D-E4781F941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Pollution Prevention Permit Program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ver 3,600 permitted facilities in P2 Progra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12 categories, including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ry Clean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oto-processing/Print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Vehicle Repair/Vehicle Wash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nt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ood Servic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E5C-9C7F-49CA-8024-FB8560B419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BMUD’s Pollution Prevention Permit Program,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20320" y="2324160"/>
            <a:ext cx="7759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Generic permit for each categor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mits are based on Best Management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 application process/no permit fe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 sampling/lab analysi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992-87B8-41E1-B341-628B45C69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Mercury in San Francisco Ba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20320" y="1562040"/>
            <a:ext cx="77598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rcury among 11 constituents listed on 303(d) list as impairing San Francisco Bay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ish advisory due to mercury contamin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jor sources of mercury for San Francisco Bay include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bandoned min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tmospheric deposi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ormwater runoff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rcury TMDL development targeting significant reductions from POTWs – even though only 1-2% of tot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EA4-34C2-477B-916B-49050A386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Mercury Control Strategie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dentify readily controllable sour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cus on control strategies with highest retur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velop collaborative approach with stakeholder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Look for grant opportunities to develop/implement projec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2B9-2C7C-4E4B-BA55-94F452DB4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Mercury Control Strategies,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20320" y="2037960"/>
            <a:ext cx="775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mit program for dental faciliti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ollution prevention outreach program for educational institu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sidential mercury thermometer exchange progra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search project to determine if dental mercury is a source of legacy mercury waste (sewer pipe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A01-2BEB-40D5-8938-BA3C15225F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3f99"/>
                </a:solidFill>
                <a:latin typeface="Arial"/>
              </a:rPr>
              <a:t>EBMUD’s Mercury Reduction Program for Educational Institutions</a:t>
            </a:r>
            <a:br>
              <a:rPr sz="3400"/>
            </a:br>
            <a:endParaRPr b="1" lang="en-US" sz="3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20680" y="1752480"/>
            <a:ext cx="380376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61120" y="166536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3885840"/>
            <a:ext cx="38037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61120" y="4191120"/>
            <a:ext cx="2960640" cy="2092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962000" y="1665360"/>
            <a:ext cx="2962440" cy="222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962000" y="4191120"/>
            <a:ext cx="2962440" cy="22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8FB-68EE-4BCA-B29F-9CA0BF715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ISD</cp:lastModifiedBy>
  <cp:lastPrinted>2002-01-07T18:21:09Z</cp:lastPrinted>
  <dcterms:modified xsi:type="dcterms:W3CDTF">2006-10-06T12:52:12Z</dcterms:modified>
  <cp:revision>203</cp:revision>
  <dc:subject/>
  <dc:title>EBMUD PowerPoint Template 11- 01</dc:title>
</cp:coreProperties>
</file>