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F7FE-7C62-4928-BB0E-A7C72461D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F14F-BC7A-48E3-B237-ED129AD61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DAB-D859-4FE6-A0DD-451497BEF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969C-81EE-4D3F-8A67-7E920D145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0EF1-3625-4E00-BC8B-4D44DA43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C02F-FC97-4942-98A2-58941BB8C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BF92-5A30-4913-B8D5-BF5A0CB76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E893-4A88-47CE-8BC1-190E31EC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0C51-E05D-4E6B-895F-9A69656F3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6488-4D1F-4E3D-A4EF-9130D6FF4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F97D-DB0E-4E2A-B47D-54F373D0B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25FB-1DF8-40FF-A853-851AA0E23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381520" y="655272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044-2728-4573-8D70-408E5F48A388}" type="slidenum">
              <a:rPr b="0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45720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achusetts Water Resource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ederick A. Laskey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130176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demic Preparedness Planning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sues and Challenges for Utility Manager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WRA’s Perspectiv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6200" y="5616360"/>
            <a:ext cx="782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National Association of Clean Water Agencie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y 1, 2006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114800"/>
            <a:ext cx="60195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124080" y="2895480"/>
            <a:ext cx="2971800" cy="2577960"/>
            <a:chOff x="3124080" y="2895480"/>
            <a:chExt cx="2971800" cy="2577960"/>
          </a:xfrm>
        </p:grpSpPr>
        <p:sp>
          <p:nvSpPr>
            <p:cNvPr id="91" name=""/>
            <p:cNvSpPr/>
            <p:nvPr/>
          </p:nvSpPr>
          <p:spPr>
            <a:xfrm flipH="1">
              <a:off x="4444920" y="2895480"/>
              <a:ext cx="1650960" cy="166212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723560" y="335268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124080" y="2895480"/>
              <a:ext cx="1650960" cy="16621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7920" y="3352680"/>
              <a:ext cx="84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759120" y="3811320"/>
              <a:ext cx="1650960" cy="166212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038480" y="4495680"/>
              <a:ext cx="124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andemic specific policies for leaves, absences and compens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municate policies with unions,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stablish support functions for families, counsel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ordinate with insurance providers, health ca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9140600">
            <a:off x="3886200" y="5105520"/>
            <a:ext cx="1224000" cy="3808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62320" y="5410080"/>
            <a:ext cx="1523880" cy="1447920"/>
            <a:chOff x="2362320" y="5410080"/>
            <a:chExt cx="1523880" cy="1447920"/>
          </a:xfrm>
        </p:grpSpPr>
        <p:sp>
          <p:nvSpPr>
            <p:cNvPr id="211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579132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214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217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220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B1F9-E9D1-435C-AB15-A461CE9730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might impact MWRA Operations and what will we do to prepar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90560" y="2133720"/>
            <a:ext cx="3927240" cy="3429000"/>
            <a:chOff x="2590560" y="2133720"/>
            <a:chExt cx="3927240" cy="3429000"/>
          </a:xfrm>
        </p:grpSpPr>
        <p:sp>
          <p:nvSpPr>
            <p:cNvPr id="229" name=""/>
            <p:cNvSpPr/>
            <p:nvPr/>
          </p:nvSpPr>
          <p:spPr>
            <a:xfrm flipH="1">
              <a:off x="4335480" y="2133720"/>
              <a:ext cx="218232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821120" y="2895840"/>
              <a:ext cx="136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90200" y="2133720"/>
              <a:ext cx="2182680" cy="220968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91600" y="2895840"/>
              <a:ext cx="112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30440" y="3353040"/>
              <a:ext cx="218088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753720" y="4343400"/>
              <a:ext cx="15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18F4-3AFC-48E2-8355-1602D6E309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andemic EAP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14240" y="2514600"/>
            <a:ext cx="218268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799880" y="32767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0040" y="2514600"/>
            <a:ext cx="218304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971800" y="327672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798960" y="1295280"/>
            <a:ext cx="1359000" cy="1447920"/>
            <a:chOff x="6798960" y="1295280"/>
            <a:chExt cx="1359000" cy="1447920"/>
          </a:xfrm>
        </p:grpSpPr>
        <p:sp>
          <p:nvSpPr>
            <p:cNvPr id="241" name=""/>
            <p:cNvSpPr/>
            <p:nvPr/>
          </p:nvSpPr>
          <p:spPr>
            <a:xfrm flipH="1">
              <a:off x="6798600" y="1295280"/>
              <a:ext cx="1359000" cy="144792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798600" y="160020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024680" y="4191120"/>
            <a:ext cx="1360080" cy="1447560"/>
            <a:chOff x="7024680" y="4191120"/>
            <a:chExt cx="1360080" cy="1447560"/>
          </a:xfrm>
        </p:grpSpPr>
        <p:sp>
          <p:nvSpPr>
            <p:cNvPr id="244" name=""/>
            <p:cNvSpPr/>
            <p:nvPr/>
          </p:nvSpPr>
          <p:spPr>
            <a:xfrm flipH="1">
              <a:off x="7026120" y="4191120"/>
              <a:ext cx="135864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024680" y="4572000"/>
              <a:ext cx="135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403760" y="2743200"/>
            <a:ext cx="1359000" cy="1447560"/>
            <a:chOff x="7403760" y="2743200"/>
            <a:chExt cx="1359000" cy="1447560"/>
          </a:xfrm>
        </p:grpSpPr>
        <p:sp>
          <p:nvSpPr>
            <p:cNvPr id="247" name=""/>
            <p:cNvSpPr/>
            <p:nvPr/>
          </p:nvSpPr>
          <p:spPr>
            <a:xfrm flipH="1">
              <a:off x="7403400" y="2743200"/>
              <a:ext cx="13590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403400" y="304776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6346440" y="2514600"/>
            <a:ext cx="52884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497640" y="3429000"/>
            <a:ext cx="906480" cy="763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97640" y="4114800"/>
            <a:ext cx="528480" cy="3808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409200" y="37339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920" y="4724280"/>
            <a:ext cx="15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B033-FD8E-4032-B7EB-1967E739C2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critical to MWRA’s Miss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functions must be sustained through the 6-8 week critical period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57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548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429000" y="1981080"/>
          <a:ext cx="5181120" cy="4267440"/>
        </p:xfrm>
        <a:graphic>
          <a:graphicData uri="http://schemas.openxmlformats.org/drawingml/2006/table">
            <a:tbl>
              <a:tblPr/>
              <a:tblGrid>
                <a:gridCol w="5181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livery of water/removal of waste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tect staf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vide emergency response to haz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ronmental protection &amp; sewage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ss critical water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itical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serve condition of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ficiency initi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ng term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pital impr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228600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4419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4ED1-C1C1-48E3-B611-0F6E85E4B5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Water Operation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liver water - aqueducts, PRVs, pumps, brea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infection, critical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CCs for alarms, security,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rro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CADA, Te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y facility repairs, leak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acility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ydroelectr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rounds &amp; custo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k surveys, valve exersizing, fluor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0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71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584B-07C1-402E-A715-82ECB37D1C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Wastewater Operation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move wastewater -wet weather, pumping, scre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vent uncontrolled SSOs &amp; backups into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CCs for alarms, security,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astewater disinfection – CSOs, ou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CADA, PICS, facility safety instr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y facility repairs, storm clea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condary treatment, sludge hand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 &amp; facility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V insp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wer cleaning and rehab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rounds &amp; custo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84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7F42-7962-448B-B8AD-0E5BF02FBF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Pandemic Operations Department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ab testing for water tests, DI process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ergency engineering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C sampling for hazardous rel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y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mediate labo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/P processing for critical materials, cost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IP construction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/P processing for non-critical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ab environmental testing, Enqua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C insp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IP design work, support for in house routin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ords, per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97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48C0-7F2C-4A19-8269-642E48D8C8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Service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Support Service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IS critical systems and 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OC, emergency communications,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urement and A/P for critical materials,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arehousing, VMM support for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SHU, Health liaison, Risk Mgt, Pay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urt order reports, labor issues, financial 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R hiring, compensation, benefits, labor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ing – Community support, GIS, mod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finance, procurement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ther Law Div, Real Property, Env.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l Audit, School Education, AACU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prep, Facility mg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310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414A-152E-459A-9598-D70135AB43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ity of Operations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an Emergency Action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3124440" cy="49528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critical business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critical tasks within critical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ioritize critical tasks &amp; establish hierarchical plan to drop the least important function when staff is unavail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ordinate expectations with communities and partner agen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operations based on best use of available staff and resour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22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25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28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31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835200">
            <a:off x="4114440" y="220968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D6CB-82E9-48F6-B8D4-7F8918FBB5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2971800" cy="49528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critical functions impacted by 40% absen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der trimming tasks within critical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possible backup resour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stablish a training &amp; deployment plan for backup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ecute timely training of backups and reassign people as need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40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rot="19470000">
            <a:off x="4267080" y="297180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44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47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50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32B0-D5C0-4746-BDF0-0966077A0D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Preparedness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itial step:  Small workgroup fact-finding and recommendation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Key managers (who are also leads for emergency/ continuity of operations planning) begin detailed pandemic preparedness planning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ril 7, 2006:  Meeting for 150 MWRA managers, supervisors and key staff, as well as regulatory agencies (EPA and DEP), DPH, MEMA, City of Boston, MWRA Advisory Board staff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Objective:  communicate a consistent agency-wide message, reality-test initial planning, and kick-off more detailed planning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D539-1998-4202-8759-E2267AF5C48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Do We Expect to be Short of Staf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161 functional groups analyzed in the first cut Critical Staffing analysi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9 critical operations functions would be short staff if 40% of the available staff were ab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 Operators, key trades crews, key managers, repair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1 other less critical groups would also be short staff due to few qualified staff in small group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urther analysis is needed to confirm the extent of the problem and t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eed to identify other potential staff for retraining as back-up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3C37-9CDD-4DC4-8F42-81750F5AFA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312444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critical materials or servi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appropriate procurement strategy and place orders as nec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pare plan for handling/warehousing stockpiled good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power failure response and communication backup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strategies at correct time to stockpile or find alternative vend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60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 rot="19140600">
            <a:off x="3886200" y="4419720"/>
            <a:ext cx="1224000" cy="3808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64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67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70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0131-7DCF-4BE2-A87D-6AB0CCC377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do we need to do to put a plan in plac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487760" y="2286000"/>
            <a:ext cx="218304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973040" y="30481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742480" y="2286000"/>
            <a:ext cx="218268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144240" y="3048120"/>
            <a:ext cx="112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82360" y="35053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906000" y="4495680"/>
            <a:ext cx="150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EC20-DCD1-4A53-A3DF-73914A343F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me initiatives require costly or high impact chang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asing is necessary to trigger some initiatives only when necessar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90920" y="1447920"/>
            <a:ext cx="1371600" cy="1295280"/>
            <a:chOff x="2590920" y="1447920"/>
            <a:chExt cx="1371600" cy="1295280"/>
          </a:xfrm>
        </p:grpSpPr>
        <p:sp>
          <p:nvSpPr>
            <p:cNvPr id="386" name=""/>
            <p:cNvSpPr/>
            <p:nvPr/>
          </p:nvSpPr>
          <p:spPr>
            <a:xfrm>
              <a:off x="2590920" y="1447920"/>
              <a:ext cx="1371600" cy="1295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185832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rot="21210600">
            <a:off x="4110120" y="1674720"/>
            <a:ext cx="1146240" cy="3398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84960 h 339840"/>
              <a:gd name="textAreaBottom" fmla="*/ 254880 h 33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04560" y="2514600"/>
            <a:ext cx="2181240" cy="1976400"/>
            <a:chOff x="304560" y="2514600"/>
            <a:chExt cx="2181240" cy="1976400"/>
          </a:xfrm>
        </p:grpSpPr>
        <p:sp>
          <p:nvSpPr>
            <p:cNvPr id="390" name=""/>
            <p:cNvSpPr/>
            <p:nvPr/>
          </p:nvSpPr>
          <p:spPr>
            <a:xfrm flipH="1">
              <a:off x="304200" y="2514600"/>
              <a:ext cx="2181240" cy="197640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88320" y="326556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4495680"/>
            <a:ext cx="1371600" cy="1295640"/>
            <a:chOff x="2590920" y="4495680"/>
            <a:chExt cx="1371600" cy="1295640"/>
          </a:xfrm>
        </p:grpSpPr>
        <p:sp>
          <p:nvSpPr>
            <p:cNvPr id="393" name=""/>
            <p:cNvSpPr/>
            <p:nvPr/>
          </p:nvSpPr>
          <p:spPr>
            <a:xfrm>
              <a:off x="2590920" y="4495680"/>
              <a:ext cx="1371600" cy="12956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90920" y="49060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71800" y="2971800"/>
            <a:ext cx="1371600" cy="1295280"/>
            <a:chOff x="2971800" y="2971800"/>
            <a:chExt cx="1371600" cy="1295280"/>
          </a:xfrm>
        </p:grpSpPr>
        <p:sp>
          <p:nvSpPr>
            <p:cNvPr id="396" name=""/>
            <p:cNvSpPr/>
            <p:nvPr/>
          </p:nvSpPr>
          <p:spPr>
            <a:xfrm>
              <a:off x="2971800" y="2971800"/>
              <a:ext cx="1371600" cy="12952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33822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H="1">
            <a:off x="2362320" y="2666880"/>
            <a:ext cx="380880" cy="27324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362320" y="4267080"/>
            <a:ext cx="380880" cy="4096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F918-0416-4255-86B5-D4A3C57A86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Response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1447920"/>
          <a:ext cx="3886200" cy="4548240"/>
        </p:xfrm>
        <a:graphic>
          <a:graphicData uri="http://schemas.openxmlformats.org/drawingml/2006/table">
            <a:tbl>
              <a:tblPr/>
              <a:tblGrid>
                <a:gridCol w="1774800"/>
                <a:gridCol w="2111400"/>
              </a:tblGrid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andemic 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rigger 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1 Pandemic Al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5N1 cases are confined to persons directly handling infected bi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2 Pre-Pande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somewhere in the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3 Pandemic Outbr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in the MWRA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4 Maximum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bsentee rates impact critical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5 Prolonged 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Workforce returns to lesser impact lev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457200" y="1143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are the stages to the Pandemic Respon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666880" y="1905120"/>
            <a:ext cx="2057400" cy="3874320"/>
            <a:chOff x="2666880" y="1905120"/>
            <a:chExt cx="2057400" cy="3874320"/>
          </a:xfrm>
        </p:grpSpPr>
        <p:sp>
          <p:nvSpPr>
            <p:cNvPr id="405" name=""/>
            <p:cNvSpPr/>
            <p:nvPr/>
          </p:nvSpPr>
          <p:spPr>
            <a:xfrm>
              <a:off x="2905200" y="190512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05200" y="286236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Some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6880" y="38210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3440" y="4691160"/>
              <a:ext cx="184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6-8 week d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66880" y="5442120"/>
              <a:ext cx="19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ollowing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37000" y="234792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7000" y="323208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37000" y="418932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37000" y="5073480"/>
              <a:ext cx="317520" cy="368640"/>
            </a:xfrm>
            <a:prstGeom prst="downArrow">
              <a:avLst>
                <a:gd name="adj1" fmla="val 50000"/>
                <a:gd name="adj2" fmla="val 29025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33520" y="6172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eed to plan now and be ready to implement respons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20968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We may have anywhere from days to years to do the planning and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E97A-3B23-439A-9493-CE894C5A1BC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Response Strategic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6680" y="1447920"/>
          <a:ext cx="4114800" cy="4952520"/>
        </p:xfrm>
        <a:graphic>
          <a:graphicData uri="http://schemas.openxmlformats.org/drawingml/2006/table">
            <a:tbl>
              <a:tblPr/>
              <a:tblGrid>
                <a:gridCol w="1752480"/>
                <a:gridCol w="236232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andemic 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rigger 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1 Pandemic Al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5N1 cases are confined to persons directly handling infected bi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2 Pre-Pande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somewhere in the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3 Pandemic Outbr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in the MWRA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4 Maximum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bsentee rates impact critical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5 Prolonged 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Workforce returns to lesser impact lev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0080" y="1246320"/>
            <a:ext cx="2667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trategy by 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1 – Aggressive planning and prepar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2 – Start costly or higher impact step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Stockpil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Retrai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3 - Start 24/7 EO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Track issues and respo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4 - Manage operations with limited staff and resour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5 - Manage return to normal and watch for 2</a:t>
            </a:r>
            <a:r>
              <a:rPr b="1" i="1" lang="en-US" sz="14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9720" y="1905120"/>
            <a:ext cx="2057400" cy="4234680"/>
            <a:chOff x="2709720" y="1905120"/>
            <a:chExt cx="2057400" cy="4234680"/>
          </a:xfrm>
        </p:grpSpPr>
        <p:sp>
          <p:nvSpPr>
            <p:cNvPr id="420" name=""/>
            <p:cNvSpPr/>
            <p:nvPr/>
          </p:nvSpPr>
          <p:spPr>
            <a:xfrm>
              <a:off x="2948040" y="190512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48040" y="29606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Some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9720" y="40165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4640" y="4991040"/>
              <a:ext cx="19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6-8 week d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9720" y="5802480"/>
              <a:ext cx="19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ollowing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9840" y="239220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79840" y="3367080"/>
              <a:ext cx="317520" cy="405000"/>
            </a:xfrm>
            <a:prstGeom prst="downArrow">
              <a:avLst>
                <a:gd name="adj1" fmla="val 50000"/>
                <a:gd name="adj2" fmla="val 31888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9840" y="442116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9840" y="539604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cc00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FA79-0AED-4ABF-B25D-9131F9CAD29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tiered Communication Pla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utside (Communities, DCR, public, etc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side (Mgrs/Spvrs, staff, etc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Q&amp;A, rumor contro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EOC staffing pla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ink to MEMA, DPH, others for external resource iss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tracking tools for critical staffing and critical resour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rack initiative progre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590920" y="1447920"/>
            <a:ext cx="1371600" cy="1447560"/>
            <a:chOff x="2590920" y="1447920"/>
            <a:chExt cx="1371600" cy="1447560"/>
          </a:xfrm>
        </p:grpSpPr>
        <p:sp>
          <p:nvSpPr>
            <p:cNvPr id="432" name=""/>
            <p:cNvSpPr/>
            <p:nvPr/>
          </p:nvSpPr>
          <p:spPr>
            <a:xfrm>
              <a:off x="2590920" y="1447920"/>
              <a:ext cx="1371600" cy="1447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0920" y="19047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rot="19588200">
            <a:off x="4114800" y="266652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04560" y="2514600"/>
            <a:ext cx="2181240" cy="2209680"/>
            <a:chOff x="304560" y="2514600"/>
            <a:chExt cx="2181240" cy="2209680"/>
          </a:xfrm>
        </p:grpSpPr>
        <p:sp>
          <p:nvSpPr>
            <p:cNvPr id="436" name=""/>
            <p:cNvSpPr/>
            <p:nvPr/>
          </p:nvSpPr>
          <p:spPr>
            <a:xfrm flipH="1">
              <a:off x="304200" y="251460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85080" y="335268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4495680"/>
            <a:ext cx="1371600" cy="1447920"/>
            <a:chOff x="2590920" y="4495680"/>
            <a:chExt cx="1371600" cy="1447920"/>
          </a:xfrm>
        </p:grpSpPr>
        <p:sp>
          <p:nvSpPr>
            <p:cNvPr id="439" name=""/>
            <p:cNvSpPr/>
            <p:nvPr/>
          </p:nvSpPr>
          <p:spPr>
            <a:xfrm>
              <a:off x="2590920" y="4495680"/>
              <a:ext cx="1371600" cy="1447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0920" y="4952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971800" y="2971800"/>
            <a:ext cx="1371600" cy="1447920"/>
            <a:chOff x="2971800" y="2971800"/>
            <a:chExt cx="1371600" cy="1447920"/>
          </a:xfrm>
        </p:grpSpPr>
        <p:sp>
          <p:nvSpPr>
            <p:cNvPr id="442" name=""/>
            <p:cNvSpPr/>
            <p:nvPr/>
          </p:nvSpPr>
          <p:spPr>
            <a:xfrm>
              <a:off x="2971800" y="2971800"/>
              <a:ext cx="1371600" cy="1447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1800" y="34290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H="1">
            <a:off x="2362320" y="2666880"/>
            <a:ext cx="380880" cy="3049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362320" y="4267080"/>
            <a:ext cx="3808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4053-5813-4319-B5EB-9BFA69FF8E6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 directive of MA Executive Order 144, a Continuity of Operations/Continuity of Government Plan was submitted to MA Executive Office of Public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Plan included an order of succession which, in the Pandemic scenario, is a critical component of the Emergency Action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04E4-28A0-4A25-A72C-00519E285AB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 -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DERS OF SUCC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order of succession in the absence, death, or removal of the Fred Laskey, MWRA Executive Director is as follow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ke Hornbrook, Chief Operating Offic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ick Trubiano, Director of Field Oper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ohn Vetere, Director of Deer Islan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GATIONS OF AUTHORI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authority granted to the Executive Director by the Enabling Act would be transferred to any success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UBORDINATE ORDERS OF SUCC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hould any Director or divisional or department managers become disabled, the following orders of succession will app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4E5C-B13C-4C0C-A5E3-CEA465E0A60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of Succession –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4520" y="1333080"/>
            <a:ext cx="453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Rick Trubiano, Director of Field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cis Kem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k Johns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rolyn Fior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John Vetere, Director of Deer Isl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erald Gallinar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aniel O’Bri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eff Read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Mark Johnson, Director of Metropolita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alerie Mor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ul Burrid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t Regnet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ave Coppes, Director of Wester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uy Fo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rad Palm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n Per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49320" y="1333080"/>
            <a:ext cx="4457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irector of Wastewater Collectio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seph Del Grec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teve Cull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teve Ab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Charlie Button, Deputy Chief Operating Offic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ae Ki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vin O’Bri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rank DePaol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ave Gilmartin, Director of Emergency Preparedn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ctor L’Esper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obert Noon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icholas DeMatte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Command of the Emergency Service Units will be assumed by Steve Venuti)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81120" y="6019920"/>
            <a:ext cx="565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For pandemic purposes, this approach must be extended downward to all Critical 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CF19-6CEE-46ED-AD91-4E6A11CD99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re We Planning Fo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 Massachusetts alone, over the course of 6 – 8 week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 million people may become i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80,000 people may require hospitaliz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0,000 people may d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encies should plan for the worst-case scenario, in which up to 40% of the workforce is absent for a two-week period, due to illness or to care for family memb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840" y="6343560"/>
            <a:ext cx="15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– MA D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39DE-7337-41CD-96BE-629D733626A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of Succession – Examp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4520" y="1333080"/>
            <a:ext cx="453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Kevin Feeley, Managing Direc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ian Orfe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reg DeFron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ob Donnol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Trish Filiponne, Acting Chief Financial Offic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e McCan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achel Madd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Mike Ralph, Director of Public Affai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ary Webs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ia Conv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49320" y="1333080"/>
            <a:ext cx="4457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Steve Remsberg, General Counse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ack Chini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hn Navo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Greg DeFronzo, Director of MI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n Carls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ichard Del P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e Barret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hnaz Meh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81120" y="6019920"/>
            <a:ext cx="565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For pandemic purposes, this approach must be extended downward to all Critical 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2B25-305C-4FE3-91FA-F5BB6137B4E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t input from critical function managers for critical staffing and interdependen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tinue to resolve policy and technical issu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lete EA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the situation and implement EAP when necessa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590920" y="1447920"/>
            <a:ext cx="1371600" cy="1447560"/>
            <a:chOff x="2590920" y="1447920"/>
            <a:chExt cx="1371600" cy="1447560"/>
          </a:xfrm>
        </p:grpSpPr>
        <p:sp>
          <p:nvSpPr>
            <p:cNvPr id="462" name=""/>
            <p:cNvSpPr/>
            <p:nvPr/>
          </p:nvSpPr>
          <p:spPr>
            <a:xfrm>
              <a:off x="2590920" y="1447920"/>
              <a:ext cx="1371600" cy="1447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19047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19588200">
            <a:off x="3886200" y="434304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4560" y="2514600"/>
            <a:ext cx="2181240" cy="2209680"/>
            <a:chOff x="304560" y="2514600"/>
            <a:chExt cx="2181240" cy="2209680"/>
          </a:xfrm>
        </p:grpSpPr>
        <p:sp>
          <p:nvSpPr>
            <p:cNvPr id="466" name=""/>
            <p:cNvSpPr/>
            <p:nvPr/>
          </p:nvSpPr>
          <p:spPr>
            <a:xfrm flipH="1">
              <a:off x="304200" y="251460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85080" y="335268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590920" y="4495680"/>
            <a:ext cx="1371600" cy="1447920"/>
            <a:chOff x="2590920" y="4495680"/>
            <a:chExt cx="1371600" cy="1447920"/>
          </a:xfrm>
        </p:grpSpPr>
        <p:sp>
          <p:nvSpPr>
            <p:cNvPr id="469" name=""/>
            <p:cNvSpPr/>
            <p:nvPr/>
          </p:nvSpPr>
          <p:spPr>
            <a:xfrm>
              <a:off x="2590920" y="4495680"/>
              <a:ext cx="1371600" cy="1447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0920" y="4952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971800" y="2971800"/>
            <a:ext cx="1371600" cy="1447920"/>
            <a:chOff x="2971800" y="2971800"/>
            <a:chExt cx="1371600" cy="1447920"/>
          </a:xfrm>
        </p:grpSpPr>
        <p:sp>
          <p:nvSpPr>
            <p:cNvPr id="472" name=""/>
            <p:cNvSpPr/>
            <p:nvPr/>
          </p:nvSpPr>
          <p:spPr>
            <a:xfrm>
              <a:off x="2971800" y="2971800"/>
              <a:ext cx="1371600" cy="1447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1800" y="34290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2362320" y="2666880"/>
            <a:ext cx="380880" cy="3049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2362320" y="4267080"/>
            <a:ext cx="3808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AE48-2480-4958-8C98-13ADF4EAA5E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 Emergency Action Plan – Near Term St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situ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lete EAP Phase 1 plan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tion of critical function manag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ritical function review – What can’t be interrupted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ritical resource review – Who to train and how? - What to stockpile or arrange alternate sources fo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nior management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icy iss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R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ocurement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erations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ndemic Planning task force investigates technical issues and helps develop health strateg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AP completion and tracking by Emergency Respon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tinuing communication inside and outside MWR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1BB1-3ADE-4644-97F8-532E993F1B3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steps to complete EAP -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2057400"/>
            <a:ext cx="1600200" cy="31982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staffing &amp; back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Goods/ Services/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scope training plans for reassigned 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function 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demic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 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2057400"/>
            <a:ext cx="1600200" cy="33094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licies &amp;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 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/ wet weather 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hink critical 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power/ comm backup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2057400"/>
            <a:ext cx="1600200" cy="36338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velop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ian flu Q&amp;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expert help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health plans, strategies  &amp; S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evelop training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 Office/ Suppor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057400"/>
            <a:ext cx="1600200" cy="24570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 pandemic poli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on brief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ure critical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86600" y="2057400"/>
            <a:ext cx="1600200" cy="27720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&amp; coordinate plan prog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Incident Comm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all sub-plans into 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B8C6-0BA2-45A6-AE36-8906370930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26960" y="2139840"/>
            <a:ext cx="64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An ounce of preven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is worth a pound of cur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08080" y="3809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Henry de Brac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444C-0995-414D-BB80-D6270FC216F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44E-C295-46CD-A6B3-5DDB21AF6789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changes in the work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do we need to do to protect staff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43200" y="2286000"/>
            <a:ext cx="3927240" cy="3429000"/>
            <a:chOff x="2743200" y="2286000"/>
            <a:chExt cx="3927240" cy="3429000"/>
          </a:xfrm>
        </p:grpSpPr>
        <p:sp>
          <p:nvSpPr>
            <p:cNvPr id="105" name=""/>
            <p:cNvSpPr/>
            <p:nvPr/>
          </p:nvSpPr>
          <p:spPr>
            <a:xfrm flipH="1">
              <a:off x="4487400" y="2286000"/>
              <a:ext cx="218268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973040" y="3048120"/>
              <a:ext cx="136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743200" y="2286000"/>
              <a:ext cx="2183040" cy="220968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144960" y="3048120"/>
              <a:ext cx="112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82360" y="350532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907080" y="4495680"/>
              <a:ext cx="150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B672-9019-4D24-8DCA-53EF53BE4F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focus of Pandemic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inuity of Operations is critical to essential Public Safety functions (fire protection) and Public Health functions (drinking water quality and management of sew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lth of staff is critical to Continuity of Operations.  Staff need to have confidence that steps have been taken for safety in the workp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90920" y="1981080"/>
            <a:ext cx="3961800" cy="2210040"/>
            <a:chOff x="2590920" y="1981080"/>
            <a:chExt cx="3961800" cy="2210040"/>
          </a:xfrm>
        </p:grpSpPr>
        <p:sp>
          <p:nvSpPr>
            <p:cNvPr id="114" name=""/>
            <p:cNvSpPr/>
            <p:nvPr/>
          </p:nvSpPr>
          <p:spPr>
            <a:xfrm>
              <a:off x="2590920" y="1981080"/>
              <a:ext cx="2201760" cy="221004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06720" y="274320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1320" y="1981080"/>
              <a:ext cx="2201400" cy="221004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2743200"/>
              <a:ext cx="113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1430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he Pandemic threat is spread person to person and impacts operations by the absence of critical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B230-25BB-4CBB-A1DF-3E3C774AE6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andemic EAP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39680" y="2514600"/>
            <a:ext cx="218268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25320" y="32767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2514600"/>
            <a:ext cx="218304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97240" y="327672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87320" y="5257800"/>
            <a:ext cx="1360440" cy="1447920"/>
            <a:chOff x="1687320" y="5257800"/>
            <a:chExt cx="1360440" cy="1447920"/>
          </a:xfrm>
        </p:grpSpPr>
        <p:sp>
          <p:nvSpPr>
            <p:cNvPr id="125" name=""/>
            <p:cNvSpPr/>
            <p:nvPr/>
          </p:nvSpPr>
          <p:spPr>
            <a:xfrm flipH="1">
              <a:off x="1686960" y="5257800"/>
              <a:ext cx="136044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86960" y="5639040"/>
              <a:ext cx="136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386000" y="1219320"/>
            <a:ext cx="1358640" cy="1447560"/>
            <a:chOff x="1386000" y="1219320"/>
            <a:chExt cx="1358640" cy="1447560"/>
          </a:xfrm>
        </p:grpSpPr>
        <p:sp>
          <p:nvSpPr>
            <p:cNvPr id="128" name=""/>
            <p:cNvSpPr/>
            <p:nvPr/>
          </p:nvSpPr>
          <p:spPr>
            <a:xfrm flipH="1">
              <a:off x="1386000" y="1219320"/>
              <a:ext cx="135864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386000" y="1523880"/>
              <a:ext cx="135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Distancing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5960" y="2590920"/>
            <a:ext cx="1359000" cy="1447560"/>
            <a:chOff x="705960" y="2590920"/>
            <a:chExt cx="1359000" cy="1447560"/>
          </a:xfrm>
        </p:grpSpPr>
        <p:sp>
          <p:nvSpPr>
            <p:cNvPr id="131" name=""/>
            <p:cNvSpPr/>
            <p:nvPr/>
          </p:nvSpPr>
          <p:spPr>
            <a:xfrm flipH="1">
              <a:off x="705600" y="2590920"/>
              <a:ext cx="13590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05600" y="289548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81200" y="4114800"/>
            <a:ext cx="1360080" cy="1447920"/>
            <a:chOff x="781200" y="4114800"/>
            <a:chExt cx="1360080" cy="1447920"/>
          </a:xfrm>
        </p:grpSpPr>
        <p:sp>
          <p:nvSpPr>
            <p:cNvPr id="134" name=""/>
            <p:cNvSpPr/>
            <p:nvPr/>
          </p:nvSpPr>
          <p:spPr>
            <a:xfrm flipH="1">
              <a:off x="781920" y="4114800"/>
              <a:ext cx="13590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80840" y="441972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 flipV="1">
            <a:off x="2669760" y="2437920"/>
            <a:ext cx="452520" cy="38124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141640" y="3276360"/>
            <a:ext cx="75384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41640" y="4114800"/>
            <a:ext cx="830160" cy="3808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44280" y="4572000"/>
            <a:ext cx="528840" cy="6858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734640" y="37339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059360" y="4724280"/>
            <a:ext cx="15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8F3C-11C1-4180-8A4C-6B5463ED3F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trategies for essential &amp; non- essential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trategy for use of satellite facilities, staggered shifts, work at hom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office protocols – minimize need to congregat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upervisory training and implem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staff health and separate sick peop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initiatives when needed to 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688800">
            <a:off x="4114440" y="182880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48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51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cial Distancing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54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57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5D1B-DBC6-4ED3-8E5E-00B11A68D5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proper workplace hygiene and train all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stall signage, dispensers, etc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anitization plan and waste disposal for common ar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istribute PPE and sanitizing produc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and enforce poli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605800">
            <a:off x="4343040" y="266652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69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72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75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78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7A47-2CEA-4511-A290-99E3355CD8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rd/animal S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hazardous work task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PE pla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HVAC and other physical systems as necessa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medical consult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distribution of medic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mplement when need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470000">
            <a:off x="4191120" y="3733560"/>
            <a:ext cx="1145880" cy="380880"/>
          </a:xfrm>
          <a:custGeom>
            <a:avLst/>
            <a:gdLst>
              <a:gd name="textAreaLeft" fmla="*/ 178920 w 1145880"/>
              <a:gd name="textAreaRight" fmla="*/ 1002960 w 1145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90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93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96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99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7D5E-DE3F-4B33-9EF9-3047822725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3:57:36Z</dcterms:created>
  <dc:creator>MWRA</dc:creator>
  <dc:description/>
  <dc:language>en-US</dc:language>
  <cp:lastModifiedBy>Ria Convery</cp:lastModifiedBy>
  <cp:lastPrinted>2002-04-19T13:55:41Z</cp:lastPrinted>
  <dcterms:modified xsi:type="dcterms:W3CDTF">2006-04-28T19:59:26Z</dcterms:modified>
  <cp:revision>292</cp:revision>
  <dc:subject/>
  <dc:title>Presentation to Massachusetts Clean Water Council Steering Committee  MWRA PROJECT FOCUS</dc:title>
</cp:coreProperties>
</file>