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DCDC-1DF0-4C4B-9CEC-0D2D32CC8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120" y="39549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63D8-5C3E-433F-9375-0A8B5CD51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880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1128-C80A-4FED-9E21-FABF819F0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45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99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1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45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99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1755-476F-4701-88E9-A9AFC35D2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239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E68C-4450-4ADB-B847-0430F494B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880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9549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880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45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9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45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9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F72B-E244-4F32-A1FF-97D8BD936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71BE-ED5A-4B82-B73C-BB61C358D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FDE5-5AAA-48F6-8109-BA12A66D8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239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B792-FD77-4AC7-B05F-505089D3F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66E6-E184-46FE-9C95-A298E3CCD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880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B0B3-E30B-49B5-B089-00D51A39D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CF94-357A-46D3-A3CF-A7EA3D366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381520" y="655272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9868-8592-4E64-A1ED-2D167241E727}" type="slidenum">
              <a:rPr b="0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600" y="2919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4600" y="2919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55160" cy="774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44600" y="2919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4600" y="2919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47920" y="457200"/>
            <a:ext cx="7010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8255160" cy="7747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5516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47920" y="457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sachusetts Water Resources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38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ederick A. Laskey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130176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demic Preparedness Planning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ssues and Challenges for Utility Managers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WRA’s Perspectiv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46200" y="5616360"/>
            <a:ext cx="782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National Association of Clean Water Agencie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y 1, 2006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4114800"/>
            <a:ext cx="601956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124080" y="2895480"/>
            <a:ext cx="2971800" cy="2577960"/>
            <a:chOff x="3124080" y="2895480"/>
            <a:chExt cx="2971800" cy="2577960"/>
          </a:xfrm>
        </p:grpSpPr>
        <p:sp>
          <p:nvSpPr>
            <p:cNvPr id="91" name=""/>
            <p:cNvSpPr/>
            <p:nvPr/>
          </p:nvSpPr>
          <p:spPr>
            <a:xfrm flipH="1">
              <a:off x="4444920" y="2895480"/>
              <a:ext cx="1650960" cy="166212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723560" y="3352680"/>
              <a:ext cx="120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inuity of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124080" y="2895480"/>
              <a:ext cx="1650960" cy="16621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427920" y="3352680"/>
              <a:ext cx="84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lth of Staf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759120" y="3811320"/>
              <a:ext cx="1650960" cy="1662120"/>
            </a:xfrm>
            <a:prstGeom prst="ellipse">
              <a:avLst/>
            </a:prstGeom>
            <a:solidFill>
              <a:srgbClr val="ff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038480" y="4495680"/>
              <a:ext cx="124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AP Develo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of Staff -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38320" y="1447560"/>
            <a:ext cx="2971800" cy="48006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pandemic specific policies for leaves, absences and compensa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mmunicate policies with unions, sta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stablish support functions for families, counsel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ordinate with insurance providers, health ca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anage the incid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9140600">
            <a:off x="3886200" y="5105520"/>
            <a:ext cx="1224000" cy="38088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2438280"/>
            <a:ext cx="2201760" cy="2210040"/>
          </a:xfrm>
          <a:prstGeom prst="ellipse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0160" y="3200400"/>
            <a:ext cx="113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of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362320" y="5410080"/>
            <a:ext cx="1523880" cy="1447920"/>
            <a:chOff x="2362320" y="5410080"/>
            <a:chExt cx="1523880" cy="1447920"/>
          </a:xfrm>
        </p:grpSpPr>
        <p:sp>
          <p:nvSpPr>
            <p:cNvPr id="211" name=""/>
            <p:cNvSpPr/>
            <p:nvPr/>
          </p:nvSpPr>
          <p:spPr>
            <a:xfrm>
              <a:off x="2438280" y="5410080"/>
              <a:ext cx="1371600" cy="144792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62320" y="5791320"/>
              <a:ext cx="152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ministrative Pandemic Poli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514600" y="1066680"/>
            <a:ext cx="1371600" cy="1447920"/>
            <a:chOff x="2514600" y="1066680"/>
            <a:chExt cx="1371600" cy="1447920"/>
          </a:xfrm>
        </p:grpSpPr>
        <p:sp>
          <p:nvSpPr>
            <p:cNvPr id="214" name=""/>
            <p:cNvSpPr/>
            <p:nvPr/>
          </p:nvSpPr>
          <p:spPr>
            <a:xfrm>
              <a:off x="2514600" y="1066680"/>
              <a:ext cx="1371600" cy="14479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14600" y="137160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ff Separation strate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895480" y="2514600"/>
            <a:ext cx="1371600" cy="1447560"/>
            <a:chOff x="2895480" y="2514600"/>
            <a:chExt cx="1371600" cy="1447560"/>
          </a:xfrm>
        </p:grpSpPr>
        <p:sp>
          <p:nvSpPr>
            <p:cNvPr id="217" name=""/>
            <p:cNvSpPr/>
            <p:nvPr/>
          </p:nvSpPr>
          <p:spPr>
            <a:xfrm>
              <a:off x="2895480" y="2514600"/>
              <a:ext cx="1371600" cy="144756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95480" y="281916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Workplace hygi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819520" y="3962520"/>
            <a:ext cx="1371600" cy="1447560"/>
            <a:chOff x="2819520" y="3962520"/>
            <a:chExt cx="1371600" cy="1447560"/>
          </a:xfrm>
        </p:grpSpPr>
        <p:sp>
          <p:nvSpPr>
            <p:cNvPr id="220" name=""/>
            <p:cNvSpPr/>
            <p:nvPr/>
          </p:nvSpPr>
          <p:spPr>
            <a:xfrm>
              <a:off x="2819520" y="3962520"/>
              <a:ext cx="1371600" cy="144756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26708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rkplace Hazard Re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V="1">
            <a:off x="2133720" y="2286000"/>
            <a:ext cx="53316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438280" y="3276360"/>
            <a:ext cx="457200" cy="7596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114800"/>
            <a:ext cx="533520" cy="2286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4495680"/>
            <a:ext cx="685800" cy="99072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2D22-D909-432D-A93B-BDE9959584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at might impact MWRA Operations and what will we do to prepare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ndemic Emergency Action Plan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590560" y="2133720"/>
            <a:ext cx="3927240" cy="3429000"/>
            <a:chOff x="2590560" y="2133720"/>
            <a:chExt cx="3927240" cy="3429000"/>
          </a:xfrm>
        </p:grpSpPr>
        <p:sp>
          <p:nvSpPr>
            <p:cNvPr id="229" name=""/>
            <p:cNvSpPr/>
            <p:nvPr/>
          </p:nvSpPr>
          <p:spPr>
            <a:xfrm flipH="1">
              <a:off x="4335480" y="2133720"/>
              <a:ext cx="2182320" cy="220968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821120" y="2895840"/>
              <a:ext cx="136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nuity of 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590200" y="2133720"/>
              <a:ext cx="2182680" cy="220968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991600" y="2895840"/>
              <a:ext cx="112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lth of Sta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430440" y="3353040"/>
              <a:ext cx="2180880" cy="2209680"/>
            </a:xfrm>
            <a:prstGeom prst="ellipse">
              <a:avLst/>
            </a:prstGeom>
            <a:solidFill>
              <a:srgbClr val="ff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753720" y="4343400"/>
              <a:ext cx="1505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P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01EA-E9DC-4B2B-B5FD-8A0D05FC17F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andemic EAP Initia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314240" y="2514600"/>
            <a:ext cx="2182680" cy="2209680"/>
          </a:xfrm>
          <a:prstGeom prst="ellipse">
            <a:avLst/>
          </a:prstGeom>
          <a:solidFill>
            <a:srgbClr val="00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799880" y="3276720"/>
            <a:ext cx="136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ity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70040" y="2514600"/>
            <a:ext cx="2183040" cy="2209680"/>
          </a:xfrm>
          <a:prstGeom prst="ellipse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971800" y="3276720"/>
            <a:ext cx="11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of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798960" y="1295280"/>
            <a:ext cx="1359000" cy="1447920"/>
            <a:chOff x="6798960" y="1295280"/>
            <a:chExt cx="1359000" cy="1447920"/>
          </a:xfrm>
        </p:grpSpPr>
        <p:sp>
          <p:nvSpPr>
            <p:cNvPr id="241" name=""/>
            <p:cNvSpPr/>
            <p:nvPr/>
          </p:nvSpPr>
          <p:spPr>
            <a:xfrm flipH="1">
              <a:off x="6798600" y="1295280"/>
              <a:ext cx="1359000" cy="144792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798600" y="1600200"/>
              <a:ext cx="1359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ing critical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024680" y="4191120"/>
            <a:ext cx="1360080" cy="1447560"/>
            <a:chOff x="7024680" y="4191120"/>
            <a:chExt cx="1360080" cy="1447560"/>
          </a:xfrm>
        </p:grpSpPr>
        <p:sp>
          <p:nvSpPr>
            <p:cNvPr id="244" name=""/>
            <p:cNvSpPr/>
            <p:nvPr/>
          </p:nvSpPr>
          <p:spPr>
            <a:xfrm flipH="1">
              <a:off x="7026120" y="4191120"/>
              <a:ext cx="1358640" cy="144756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024680" y="4572000"/>
              <a:ext cx="135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Inter- dependen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403760" y="2743200"/>
            <a:ext cx="1359000" cy="1447560"/>
            <a:chOff x="7403760" y="2743200"/>
            <a:chExt cx="1359000" cy="1447560"/>
          </a:xfrm>
        </p:grpSpPr>
        <p:sp>
          <p:nvSpPr>
            <p:cNvPr id="247" name=""/>
            <p:cNvSpPr/>
            <p:nvPr/>
          </p:nvSpPr>
          <p:spPr>
            <a:xfrm flipH="1">
              <a:off x="7403400" y="2743200"/>
              <a:ext cx="1359000" cy="144756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403400" y="3047760"/>
              <a:ext cx="1359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critical staffing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 flipH="1">
            <a:off x="6346440" y="2514600"/>
            <a:ext cx="52884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497640" y="3429000"/>
            <a:ext cx="906480" cy="7632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6497640" y="4114800"/>
            <a:ext cx="528480" cy="38088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409200" y="3733920"/>
            <a:ext cx="2181240" cy="2209680"/>
          </a:xfrm>
          <a:prstGeom prst="ellipse">
            <a:avLst/>
          </a:prstGeom>
          <a:solidFill>
            <a:srgbClr val="ffcc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733920" y="4724280"/>
            <a:ext cx="150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P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5711-0028-4A40-A757-1CE9ECFF57B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critical to MWRA’s Miss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981080" y="1142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functions must be sustained through the 6-8 week critical period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1981080"/>
            <a:ext cx="1486080" cy="4266720"/>
            <a:chOff x="685800" y="1981080"/>
            <a:chExt cx="1486080" cy="4266720"/>
          </a:xfrm>
        </p:grpSpPr>
        <p:sp>
          <p:nvSpPr>
            <p:cNvPr id="257" name="Pyr1"/>
            <p:cNvSpPr/>
            <p:nvPr/>
          </p:nvSpPr>
          <p:spPr>
            <a:xfrm rot="10800000">
              <a:off x="1260360" y="5302080"/>
              <a:ext cx="333360" cy="945720"/>
            </a:xfrm>
            <a:prstGeom prst="pie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Pyr2"/>
            <p:cNvSpPr/>
            <p:nvPr/>
          </p:nvSpPr>
          <p:spPr>
            <a:xfrm rot="10800000">
              <a:off x="1068120" y="4193280"/>
              <a:ext cx="716040" cy="1108800"/>
            </a:xfrm>
            <a:prstGeom prst="pie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Pyr3"/>
            <p:cNvSpPr/>
            <p:nvPr/>
          </p:nvSpPr>
          <p:spPr>
            <a:xfrm rot="10800000">
              <a:off x="877680" y="3084480"/>
              <a:ext cx="1098360" cy="1108800"/>
            </a:xfrm>
            <a:prstGeom prst="pie">
              <a:avLst/>
            </a:prstGeom>
            <a:solidFill>
              <a:srgbClr val="ff8c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Pyr4"/>
            <p:cNvSpPr/>
            <p:nvPr/>
          </p:nvSpPr>
          <p:spPr>
            <a:xfrm rot="10800000">
              <a:off x="685800" y="1981080"/>
              <a:ext cx="1486080" cy="11088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 rot="16200000">
            <a:off x="-988920" y="3808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ri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209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5486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429000" y="1981080"/>
          <a:ext cx="5181120" cy="4267440"/>
        </p:xfrm>
        <a:graphic>
          <a:graphicData uri="http://schemas.openxmlformats.org/drawingml/2006/table">
            <a:tbl>
              <a:tblPr/>
              <a:tblGrid>
                <a:gridCol w="51811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livery of water/removal of waste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otect staf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ovide emergency response to haz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nvironmental protection &amp; sewage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ss critical water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ritical bus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c19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eserve condition of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outine mainte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outine bus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fficiency initia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ong term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pital improv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2286000" y="3352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0" y="4419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EE1E-24D3-42C7-906C-7C9D32E620E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er Operations Critical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14600" y="1295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ndemic Water Operations Priori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048120" y="1981080"/>
          <a:ext cx="5562360" cy="4267440"/>
        </p:xfrm>
        <a:graphic>
          <a:graphicData uri="http://schemas.openxmlformats.org/drawingml/2006/table">
            <a:tbl>
              <a:tblPr/>
              <a:tblGrid>
                <a:gridCol w="556236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liver water - aqueducts, PRVs, pumps, brea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isinfection, critical samp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CCs for alarms, security, emer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rrosion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CADA, Te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Key facility repairs, leak rep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c19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outine mainte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acility rep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outine samp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ydroelectri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rounds &amp; custod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k surveys, valve exersizing, fluori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70" name=""/>
          <p:cNvGrpSpPr/>
          <p:nvPr/>
        </p:nvGrpSpPr>
        <p:grpSpPr>
          <a:xfrm>
            <a:off x="685800" y="1981080"/>
            <a:ext cx="1486080" cy="4266720"/>
            <a:chOff x="685800" y="1981080"/>
            <a:chExt cx="1486080" cy="4266720"/>
          </a:xfrm>
        </p:grpSpPr>
        <p:sp>
          <p:nvSpPr>
            <p:cNvPr id="271" name="Pyr1"/>
            <p:cNvSpPr/>
            <p:nvPr/>
          </p:nvSpPr>
          <p:spPr>
            <a:xfrm rot="10800000">
              <a:off x="1260360" y="5302080"/>
              <a:ext cx="333360" cy="945720"/>
            </a:xfrm>
            <a:prstGeom prst="pie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Pyr2"/>
            <p:cNvSpPr/>
            <p:nvPr/>
          </p:nvSpPr>
          <p:spPr>
            <a:xfrm rot="10800000">
              <a:off x="1068120" y="4193280"/>
              <a:ext cx="716040" cy="1108800"/>
            </a:xfrm>
            <a:prstGeom prst="pie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Pyr3"/>
            <p:cNvSpPr/>
            <p:nvPr/>
          </p:nvSpPr>
          <p:spPr>
            <a:xfrm rot="10800000">
              <a:off x="877680" y="3084480"/>
              <a:ext cx="1098360" cy="1108800"/>
            </a:xfrm>
            <a:prstGeom prst="pie">
              <a:avLst/>
            </a:prstGeom>
            <a:solidFill>
              <a:srgbClr val="ff8c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Pyr4"/>
            <p:cNvSpPr/>
            <p:nvPr/>
          </p:nvSpPr>
          <p:spPr>
            <a:xfrm rot="10800000">
              <a:off x="685800" y="1981080"/>
              <a:ext cx="1486080" cy="11088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6200000">
            <a:off x="-988920" y="3808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ri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810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810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810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E7B5-F742-403E-A040-DFA67F50D98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stewater Operations Critical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14600" y="1295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ndemic Wastewater Operations Priori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048120" y="1981080"/>
          <a:ext cx="5562360" cy="4267440"/>
        </p:xfrm>
        <a:graphic>
          <a:graphicData uri="http://schemas.openxmlformats.org/drawingml/2006/table">
            <a:tbl>
              <a:tblPr/>
              <a:tblGrid>
                <a:gridCol w="556236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move wastewater -wet weather, pumping, scre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event uncontrolled SSOs &amp; backups into 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CCs for alarms, security, emer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Wastewater disinfection – CSOs, outf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CADA, PICS, facility safety instru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Key facility repairs, storm clean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c19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econdary treatment, sludge hand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outine maintenance &amp; facility rep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outine samp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V insp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ewer cleaning and rehabil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rounds &amp; custod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83" name=""/>
          <p:cNvGrpSpPr/>
          <p:nvPr/>
        </p:nvGrpSpPr>
        <p:grpSpPr>
          <a:xfrm>
            <a:off x="685800" y="1981080"/>
            <a:ext cx="1486080" cy="4266720"/>
            <a:chOff x="685800" y="1981080"/>
            <a:chExt cx="1486080" cy="4266720"/>
          </a:xfrm>
        </p:grpSpPr>
        <p:sp>
          <p:nvSpPr>
            <p:cNvPr id="284" name="Pyr1"/>
            <p:cNvSpPr/>
            <p:nvPr/>
          </p:nvSpPr>
          <p:spPr>
            <a:xfrm rot="10800000">
              <a:off x="1260360" y="5302080"/>
              <a:ext cx="333360" cy="945720"/>
            </a:xfrm>
            <a:prstGeom prst="pie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Pyr2"/>
            <p:cNvSpPr/>
            <p:nvPr/>
          </p:nvSpPr>
          <p:spPr>
            <a:xfrm rot="10800000">
              <a:off x="1068120" y="4193280"/>
              <a:ext cx="716040" cy="1108800"/>
            </a:xfrm>
            <a:prstGeom prst="pie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Pyr3"/>
            <p:cNvSpPr/>
            <p:nvPr/>
          </p:nvSpPr>
          <p:spPr>
            <a:xfrm rot="10800000">
              <a:off x="877680" y="3084480"/>
              <a:ext cx="1098360" cy="1108800"/>
            </a:xfrm>
            <a:prstGeom prst="pie">
              <a:avLst/>
            </a:prstGeom>
            <a:solidFill>
              <a:srgbClr val="ff8c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Pyr4"/>
            <p:cNvSpPr/>
            <p:nvPr/>
          </p:nvSpPr>
          <p:spPr>
            <a:xfrm rot="10800000">
              <a:off x="685800" y="1981080"/>
              <a:ext cx="1486080" cy="11088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 rot="16200000">
            <a:off x="-988920" y="3808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ri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810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10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10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6CB8-CD34-4DBD-834E-5ADFF122B6E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Operations Critical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14600" y="1295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ther Pandemic Operations Department Priori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048120" y="1981080"/>
          <a:ext cx="5562360" cy="4267440"/>
        </p:xfrm>
        <a:graphic>
          <a:graphicData uri="http://schemas.openxmlformats.org/drawingml/2006/table">
            <a:tbl>
              <a:tblPr/>
              <a:tblGrid>
                <a:gridCol w="556236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ab testing for water tests, DI process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mergency engineering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RAC sampling for hazardous rele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yr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mediate labor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/P processing for critical materials, cost trac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c19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IP construction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/P processing for non-critical 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ab environmental testing, Enquad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RAC insp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IP design work, support for in house routine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cords, perm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685800" y="1981080"/>
            <a:ext cx="1486080" cy="4266720"/>
            <a:chOff x="685800" y="1981080"/>
            <a:chExt cx="1486080" cy="4266720"/>
          </a:xfrm>
        </p:grpSpPr>
        <p:sp>
          <p:nvSpPr>
            <p:cNvPr id="297" name="Pyr1"/>
            <p:cNvSpPr/>
            <p:nvPr/>
          </p:nvSpPr>
          <p:spPr>
            <a:xfrm rot="10800000">
              <a:off x="1260360" y="5302080"/>
              <a:ext cx="333360" cy="945720"/>
            </a:xfrm>
            <a:prstGeom prst="pie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Pyr2"/>
            <p:cNvSpPr/>
            <p:nvPr/>
          </p:nvSpPr>
          <p:spPr>
            <a:xfrm rot="10800000">
              <a:off x="1068120" y="4193280"/>
              <a:ext cx="716040" cy="1108800"/>
            </a:xfrm>
            <a:prstGeom prst="pie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Pyr3"/>
            <p:cNvSpPr/>
            <p:nvPr/>
          </p:nvSpPr>
          <p:spPr>
            <a:xfrm rot="10800000">
              <a:off x="877680" y="3084480"/>
              <a:ext cx="1098360" cy="1108800"/>
            </a:xfrm>
            <a:prstGeom prst="pie">
              <a:avLst/>
            </a:prstGeom>
            <a:solidFill>
              <a:srgbClr val="ff8c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Pyr4"/>
            <p:cNvSpPr/>
            <p:nvPr/>
          </p:nvSpPr>
          <p:spPr>
            <a:xfrm rot="10800000">
              <a:off x="685800" y="1981080"/>
              <a:ext cx="1486080" cy="11088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 rot="16200000">
            <a:off x="-988920" y="3808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ri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0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7E88-0554-4A79-AE58-3D7D29830BA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Services Critical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14600" y="1295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ndemic Support Services Priori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048120" y="1981080"/>
          <a:ext cx="5562360" cy="4267440"/>
        </p:xfrm>
        <a:graphic>
          <a:graphicData uri="http://schemas.openxmlformats.org/drawingml/2006/table">
            <a:tbl>
              <a:tblPr/>
              <a:tblGrid>
                <a:gridCol w="556236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IS critical systems and appl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OC, emergency communications, sec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ocurement and A/P for critical materials,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Warehousing, VMM support for emer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SHU, Health liaison, Risk Mgt, Payr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urt order reports, labor issues, financial repor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c19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R hiring, compensation, benefits, labor contr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ing – Community support, GIS, mode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outine finance, procurement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ther Law Div, Real Property, Env. Compl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ernal Audit, School Education, AACU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prep, Facility mgt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309" name=""/>
          <p:cNvGrpSpPr/>
          <p:nvPr/>
        </p:nvGrpSpPr>
        <p:grpSpPr>
          <a:xfrm>
            <a:off x="685800" y="1981080"/>
            <a:ext cx="1486080" cy="4266720"/>
            <a:chOff x="685800" y="1981080"/>
            <a:chExt cx="1486080" cy="4266720"/>
          </a:xfrm>
        </p:grpSpPr>
        <p:sp>
          <p:nvSpPr>
            <p:cNvPr id="310" name="Pyr1"/>
            <p:cNvSpPr/>
            <p:nvPr/>
          </p:nvSpPr>
          <p:spPr>
            <a:xfrm rot="10800000">
              <a:off x="1260360" y="5302080"/>
              <a:ext cx="333360" cy="945720"/>
            </a:xfrm>
            <a:prstGeom prst="pie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Pyr2"/>
            <p:cNvSpPr/>
            <p:nvPr/>
          </p:nvSpPr>
          <p:spPr>
            <a:xfrm rot="10800000">
              <a:off x="1068120" y="4193280"/>
              <a:ext cx="716040" cy="1108800"/>
            </a:xfrm>
            <a:prstGeom prst="pie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Pyr3"/>
            <p:cNvSpPr/>
            <p:nvPr/>
          </p:nvSpPr>
          <p:spPr>
            <a:xfrm rot="10800000">
              <a:off x="877680" y="3084480"/>
              <a:ext cx="1098360" cy="1108800"/>
            </a:xfrm>
            <a:prstGeom prst="pie">
              <a:avLst/>
            </a:prstGeom>
            <a:solidFill>
              <a:srgbClr val="ff8c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Pyr4"/>
            <p:cNvSpPr/>
            <p:nvPr/>
          </p:nvSpPr>
          <p:spPr>
            <a:xfrm rot="10800000">
              <a:off x="685800" y="1981080"/>
              <a:ext cx="1486080" cy="110880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 rot="16200000">
            <a:off x="-988920" y="3808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ri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810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r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810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81080" y="4495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A703-D22D-4CCC-BF81-792F0D7773A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ity of Operations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ing an Emergency Action Pl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38320" y="1447920"/>
            <a:ext cx="3124440" cy="49528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dentify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critical business funct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view critical tasks within critical funct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rioritize critical tasks &amp; establish hierarchical plan to drop the least important function when staff is unavail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ordinate expectations with communities and partner agenci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anage operations based on best use of available staff and resourc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04920" y="2743200"/>
            <a:ext cx="2201760" cy="2209680"/>
            <a:chOff x="304920" y="2743200"/>
            <a:chExt cx="2201760" cy="2209680"/>
          </a:xfrm>
        </p:grpSpPr>
        <p:sp>
          <p:nvSpPr>
            <p:cNvPr id="322" name=""/>
            <p:cNvSpPr/>
            <p:nvPr/>
          </p:nvSpPr>
          <p:spPr>
            <a:xfrm>
              <a:off x="304920" y="2743200"/>
              <a:ext cx="2201760" cy="220968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720" y="3504960"/>
              <a:ext cx="1371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nuity of 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666880" y="1371600"/>
            <a:ext cx="1371600" cy="1447920"/>
            <a:chOff x="2666880" y="1371600"/>
            <a:chExt cx="1371600" cy="1447920"/>
          </a:xfrm>
        </p:grpSpPr>
        <p:sp>
          <p:nvSpPr>
            <p:cNvPr id="325" name=""/>
            <p:cNvSpPr/>
            <p:nvPr/>
          </p:nvSpPr>
          <p:spPr>
            <a:xfrm>
              <a:off x="2666880" y="1371600"/>
              <a:ext cx="1371600" cy="1447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66880" y="16765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naging critical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666880" y="4724280"/>
            <a:ext cx="1371600" cy="1447560"/>
            <a:chOff x="2666880" y="4724280"/>
            <a:chExt cx="1371600" cy="1447560"/>
          </a:xfrm>
        </p:grpSpPr>
        <p:sp>
          <p:nvSpPr>
            <p:cNvPr id="328" name=""/>
            <p:cNvSpPr/>
            <p:nvPr/>
          </p:nvSpPr>
          <p:spPr>
            <a:xfrm>
              <a:off x="2666880" y="4724280"/>
              <a:ext cx="1371600" cy="144756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66880" y="510516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Inter- dependen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048120" y="3124080"/>
            <a:ext cx="1371600" cy="1447560"/>
            <a:chOff x="3048120" y="3124080"/>
            <a:chExt cx="1371600" cy="1447560"/>
          </a:xfrm>
        </p:grpSpPr>
        <p:sp>
          <p:nvSpPr>
            <p:cNvPr id="331" name=""/>
            <p:cNvSpPr/>
            <p:nvPr/>
          </p:nvSpPr>
          <p:spPr>
            <a:xfrm>
              <a:off x="3048120" y="3124080"/>
              <a:ext cx="1371600" cy="144756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048120" y="342864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Critical staffing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V="1">
            <a:off x="2133720" y="2514600"/>
            <a:ext cx="60948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14600" y="3809880"/>
            <a:ext cx="533520" cy="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09680" y="4648320"/>
            <a:ext cx="45720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835200">
            <a:off x="4114440" y="2209680"/>
            <a:ext cx="1146240" cy="381240"/>
          </a:xfrm>
          <a:custGeom>
            <a:avLst/>
            <a:gdLst>
              <a:gd name="textAreaLeft" fmla="*/ 178920 w 1146240"/>
              <a:gd name="textAreaRight" fmla="*/ 1002960 w 1146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57F5-BA92-4432-A0CD-A8B9561EC9E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ity of Oper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38320" y="1447920"/>
            <a:ext cx="2971800" cy="49528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dentify critical functions impacted by 40% absen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sider trimming tasks within critical funct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dentify possible backup resourc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stablish a training &amp; deployment plan for backup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xecute timely training of backups and reassign people as need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04920" y="2743200"/>
            <a:ext cx="2201760" cy="2209680"/>
            <a:chOff x="304920" y="2743200"/>
            <a:chExt cx="2201760" cy="2209680"/>
          </a:xfrm>
        </p:grpSpPr>
        <p:sp>
          <p:nvSpPr>
            <p:cNvPr id="340" name=""/>
            <p:cNvSpPr/>
            <p:nvPr/>
          </p:nvSpPr>
          <p:spPr>
            <a:xfrm>
              <a:off x="304920" y="2743200"/>
              <a:ext cx="2201760" cy="220968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0720" y="3504960"/>
              <a:ext cx="1371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nuity of 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 rot="19470000">
            <a:off x="4267080" y="2971800"/>
            <a:ext cx="1146240" cy="380880"/>
          </a:xfrm>
          <a:custGeom>
            <a:avLst/>
            <a:gdLst>
              <a:gd name="textAreaLeft" fmla="*/ 178920 w 1146240"/>
              <a:gd name="textAreaRight" fmla="*/ 1002960 w 1146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666880" y="1371600"/>
            <a:ext cx="1371600" cy="1447920"/>
            <a:chOff x="2666880" y="1371600"/>
            <a:chExt cx="1371600" cy="1447920"/>
          </a:xfrm>
        </p:grpSpPr>
        <p:sp>
          <p:nvSpPr>
            <p:cNvPr id="344" name=""/>
            <p:cNvSpPr/>
            <p:nvPr/>
          </p:nvSpPr>
          <p:spPr>
            <a:xfrm>
              <a:off x="2666880" y="1371600"/>
              <a:ext cx="1371600" cy="14479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66880" y="16765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ing critical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666880" y="4724280"/>
            <a:ext cx="1371600" cy="1447560"/>
            <a:chOff x="2666880" y="4724280"/>
            <a:chExt cx="1371600" cy="1447560"/>
          </a:xfrm>
        </p:grpSpPr>
        <p:sp>
          <p:nvSpPr>
            <p:cNvPr id="347" name=""/>
            <p:cNvSpPr/>
            <p:nvPr/>
          </p:nvSpPr>
          <p:spPr>
            <a:xfrm>
              <a:off x="2666880" y="4724280"/>
              <a:ext cx="1371600" cy="144756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66880" y="510516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Inter- dependen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048120" y="3124080"/>
            <a:ext cx="1371600" cy="1447560"/>
            <a:chOff x="3048120" y="3124080"/>
            <a:chExt cx="1371600" cy="1447560"/>
          </a:xfrm>
        </p:grpSpPr>
        <p:sp>
          <p:nvSpPr>
            <p:cNvPr id="350" name=""/>
            <p:cNvSpPr/>
            <p:nvPr/>
          </p:nvSpPr>
          <p:spPr>
            <a:xfrm>
              <a:off x="3048120" y="3124080"/>
              <a:ext cx="1371600" cy="1447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48120" y="342864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nage Critical staffing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V="1">
            <a:off x="2133720" y="2514600"/>
            <a:ext cx="60948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14600" y="3809880"/>
            <a:ext cx="533520" cy="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4648320"/>
            <a:ext cx="45720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63D1-9A41-4F18-B0FE-3810BD028F6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ndemic Preparedness Pl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itial step:  Small workgroup fact-finding and recommendation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Key managers (who are also leads for emergency/ continuity of operations planning) begin detailed pandemic preparedness planning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pril 7, 2006:  Meeting for 150 MWRA managers, supervisors and key staff, as well as regulatory agencies (EPA and DEP), DPH, MEMA, City of Boston, MWRA Advisory Board staff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Objective:  communicate a consistent agency-wide message, reality-test initial planning, and kick-off more detailed planning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0ADB-9197-4F99-B35B-A160753DEFD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Do We Expect to be Short of Staff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f 161 functional groups analyzed in the first cut Critical Staffing analysi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9 critical operations functions would be short staff if 40% of the available staff were ab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amples: Operators, key trades crews, key managers, repair crew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1 other less critical groups would also be short staff due to few qualified staff in small group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Further analysis is needed to confirm the extent of the problem and t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Need to identify other potential staff for retraining as back-up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5192-1BCD-4DD5-B992-D7BEB5E3877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ity of Operatio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38320" y="1447560"/>
            <a:ext cx="3124440" cy="48006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dentify critical materials or servic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dentify appropriate procurement strategy and place orders as nec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repare plan for handling/warehousing stockpiled good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view power failure response and communication backup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mplement strategies at correct time to stockpile or find alternative vendor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04920" y="2743200"/>
            <a:ext cx="2201760" cy="2209680"/>
            <a:chOff x="304920" y="2743200"/>
            <a:chExt cx="2201760" cy="2209680"/>
          </a:xfrm>
        </p:grpSpPr>
        <p:sp>
          <p:nvSpPr>
            <p:cNvPr id="360" name=""/>
            <p:cNvSpPr/>
            <p:nvPr/>
          </p:nvSpPr>
          <p:spPr>
            <a:xfrm>
              <a:off x="304920" y="2743200"/>
              <a:ext cx="2201760" cy="220968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0720" y="3504960"/>
              <a:ext cx="1371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nuity of 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 rot="19140600">
            <a:off x="3886200" y="4419720"/>
            <a:ext cx="1224000" cy="38088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666880" y="1371600"/>
            <a:ext cx="1371600" cy="1447920"/>
            <a:chOff x="2666880" y="1371600"/>
            <a:chExt cx="1371600" cy="1447920"/>
          </a:xfrm>
        </p:grpSpPr>
        <p:sp>
          <p:nvSpPr>
            <p:cNvPr id="364" name=""/>
            <p:cNvSpPr/>
            <p:nvPr/>
          </p:nvSpPr>
          <p:spPr>
            <a:xfrm>
              <a:off x="2666880" y="1371600"/>
              <a:ext cx="1371600" cy="14479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66880" y="16765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ing critical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666880" y="4724280"/>
            <a:ext cx="1371600" cy="1447560"/>
            <a:chOff x="2666880" y="4724280"/>
            <a:chExt cx="1371600" cy="1447560"/>
          </a:xfrm>
        </p:grpSpPr>
        <p:sp>
          <p:nvSpPr>
            <p:cNvPr id="367" name=""/>
            <p:cNvSpPr/>
            <p:nvPr/>
          </p:nvSpPr>
          <p:spPr>
            <a:xfrm>
              <a:off x="2666880" y="4724280"/>
              <a:ext cx="1371600" cy="1447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6880" y="510516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nage Inter- dependen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048120" y="3124080"/>
            <a:ext cx="1371600" cy="1447560"/>
            <a:chOff x="3048120" y="3124080"/>
            <a:chExt cx="1371600" cy="1447560"/>
          </a:xfrm>
        </p:grpSpPr>
        <p:sp>
          <p:nvSpPr>
            <p:cNvPr id="370" name=""/>
            <p:cNvSpPr/>
            <p:nvPr/>
          </p:nvSpPr>
          <p:spPr>
            <a:xfrm>
              <a:off x="3048120" y="3124080"/>
              <a:ext cx="1371600" cy="144756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48120" y="342864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Critical staffing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2133720" y="2514600"/>
            <a:ext cx="60948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14600" y="3809880"/>
            <a:ext cx="533520" cy="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4648320"/>
            <a:ext cx="45720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12D1-EF5A-4FD7-AEF1-8FB7DE748B0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ndemic Emergency Action Plan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at do we need to do to put a plan in place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487760" y="2286000"/>
            <a:ext cx="2183040" cy="2209680"/>
          </a:xfrm>
          <a:prstGeom prst="ellipse">
            <a:avLst/>
          </a:prstGeom>
          <a:solidFill>
            <a:srgbClr val="00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973040" y="3048120"/>
            <a:ext cx="136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ity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742480" y="2286000"/>
            <a:ext cx="2182680" cy="2209680"/>
          </a:xfrm>
          <a:prstGeom prst="ellipse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144240" y="3048120"/>
            <a:ext cx="112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of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82360" y="3505320"/>
            <a:ext cx="2181240" cy="2209680"/>
          </a:xfrm>
          <a:prstGeom prst="ellipse">
            <a:avLst/>
          </a:prstGeom>
          <a:solidFill>
            <a:srgbClr val="ffcc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906000" y="4495680"/>
            <a:ext cx="150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P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006D-8E3E-4817-9D81-A023A0907C2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ergency Action Plan Developm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86400" y="1523520"/>
            <a:ext cx="3200400" cy="49532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ome initiatives require costly or high impact chang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asing is necessary to trigger some initiatives only when necessar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590920" y="1447920"/>
            <a:ext cx="1371600" cy="1295280"/>
            <a:chOff x="2590920" y="1447920"/>
            <a:chExt cx="1371600" cy="1295280"/>
          </a:xfrm>
        </p:grpSpPr>
        <p:sp>
          <p:nvSpPr>
            <p:cNvPr id="386" name=""/>
            <p:cNvSpPr/>
            <p:nvPr/>
          </p:nvSpPr>
          <p:spPr>
            <a:xfrm>
              <a:off x="2590920" y="1447920"/>
              <a:ext cx="1371600" cy="1295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90920" y="185832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asing &amp; Trigg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 rot="21210600">
            <a:off x="4110120" y="1674720"/>
            <a:ext cx="1146240" cy="339840"/>
          </a:xfrm>
          <a:custGeom>
            <a:avLst/>
            <a:gdLst>
              <a:gd name="textAreaLeft" fmla="*/ 178920 w 1146240"/>
              <a:gd name="textAreaRight" fmla="*/ 1002960 w 1146240"/>
              <a:gd name="textAreaTop" fmla="*/ 84960 h 339840"/>
              <a:gd name="textAreaBottom" fmla="*/ 254880 h 33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04560" y="2514600"/>
            <a:ext cx="2181240" cy="1976400"/>
            <a:chOff x="304560" y="2514600"/>
            <a:chExt cx="2181240" cy="1976400"/>
          </a:xfrm>
        </p:grpSpPr>
        <p:sp>
          <p:nvSpPr>
            <p:cNvPr id="390" name=""/>
            <p:cNvSpPr/>
            <p:nvPr/>
          </p:nvSpPr>
          <p:spPr>
            <a:xfrm flipH="1">
              <a:off x="304200" y="2514600"/>
              <a:ext cx="2181240" cy="1976400"/>
            </a:xfrm>
            <a:prstGeom prst="ellipse">
              <a:avLst/>
            </a:prstGeom>
            <a:solidFill>
              <a:srgbClr val="ff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688320" y="3265560"/>
              <a:ext cx="150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P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590920" y="4495680"/>
            <a:ext cx="1371600" cy="1295640"/>
            <a:chOff x="2590920" y="4495680"/>
            <a:chExt cx="1371600" cy="1295640"/>
          </a:xfrm>
        </p:grpSpPr>
        <p:sp>
          <p:nvSpPr>
            <p:cNvPr id="393" name=""/>
            <p:cNvSpPr/>
            <p:nvPr/>
          </p:nvSpPr>
          <p:spPr>
            <a:xfrm>
              <a:off x="2590920" y="4495680"/>
              <a:ext cx="1371600" cy="129564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90920" y="490608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AP Issue Resol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971800" y="2971800"/>
            <a:ext cx="1371600" cy="1295280"/>
            <a:chOff x="2971800" y="2971800"/>
            <a:chExt cx="1371600" cy="1295280"/>
          </a:xfrm>
        </p:grpSpPr>
        <p:sp>
          <p:nvSpPr>
            <p:cNvPr id="396" name=""/>
            <p:cNvSpPr/>
            <p:nvPr/>
          </p:nvSpPr>
          <p:spPr>
            <a:xfrm>
              <a:off x="2971800" y="2971800"/>
              <a:ext cx="1371600" cy="129528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71800" y="338220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cid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 flipH="1">
            <a:off x="2362320" y="2666880"/>
            <a:ext cx="380880" cy="27324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438280" y="3657600"/>
            <a:ext cx="533520" cy="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2362320" y="4267080"/>
            <a:ext cx="380880" cy="40968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7CEC-FFBF-4E54-85BA-EDC7985A589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ndemic Response Ph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724280" y="1447920"/>
          <a:ext cx="3886200" cy="4548240"/>
        </p:xfrm>
        <a:graphic>
          <a:graphicData uri="http://schemas.openxmlformats.org/drawingml/2006/table">
            <a:tbl>
              <a:tblPr/>
              <a:tblGrid>
                <a:gridCol w="1774800"/>
                <a:gridCol w="2111400"/>
              </a:tblGrid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Pandemic 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Trigger Mechan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1 Pandemic Al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H5N1 cases are confined to persons directly handling infected bi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2 Pre-Pandem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erson to person transmission is confirmed somewhere in the wor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3 Pandemic Outbr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erson to person transmission is confirmed in the MWRA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4 Maximum Disru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bsentee rates impact critical 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5 Prolonged Reco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Workforce returns to lesser impact leve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"/>
          <p:cNvSpPr/>
          <p:nvPr/>
        </p:nvSpPr>
        <p:spPr>
          <a:xfrm>
            <a:off x="457200" y="1143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are the stages to the Pandemic Respon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666880" y="1905120"/>
            <a:ext cx="2057400" cy="3874320"/>
            <a:chOff x="2666880" y="1905120"/>
            <a:chExt cx="2057400" cy="3874320"/>
          </a:xfrm>
        </p:grpSpPr>
        <p:sp>
          <p:nvSpPr>
            <p:cNvPr id="405" name=""/>
            <p:cNvSpPr/>
            <p:nvPr/>
          </p:nvSpPr>
          <p:spPr>
            <a:xfrm>
              <a:off x="2905200" y="190512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N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905200" y="286236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Some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6880" y="38210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73440" y="4691160"/>
              <a:ext cx="184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6-8 week d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66880" y="5442120"/>
              <a:ext cx="197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Following mont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37000" y="2347920"/>
              <a:ext cx="317520" cy="368280"/>
            </a:xfrm>
            <a:prstGeom prst="downArrow">
              <a:avLst>
                <a:gd name="adj1" fmla="val 50000"/>
                <a:gd name="adj2" fmla="val 2899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37000" y="3232080"/>
              <a:ext cx="317520" cy="368280"/>
            </a:xfrm>
            <a:prstGeom prst="downArrow">
              <a:avLst>
                <a:gd name="adj1" fmla="val 50000"/>
                <a:gd name="adj2" fmla="val 2899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37000" y="4189320"/>
              <a:ext cx="317520" cy="368280"/>
            </a:xfrm>
            <a:prstGeom prst="downArrow">
              <a:avLst>
                <a:gd name="adj1" fmla="val 50000"/>
                <a:gd name="adj2" fmla="val 2899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37000" y="5073480"/>
              <a:ext cx="317520" cy="368640"/>
            </a:xfrm>
            <a:prstGeom prst="downArrow">
              <a:avLst>
                <a:gd name="adj1" fmla="val 50000"/>
                <a:gd name="adj2" fmla="val 29025"/>
              </a:avLst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533520" y="6172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Need to plan now and be ready to implement respons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209680"/>
            <a:ext cx="251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We may have anywhere from days to years to do the planning and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F43A-00B5-4925-A638-18F04FCE552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ndemic Response Strategic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576680" y="1447920"/>
          <a:ext cx="4114800" cy="4952520"/>
        </p:xfrm>
        <a:graphic>
          <a:graphicData uri="http://schemas.openxmlformats.org/drawingml/2006/table">
            <a:tbl>
              <a:tblPr/>
              <a:tblGrid>
                <a:gridCol w="1752480"/>
                <a:gridCol w="2362320"/>
              </a:tblGrid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Pandemic 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Trigger Mechan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1 Pandemic Al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H5N1 cases are confined to persons directly handling infected bi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2 Pre-Pandem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erson to person transmission is confirmed somewhere in the wor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3 Pandemic Outbre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erson to person transmission is confirmed in the MWRA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4 Maximum Disru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Absentee rates impact critical 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hase 5 Prolonged Reco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Workforce returns to lesser impact leve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90080" y="1246320"/>
            <a:ext cx="2667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trategy by 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Phase 1 – Aggressive planning and prepar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Phase 2 – Start costly or higher impact step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Stockpil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Retrain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Phase 3 - Start 24/7 EO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Track issues and respo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Phase 4 - Manage operations with limited staff and resour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Phase 5 - Manage return to normal and watch for 2</a:t>
            </a:r>
            <a:r>
              <a:rPr b="1" i="1" lang="en-US" sz="1400" spc="-1" strike="noStrike" baseline="30000">
                <a:solidFill>
                  <a:srgbClr val="000099"/>
                </a:solidFill>
                <a:latin typeface="Arial"/>
              </a:rPr>
              <a:t>nd</a:t>
            </a: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 wav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709720" y="1905120"/>
            <a:ext cx="2057400" cy="4234680"/>
            <a:chOff x="2709720" y="1905120"/>
            <a:chExt cx="2057400" cy="4234680"/>
          </a:xfrm>
        </p:grpSpPr>
        <p:sp>
          <p:nvSpPr>
            <p:cNvPr id="420" name=""/>
            <p:cNvSpPr/>
            <p:nvPr/>
          </p:nvSpPr>
          <p:spPr>
            <a:xfrm>
              <a:off x="2948040" y="190512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N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48040" y="296064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Some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09720" y="401652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44640" y="4991040"/>
              <a:ext cx="191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6-8 week d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09720" y="5802480"/>
              <a:ext cx="197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Following Mont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79840" y="2392200"/>
              <a:ext cx="317520" cy="406440"/>
            </a:xfrm>
            <a:prstGeom prst="downArrow">
              <a:avLst>
                <a:gd name="adj1" fmla="val 50000"/>
                <a:gd name="adj2" fmla="val 32001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79840" y="3367080"/>
              <a:ext cx="317520" cy="405000"/>
            </a:xfrm>
            <a:prstGeom prst="downArrow">
              <a:avLst>
                <a:gd name="adj1" fmla="val 50000"/>
                <a:gd name="adj2" fmla="val 31888"/>
              </a:avLst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79840" y="4421160"/>
              <a:ext cx="317520" cy="406440"/>
            </a:xfrm>
            <a:prstGeom prst="downArrow">
              <a:avLst>
                <a:gd name="adj1" fmla="val 50000"/>
                <a:gd name="adj2" fmla="val 32001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79840" y="5396040"/>
              <a:ext cx="317520" cy="406440"/>
            </a:xfrm>
            <a:prstGeom prst="downArrow">
              <a:avLst>
                <a:gd name="adj1" fmla="val 50000"/>
                <a:gd name="adj2" fmla="val 32001"/>
              </a:avLst>
            </a:prstGeom>
            <a:solidFill>
              <a:srgbClr val="cc00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83DD-3A95-403A-9D6C-A20FEB3026E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ergency Action Plan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486400" y="1523520"/>
            <a:ext cx="3200400" cy="49532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velop tiered Communication Pla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utside (Communities, DCR, public, etc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side (Mgrs/Spvrs, staff, etc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Q&amp;A, rumor contro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velop EOC staffing pla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ink to MEMA, DPH, others for external resource iss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velop tracking tools for critical staffing and critical resour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rack initiative progre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anage the incid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590920" y="1447920"/>
            <a:ext cx="1371600" cy="1447560"/>
            <a:chOff x="2590920" y="1447920"/>
            <a:chExt cx="1371600" cy="1447560"/>
          </a:xfrm>
        </p:grpSpPr>
        <p:sp>
          <p:nvSpPr>
            <p:cNvPr id="432" name=""/>
            <p:cNvSpPr/>
            <p:nvPr/>
          </p:nvSpPr>
          <p:spPr>
            <a:xfrm>
              <a:off x="2590920" y="1447920"/>
              <a:ext cx="1371600" cy="1447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90920" y="190476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asing &amp; Trigg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 rot="19588200">
            <a:off x="4114800" y="2666520"/>
            <a:ext cx="1146240" cy="381240"/>
          </a:xfrm>
          <a:custGeom>
            <a:avLst/>
            <a:gdLst>
              <a:gd name="textAreaLeft" fmla="*/ 178920 w 1146240"/>
              <a:gd name="textAreaRight" fmla="*/ 1002960 w 1146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304560" y="2514600"/>
            <a:ext cx="2181240" cy="2209680"/>
            <a:chOff x="304560" y="2514600"/>
            <a:chExt cx="2181240" cy="2209680"/>
          </a:xfrm>
        </p:grpSpPr>
        <p:sp>
          <p:nvSpPr>
            <p:cNvPr id="436" name=""/>
            <p:cNvSpPr/>
            <p:nvPr/>
          </p:nvSpPr>
          <p:spPr>
            <a:xfrm flipH="1">
              <a:off x="304200" y="2514600"/>
              <a:ext cx="2181240" cy="2209680"/>
            </a:xfrm>
            <a:prstGeom prst="ellipse">
              <a:avLst/>
            </a:prstGeom>
            <a:solidFill>
              <a:srgbClr val="ff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685080" y="3352680"/>
              <a:ext cx="150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P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4495680"/>
            <a:ext cx="1371600" cy="1447920"/>
            <a:chOff x="2590920" y="4495680"/>
            <a:chExt cx="1371600" cy="1447920"/>
          </a:xfrm>
        </p:grpSpPr>
        <p:sp>
          <p:nvSpPr>
            <p:cNvPr id="439" name=""/>
            <p:cNvSpPr/>
            <p:nvPr/>
          </p:nvSpPr>
          <p:spPr>
            <a:xfrm>
              <a:off x="2590920" y="4495680"/>
              <a:ext cx="1371600" cy="14479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90920" y="495288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AP Issue Resol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971800" y="2971800"/>
            <a:ext cx="1371600" cy="1447920"/>
            <a:chOff x="2971800" y="2971800"/>
            <a:chExt cx="1371600" cy="1447920"/>
          </a:xfrm>
        </p:grpSpPr>
        <p:sp>
          <p:nvSpPr>
            <p:cNvPr id="442" name=""/>
            <p:cNvSpPr/>
            <p:nvPr/>
          </p:nvSpPr>
          <p:spPr>
            <a:xfrm>
              <a:off x="2971800" y="2971800"/>
              <a:ext cx="1371600" cy="1447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71800" y="342900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id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 flipH="1">
            <a:off x="2362320" y="2666880"/>
            <a:ext cx="380880" cy="30492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438280" y="3657600"/>
            <a:ext cx="533520" cy="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2362320" y="4267080"/>
            <a:ext cx="38088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FCB5-88DE-451E-9366-BFCD42401DB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ity of Oper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er directive of MA Executive Order 144, a Continuity of Operations/Continuity of Government Plan was submitted to MA Executive Office of Public Safet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Plan included an order of succession which, in the Pandemic scenario, is a critical component of the Emergency Action Pla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DDC6-F67F-4F53-BF79-D3F60458215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ity of Operations - Succ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RDERS OF SUCCES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order of succession in the absence, death, or removal of the Fred Laskey, MWRA Executive Director is as follow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ike Hornbrook, Chief Operating Offic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ick Trubiano, Director of Field Operat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John Vetere, Director of Deer Islan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LEGATIONS OF AUTHORIT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ll authority granted to the Executive Director by the Enabling Act would be transferred to any successo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UBORDINATE ORDERS OF SUCCES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hould any Director or divisional or department managers become disabled, the following orders of succession will app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6294-48B2-47C8-BDFE-AF7DF1772F9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der of Succession – Exam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44520" y="1333080"/>
            <a:ext cx="453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Rick Trubiano, Director of Field Opera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Marcis Kem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Mark Johns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rolyn Fior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John Vetere, Director of Deer Isl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erald Gallinar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aniel O’Brie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Jeff Read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Mark Johnson, Director of Metropolitan Opera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alerie Mora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ul Burrid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t Regnet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Dave Coppes, Director of Western Opera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uy Fo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Brad Palm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Ken Per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49320" y="1333080"/>
            <a:ext cx="4457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Director of Wastewater Collection Opera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Joseph Del Grec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teve Culle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teve Abn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Charlie Button, Deputy Chief Operating Offic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Jae Ki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Kevin O’Brie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Frank DePaol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Dave Gilmartin, Director of Emergency Preparedn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ictor L’Esper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obert Noona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Nicholas DeMatte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(Command of the Emergency Service Units will be assumed by Steve Venuti)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581120" y="6019920"/>
            <a:ext cx="565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For pandemic purposes, this approach must be extended downward to all Critical R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788E-BD67-42DA-8716-5085112BF44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Are We Planning Fo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 Massachusetts alone, over the course of 6 – 8 week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 million people may become il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80,000 people may require hospitaliz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0,000 people may di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gencies should plan for the worst-case scenario, in which up to 40% of the workforce is absent for a two-week period, due to illness or to care for family memb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1840" y="6343560"/>
            <a:ext cx="15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– MA D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72EE-96D6-45BD-831E-EFD52E0FAC8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der of Succession – Examp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44520" y="1333080"/>
            <a:ext cx="453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Kevin Feeley, Managing Direc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Marian Orfe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reg DeFronz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Bob Donnol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Trish Filiponne, Acting Chief Financial Offic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Joe McCan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achel Madde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Mike Ralph, Director of Public Affai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ary Webs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ia Conv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49320" y="1333080"/>
            <a:ext cx="4457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Steve Remsberg, General Counse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Jack Chinia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John Navo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Greg DeFronzo, Director of MI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Ken Carls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ichard Del Prad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Joe Barret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Mahnaz Meh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81120" y="6019920"/>
            <a:ext cx="565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For pandemic purposes, this approach must be extended downward to all Critical R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B620-E293-49E4-A2A3-45E0F4B8BC4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ergency Action Plan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486400" y="1523520"/>
            <a:ext cx="3200400" cy="49532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et input from critical function managers for critical staffing and interdependenci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tinue to resolve policy and technical issu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mplete EA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nitor the situation and implement EAP when necessa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590920" y="1447920"/>
            <a:ext cx="1371600" cy="1447560"/>
            <a:chOff x="2590920" y="1447920"/>
            <a:chExt cx="1371600" cy="1447560"/>
          </a:xfrm>
        </p:grpSpPr>
        <p:sp>
          <p:nvSpPr>
            <p:cNvPr id="462" name=""/>
            <p:cNvSpPr/>
            <p:nvPr/>
          </p:nvSpPr>
          <p:spPr>
            <a:xfrm>
              <a:off x="2590920" y="1447920"/>
              <a:ext cx="1371600" cy="1447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190476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asing &amp; Trigg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 rot="19588200">
            <a:off x="3886200" y="4343040"/>
            <a:ext cx="1146240" cy="380880"/>
          </a:xfrm>
          <a:custGeom>
            <a:avLst/>
            <a:gdLst>
              <a:gd name="textAreaLeft" fmla="*/ 178920 w 1146240"/>
              <a:gd name="textAreaRight" fmla="*/ 1002960 w 1146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304560" y="2514600"/>
            <a:ext cx="2181240" cy="2209680"/>
            <a:chOff x="304560" y="2514600"/>
            <a:chExt cx="2181240" cy="2209680"/>
          </a:xfrm>
        </p:grpSpPr>
        <p:sp>
          <p:nvSpPr>
            <p:cNvPr id="466" name=""/>
            <p:cNvSpPr/>
            <p:nvPr/>
          </p:nvSpPr>
          <p:spPr>
            <a:xfrm flipH="1">
              <a:off x="304200" y="2514600"/>
              <a:ext cx="2181240" cy="2209680"/>
            </a:xfrm>
            <a:prstGeom prst="ellipse">
              <a:avLst/>
            </a:prstGeom>
            <a:solidFill>
              <a:srgbClr val="ff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85080" y="3352680"/>
              <a:ext cx="150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P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590920" y="4495680"/>
            <a:ext cx="1371600" cy="1447920"/>
            <a:chOff x="2590920" y="4495680"/>
            <a:chExt cx="1371600" cy="1447920"/>
          </a:xfrm>
        </p:grpSpPr>
        <p:sp>
          <p:nvSpPr>
            <p:cNvPr id="469" name=""/>
            <p:cNvSpPr/>
            <p:nvPr/>
          </p:nvSpPr>
          <p:spPr>
            <a:xfrm>
              <a:off x="2590920" y="4495680"/>
              <a:ext cx="1371600" cy="1447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90920" y="495288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AP Issue Resol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971800" y="2971800"/>
            <a:ext cx="1371600" cy="1447920"/>
            <a:chOff x="2971800" y="2971800"/>
            <a:chExt cx="1371600" cy="1447920"/>
          </a:xfrm>
        </p:grpSpPr>
        <p:sp>
          <p:nvSpPr>
            <p:cNvPr id="472" name=""/>
            <p:cNvSpPr/>
            <p:nvPr/>
          </p:nvSpPr>
          <p:spPr>
            <a:xfrm>
              <a:off x="2971800" y="2971800"/>
              <a:ext cx="1371600" cy="14479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971800" y="342900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cid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 flipH="1">
            <a:off x="2362320" y="2666880"/>
            <a:ext cx="380880" cy="30492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438280" y="3657600"/>
            <a:ext cx="533520" cy="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2362320" y="4267080"/>
            <a:ext cx="38088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FC06-9084-4515-94D1-EC49B413E8B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ft Emergency Action Plan – Near Term Ste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nitor situa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mplete EAP Phase 1 plan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icipation of critical function manager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ritical function review – What can’t be interrupted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ritical resource review – Who to train and how? - What to stockpile or arrange alternate sources for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nior management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olicy iss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HR strateg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ocurement strateg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perations strateg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ndemic Planning task force investigates technical issues and helps develop health strategi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AP completion and tracking by Emergency Respon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tinuing communication inside and outside MWR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E039-B9CF-413A-9D0B-B2B241F9FD3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term steps to complete EAP - Particip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0880" y="2057400"/>
            <a:ext cx="1600200" cy="319824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plete 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tical staffing &amp; back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tical Goods/ Services/ Alterna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scope training plans for reassigned sta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0880" y="1371600"/>
            <a:ext cx="1600200" cy="520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tical function Manag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57400" y="1371600"/>
            <a:ext cx="1600200" cy="520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demic Committ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1371600"/>
            <a:ext cx="1600200" cy="520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s Manag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2057400"/>
            <a:ext cx="1600200" cy="330948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olicies &amp; read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s prio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ergency/ wet weather strate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hink critical 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power/ comm backup read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57400" y="2057400"/>
            <a:ext cx="1600200" cy="363384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velop p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ian flu Q&amp;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expert help as n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health plans, strategies  &amp; S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develop training p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10080" y="1371600"/>
            <a:ext cx="1600200" cy="520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 Office/ Support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2057400"/>
            <a:ext cx="1600200" cy="24570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 pandemic polic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on brief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pro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ure critical i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86600" y="1371600"/>
            <a:ext cx="1600200" cy="5202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ergency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086600" y="2057400"/>
            <a:ext cx="1600200" cy="2772000"/>
          </a:xfrm>
          <a:prstGeom prst="rect">
            <a:avLst/>
          </a:prstGeom>
          <a:solidFill>
            <a:srgbClr val="99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plete 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&amp; coordinate plan progr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Incident Command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 all sub-plans into 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A5D7-420F-4F6C-BB63-8A17C903B45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326960" y="2139840"/>
            <a:ext cx="64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99"/>
                </a:solidFill>
                <a:latin typeface="Arial"/>
              </a:rPr>
              <a:t>An ounce of preven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Arial"/>
              </a:rPr>
              <a:t>is worth a pound of cure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608080" y="380988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Henry de Brac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07B4-FCBE-49AC-A92F-5DD3D8B4BE2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3B5D-55F3-4E62-A20B-5CB389FFAFBA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ndemic changes in the workpl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at do we need to do to protect staff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743200" y="2286000"/>
            <a:ext cx="3927240" cy="3429000"/>
            <a:chOff x="2743200" y="2286000"/>
            <a:chExt cx="3927240" cy="3429000"/>
          </a:xfrm>
        </p:grpSpPr>
        <p:sp>
          <p:nvSpPr>
            <p:cNvPr id="105" name=""/>
            <p:cNvSpPr/>
            <p:nvPr/>
          </p:nvSpPr>
          <p:spPr>
            <a:xfrm flipH="1">
              <a:off x="4487400" y="2286000"/>
              <a:ext cx="2182680" cy="220968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973040" y="3048120"/>
              <a:ext cx="136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nuity of 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743200" y="2286000"/>
              <a:ext cx="2183040" cy="220968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144960" y="3048120"/>
              <a:ext cx="112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lth of Sta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582360" y="3505320"/>
              <a:ext cx="2181240" cy="2209680"/>
            </a:xfrm>
            <a:prstGeom prst="ellipse">
              <a:avLst/>
            </a:prstGeom>
            <a:solidFill>
              <a:srgbClr val="ff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907080" y="4495680"/>
              <a:ext cx="1506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P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51CA-452C-45A8-8208-E360681299A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focus of Pandemic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43434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tinuity of Operations is critical to essential Public Safety functions (fire protection) and Public Health functions (drinking water quality and management of sewag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lth of staff is critical to Continuity of Operations.  Staff need to have confidence that steps have been taken for safety in the workpl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590920" y="1981080"/>
            <a:ext cx="3961800" cy="2210040"/>
            <a:chOff x="2590920" y="1981080"/>
            <a:chExt cx="3961800" cy="2210040"/>
          </a:xfrm>
        </p:grpSpPr>
        <p:sp>
          <p:nvSpPr>
            <p:cNvPr id="114" name=""/>
            <p:cNvSpPr/>
            <p:nvPr/>
          </p:nvSpPr>
          <p:spPr>
            <a:xfrm>
              <a:off x="2590920" y="1981080"/>
              <a:ext cx="2201760" cy="2210040"/>
            </a:xfrm>
            <a:prstGeom prst="ellipse">
              <a:avLst/>
            </a:prstGeom>
            <a:solidFill>
              <a:srgbClr val="00cc9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06720" y="2743200"/>
              <a:ext cx="1371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inuity of 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51320" y="1981080"/>
              <a:ext cx="2201400" cy="221004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52880" y="2743200"/>
              <a:ext cx="1131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lth of Sta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09480" y="11430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The Pandemic threat is spread person to person and impacts operations by the absence of critical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FE8D-E6D4-4805-B105-0151A7CA88C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Pandemic EAP Initia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39680" y="2514600"/>
            <a:ext cx="2182680" cy="2209680"/>
          </a:xfrm>
          <a:prstGeom prst="ellipse">
            <a:avLst/>
          </a:prstGeom>
          <a:solidFill>
            <a:srgbClr val="00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125320" y="3276720"/>
            <a:ext cx="136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ity of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95480" y="2514600"/>
            <a:ext cx="2183040" cy="2209680"/>
          </a:xfrm>
          <a:prstGeom prst="ellipse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97240" y="3276720"/>
            <a:ext cx="11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of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687320" y="5257800"/>
            <a:ext cx="1360440" cy="1447920"/>
            <a:chOff x="1687320" y="5257800"/>
            <a:chExt cx="1360440" cy="1447920"/>
          </a:xfrm>
        </p:grpSpPr>
        <p:sp>
          <p:nvSpPr>
            <p:cNvPr id="125" name=""/>
            <p:cNvSpPr/>
            <p:nvPr/>
          </p:nvSpPr>
          <p:spPr>
            <a:xfrm flipH="1">
              <a:off x="1686960" y="5257800"/>
              <a:ext cx="1360440" cy="14479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686960" y="5639040"/>
              <a:ext cx="1360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istrative Pandemic Poli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386000" y="1219320"/>
            <a:ext cx="1358640" cy="1447560"/>
            <a:chOff x="1386000" y="1219320"/>
            <a:chExt cx="1358640" cy="1447560"/>
          </a:xfrm>
        </p:grpSpPr>
        <p:sp>
          <p:nvSpPr>
            <p:cNvPr id="128" name=""/>
            <p:cNvSpPr/>
            <p:nvPr/>
          </p:nvSpPr>
          <p:spPr>
            <a:xfrm flipH="1">
              <a:off x="1386000" y="1219320"/>
              <a:ext cx="1358640" cy="144756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386000" y="1523880"/>
              <a:ext cx="1358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cial Distancing strate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05960" y="2590920"/>
            <a:ext cx="1359000" cy="1447560"/>
            <a:chOff x="705960" y="2590920"/>
            <a:chExt cx="1359000" cy="1447560"/>
          </a:xfrm>
        </p:grpSpPr>
        <p:sp>
          <p:nvSpPr>
            <p:cNvPr id="131" name=""/>
            <p:cNvSpPr/>
            <p:nvPr/>
          </p:nvSpPr>
          <p:spPr>
            <a:xfrm flipH="1">
              <a:off x="705600" y="2590920"/>
              <a:ext cx="1359000" cy="144756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05600" y="2895480"/>
              <a:ext cx="1359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Workplace hygi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81200" y="4114800"/>
            <a:ext cx="1360080" cy="1447920"/>
            <a:chOff x="781200" y="4114800"/>
            <a:chExt cx="1360080" cy="1447920"/>
          </a:xfrm>
        </p:grpSpPr>
        <p:sp>
          <p:nvSpPr>
            <p:cNvPr id="134" name=""/>
            <p:cNvSpPr/>
            <p:nvPr/>
          </p:nvSpPr>
          <p:spPr>
            <a:xfrm flipH="1">
              <a:off x="781920" y="4114800"/>
              <a:ext cx="1359000" cy="14479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80840" y="4419720"/>
              <a:ext cx="1359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rkplace Hazard Re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flipH="1" flipV="1">
            <a:off x="2669760" y="2437920"/>
            <a:ext cx="452520" cy="38124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141640" y="3276360"/>
            <a:ext cx="753840" cy="7596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141640" y="4114800"/>
            <a:ext cx="830160" cy="38088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744280" y="4572000"/>
            <a:ext cx="528840" cy="6858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734640" y="3733920"/>
            <a:ext cx="2181240" cy="2209680"/>
          </a:xfrm>
          <a:prstGeom prst="ellipse">
            <a:avLst/>
          </a:prstGeom>
          <a:solidFill>
            <a:srgbClr val="ffcc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059360" y="4724280"/>
            <a:ext cx="150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P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A18B-931E-498A-B30E-1F081570682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of Staff -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486400" y="1523520"/>
            <a:ext cx="3200400" cy="49532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strategies for essential &amp; non- essential sta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strategy for use of satellite facilities, staggered shifts, work at hom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office protocols – minimize need to congregate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supervisory training and implem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nitor staff health and separate sick peop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mplement initiatives when needed to manage the incid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688800">
            <a:off x="4114440" y="1828800"/>
            <a:ext cx="1146240" cy="380880"/>
          </a:xfrm>
          <a:custGeom>
            <a:avLst/>
            <a:gdLst>
              <a:gd name="textAreaLeft" fmla="*/ 178920 w 1146240"/>
              <a:gd name="textAreaRight" fmla="*/ 1002960 w 1146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2438280"/>
            <a:ext cx="2201760" cy="2210040"/>
          </a:xfrm>
          <a:prstGeom prst="ellipse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0160" y="3200400"/>
            <a:ext cx="113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of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438280" y="5410080"/>
            <a:ext cx="1371600" cy="1447920"/>
            <a:chOff x="2438280" y="5410080"/>
            <a:chExt cx="1371600" cy="1447920"/>
          </a:xfrm>
        </p:grpSpPr>
        <p:sp>
          <p:nvSpPr>
            <p:cNvPr id="148" name=""/>
            <p:cNvSpPr/>
            <p:nvPr/>
          </p:nvSpPr>
          <p:spPr>
            <a:xfrm>
              <a:off x="2438280" y="5410080"/>
              <a:ext cx="1371600" cy="14479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7913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istrative Pandemic Poli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514600" y="1066680"/>
            <a:ext cx="1371600" cy="1447920"/>
            <a:chOff x="2514600" y="1066680"/>
            <a:chExt cx="1371600" cy="1447920"/>
          </a:xfrm>
        </p:grpSpPr>
        <p:sp>
          <p:nvSpPr>
            <p:cNvPr id="151" name=""/>
            <p:cNvSpPr/>
            <p:nvPr/>
          </p:nvSpPr>
          <p:spPr>
            <a:xfrm>
              <a:off x="2514600" y="1066680"/>
              <a:ext cx="1371600" cy="144792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14600" y="137160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cial Distancing Strate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895480" y="2514600"/>
            <a:ext cx="1371600" cy="1447560"/>
            <a:chOff x="2895480" y="2514600"/>
            <a:chExt cx="1371600" cy="1447560"/>
          </a:xfrm>
        </p:grpSpPr>
        <p:sp>
          <p:nvSpPr>
            <p:cNvPr id="154" name=""/>
            <p:cNvSpPr/>
            <p:nvPr/>
          </p:nvSpPr>
          <p:spPr>
            <a:xfrm>
              <a:off x="2895480" y="2514600"/>
              <a:ext cx="1371600" cy="144756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5480" y="281916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Workplace hygi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819520" y="3962520"/>
            <a:ext cx="1371600" cy="1447560"/>
            <a:chOff x="2819520" y="3962520"/>
            <a:chExt cx="1371600" cy="1447560"/>
          </a:xfrm>
        </p:grpSpPr>
        <p:sp>
          <p:nvSpPr>
            <p:cNvPr id="157" name=""/>
            <p:cNvSpPr/>
            <p:nvPr/>
          </p:nvSpPr>
          <p:spPr>
            <a:xfrm>
              <a:off x="2819520" y="3962520"/>
              <a:ext cx="1371600" cy="144756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19520" y="426708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rkplace Hazard Re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flipV="1">
            <a:off x="2133720" y="2286000"/>
            <a:ext cx="53316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438280" y="3276360"/>
            <a:ext cx="457200" cy="7596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4114800"/>
            <a:ext cx="533520" cy="2286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4495680"/>
            <a:ext cx="685800" cy="99072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01F9-133D-4959-90E4-4CEF89503DC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of Staff -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38320" y="1447560"/>
            <a:ext cx="2971800" cy="48006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plan for proper workplace hygiene and train all sta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stall signage, dispensers, etc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sanitization plan and waste disposal for common area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istribute PPE and sanitizing product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mplement and enforce polici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0605800">
            <a:off x="4343040" y="2666520"/>
            <a:ext cx="1146240" cy="381240"/>
          </a:xfrm>
          <a:custGeom>
            <a:avLst/>
            <a:gdLst>
              <a:gd name="textAreaLeft" fmla="*/ 178920 w 1146240"/>
              <a:gd name="textAreaRight" fmla="*/ 1002960 w 1146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438280"/>
            <a:ext cx="2201760" cy="2210040"/>
          </a:xfrm>
          <a:prstGeom prst="ellipse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160" y="3200400"/>
            <a:ext cx="113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of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438280" y="5410080"/>
            <a:ext cx="1371600" cy="1447920"/>
            <a:chOff x="2438280" y="5410080"/>
            <a:chExt cx="1371600" cy="1447920"/>
          </a:xfrm>
        </p:grpSpPr>
        <p:sp>
          <p:nvSpPr>
            <p:cNvPr id="169" name=""/>
            <p:cNvSpPr/>
            <p:nvPr/>
          </p:nvSpPr>
          <p:spPr>
            <a:xfrm>
              <a:off x="2438280" y="5410080"/>
              <a:ext cx="1371600" cy="14479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38280" y="57913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istrative Pandemic Poli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514600" y="1066680"/>
            <a:ext cx="1371600" cy="1447920"/>
            <a:chOff x="2514600" y="1066680"/>
            <a:chExt cx="1371600" cy="1447920"/>
          </a:xfrm>
        </p:grpSpPr>
        <p:sp>
          <p:nvSpPr>
            <p:cNvPr id="172" name=""/>
            <p:cNvSpPr/>
            <p:nvPr/>
          </p:nvSpPr>
          <p:spPr>
            <a:xfrm>
              <a:off x="2514600" y="1066680"/>
              <a:ext cx="1371600" cy="14479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137160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ff Separation strate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895480" y="2514600"/>
            <a:ext cx="1371600" cy="1447560"/>
            <a:chOff x="2895480" y="2514600"/>
            <a:chExt cx="1371600" cy="1447560"/>
          </a:xfrm>
        </p:grpSpPr>
        <p:sp>
          <p:nvSpPr>
            <p:cNvPr id="175" name=""/>
            <p:cNvSpPr/>
            <p:nvPr/>
          </p:nvSpPr>
          <p:spPr>
            <a:xfrm>
              <a:off x="2895480" y="2514600"/>
              <a:ext cx="1371600" cy="144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5480" y="281916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nage Workplace hygi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819520" y="3962520"/>
            <a:ext cx="1371600" cy="1447560"/>
            <a:chOff x="2819520" y="3962520"/>
            <a:chExt cx="1371600" cy="1447560"/>
          </a:xfrm>
        </p:grpSpPr>
        <p:sp>
          <p:nvSpPr>
            <p:cNvPr id="178" name=""/>
            <p:cNvSpPr/>
            <p:nvPr/>
          </p:nvSpPr>
          <p:spPr>
            <a:xfrm>
              <a:off x="2819520" y="3962520"/>
              <a:ext cx="1371600" cy="144756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9520" y="426708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rkplace Hazard Re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V="1">
            <a:off x="2133720" y="2286000"/>
            <a:ext cx="53316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38280" y="3276360"/>
            <a:ext cx="457200" cy="7596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4114800"/>
            <a:ext cx="533520" cy="2286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5680"/>
            <a:ext cx="685800" cy="99072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1903-4327-4A1A-A41E-E211F81B172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of Staff -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38320" y="1447560"/>
            <a:ext cx="2971800" cy="48006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itiativ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rd/animal S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view hazardous work task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PPE pla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view HVAC and other physical systems as necessa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plan for medical consulta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velop plan for distribution of medicat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Implement when need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9470000">
            <a:off x="4191120" y="3733560"/>
            <a:ext cx="1145880" cy="380880"/>
          </a:xfrm>
          <a:custGeom>
            <a:avLst/>
            <a:gdLst>
              <a:gd name="textAreaLeft" fmla="*/ 178920 w 1145880"/>
              <a:gd name="textAreaRight" fmla="*/ 1002960 w 1145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438280"/>
            <a:ext cx="2201760" cy="2210040"/>
          </a:xfrm>
          <a:prstGeom prst="ellipse">
            <a:avLst/>
          </a:prstGeom>
          <a:solidFill>
            <a:srgbClr val="00cc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0160" y="3200400"/>
            <a:ext cx="113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of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38280" y="5410080"/>
            <a:ext cx="1371600" cy="1447920"/>
            <a:chOff x="2438280" y="5410080"/>
            <a:chExt cx="1371600" cy="1447920"/>
          </a:xfrm>
        </p:grpSpPr>
        <p:sp>
          <p:nvSpPr>
            <p:cNvPr id="190" name=""/>
            <p:cNvSpPr/>
            <p:nvPr/>
          </p:nvSpPr>
          <p:spPr>
            <a:xfrm>
              <a:off x="2438280" y="5410080"/>
              <a:ext cx="1371600" cy="14479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38280" y="57913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ministrative Pandemic Poli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514600" y="1066680"/>
            <a:ext cx="1371600" cy="1447920"/>
            <a:chOff x="2514600" y="1066680"/>
            <a:chExt cx="1371600" cy="1447920"/>
          </a:xfrm>
        </p:grpSpPr>
        <p:sp>
          <p:nvSpPr>
            <p:cNvPr id="193" name=""/>
            <p:cNvSpPr/>
            <p:nvPr/>
          </p:nvSpPr>
          <p:spPr>
            <a:xfrm>
              <a:off x="2514600" y="1066680"/>
              <a:ext cx="1371600" cy="144792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14600" y="137160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ff Separation strate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895480" y="2514600"/>
            <a:ext cx="1371600" cy="1447560"/>
            <a:chOff x="2895480" y="2514600"/>
            <a:chExt cx="1371600" cy="1447560"/>
          </a:xfrm>
        </p:grpSpPr>
        <p:sp>
          <p:nvSpPr>
            <p:cNvPr id="196" name=""/>
            <p:cNvSpPr/>
            <p:nvPr/>
          </p:nvSpPr>
          <p:spPr>
            <a:xfrm>
              <a:off x="2895480" y="2514600"/>
              <a:ext cx="1371600" cy="1447560"/>
            </a:xfrm>
            <a:prstGeom prst="ellipse">
              <a:avLst/>
            </a:prstGeom>
            <a:solidFill>
              <a:srgbClr val="00ccff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95480" y="281916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 Workplace hygi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819520" y="3962520"/>
            <a:ext cx="1371600" cy="1447560"/>
            <a:chOff x="2819520" y="3962520"/>
            <a:chExt cx="1371600" cy="1447560"/>
          </a:xfrm>
        </p:grpSpPr>
        <p:sp>
          <p:nvSpPr>
            <p:cNvPr id="199" name=""/>
            <p:cNvSpPr/>
            <p:nvPr/>
          </p:nvSpPr>
          <p:spPr>
            <a:xfrm>
              <a:off x="2819520" y="3962520"/>
              <a:ext cx="1371600" cy="144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19520" y="426708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orkplace Hazard Re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V="1">
            <a:off x="2133720" y="2286000"/>
            <a:ext cx="533160" cy="4572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438280" y="3276360"/>
            <a:ext cx="457200" cy="7596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114800"/>
            <a:ext cx="533520" cy="22860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5120" y="4495680"/>
            <a:ext cx="685800" cy="990720"/>
          </a:xfrm>
          <a:prstGeom prst="line">
            <a:avLst/>
          </a:prstGeom>
          <a:ln w="63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8183-9A99-47AB-A2B3-246C287AD03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3:57:36Z</dcterms:created>
  <dc:creator>MWRA</dc:creator>
  <dc:description/>
  <dc:language>en-US</dc:language>
  <cp:lastModifiedBy>Ria Convery</cp:lastModifiedBy>
  <cp:lastPrinted>2002-04-19T13:55:41Z</cp:lastPrinted>
  <dcterms:modified xsi:type="dcterms:W3CDTF">2006-04-28T19:59:26Z</dcterms:modified>
  <cp:revision>292</cp:revision>
  <dc:subject/>
  <dc:title>Presentation to Massachusetts Clean Water Council Steering Committee  MWRA PROJECT FOCUS</dc:title>
</cp:coreProperties>
</file>