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32.wmf" ContentType="image/x-wmf"/>
  <Override PartName="/ppt/media/image20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34.wmf" ContentType="image/x-wmf"/>
  <Override PartName="/ppt/media/image33.wmf" ContentType="image/x-wmf"/>
  <Override PartName="/ppt/media/image36.png" ContentType="image/png"/>
  <Override PartName="/ppt/media/image18.jpeg" ContentType="image/jpeg"/>
  <Override PartName="/ppt/media/image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image29.wmf" ContentType="image/x-wmf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E4A62F-1A81-4D91-8557-4697CA15B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Aftern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to thank you for this invitation as it is topic for which we should all be interes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S has overall responsibility to integrate responses addre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ity of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 of 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ity of essential busines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a pandemic hits our shores, it will affect almost every sector of our society, not just health care, but transportation systems, workplaces, schools, public safety and more. It will require a coordinated government-wide response, including federal, state and local governments, and it will require the private sector and all of us as individuals to be read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arks of HHS Secretary Michael Leavitt on “Avian Flu,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National Infrastructure Protection Plan, 13 sectors were identified that are crucial to the production and provision of essential goods and services to the American population.  These sectors contribute to a strong national defense and a robust econom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t wages and produ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from $167 Billion to $675 B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9DE-28D1-4EEE-8012-FBC033E9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20D3-2F4B-4D46-B29A-5B794916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D283-D59A-458D-8B69-7333E8FF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E579-D0B1-415D-AB35-9A7BA10F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2160-5618-40AD-BB32-6A8404C7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7660-BD93-47D9-94B2-5AAE9D0A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CB53-C579-46AB-8F07-ACC10D9B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FDEF-B54C-4A39-BBD8-2B7AEBDB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D9BF-7531-41CF-8987-D27A7DC0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62DB-23E6-40DC-8D4C-A3BEF4D5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16CF-6980-47CF-8693-2DE1E056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51C-0130-43D3-983E-1438BD0C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5CCF-6299-4022-AEAD-C921BB28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7A71-6D9E-4269-A7FE-E54FFD06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81C4-2A13-48B9-8EFF-BD115204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C247-5AC5-428D-BADF-3CCCF490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6E17-46F1-4FAC-8FB0-F4D31CEB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28C-A4C3-483D-B4E9-42646D9E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9B9B-9AE8-4CB6-9F54-58769010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C75-DBF9-4F15-B48E-41092569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23C-FFDC-4B08-88D7-7B87A3A0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B998-0045-4A80-AA26-63071490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553-63CA-4196-9F13-F9842E39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EAD-F1AD-43F7-81E6-618ED27E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003B-7EC1-49ED-BE91-C14573A0545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D513-C63B-4C95-BB7D-D5980017CED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hotos.com/en/search/close-up?oid=3679966&amp;a=&amp;pt=&amp;k_mode=all&amp;k_exc=&amp;cid=811B&amp;date=&amp;ct_search=&amp;k_var=&amp;bl=%2Fen%2Fsearch%2Findex%3Ff_h%3D1%26f_i%3D1%26f_o%3D1%26f_v%3D1%26f_b%3D1%26f_c%3D1%26k_mode%3Dall%26big%3D1%26cid%3D811B%26ppage%3D36%26srch%3DSearching...%26first%3D526%26&amp;ofirst=&amp;srch=Y&amp;hoid=a6aa1338346c2d96c4ac14882d90e6dd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photos.com/en/search/close-up?oid=3187121&amp;a=&amp;pt=&amp;k_mode=&amp;k_exc=&amp;cid=8118&amp;date=&amp;ct_search=&amp;k_var=&amp;bl=%2Fen%2Fsearch%2Findex%3Ff_h%3D1%26f_i%3D1%26f_o%3D1%26f_v%3D1%26f_b%3D1%26f_c%3D1%26big%3D1%26cid%3D8118%26ppage%3D2%26srch%3DSearch%26first%3D10%26&amp;ofirst=&amp;srch=Y&amp;hoid=55b8ae90aed98bee13137f04972076a6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photos.com/en/search/close-up?oid=3167738&amp;a=&amp;pt=&amp;k_mode=&amp;k_exc=&amp;cid=8118&amp;date=&amp;ct_search=&amp;k_var=&amp;bl=%2Fen%2Fsearch%2Findex%3Ff_h%3D1%26f_i%3D1%26f_o%3D1%26f_v%3D1%26f_b%3D1%26f_c%3D1%26big%3D1%26cid%3D8118%26ppage%3D28%26srch%3DSearch%26first%3D406%26&amp;ofirst=&amp;srch=Y&amp;hoid=e45379d5c14b5751cb6e513dbb7074ed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photos.com/en/search/close-up?oid=2736033&amp;a=&amp;pt=&amp;k_mode=&amp;k_exc=&amp;cid=8118&amp;date=&amp;ct_search=&amp;k_var=&amp;bl=%2Fen%2Fsearch%2Findex%3Ff_h%3D1%26f_i%3D1%26f_o%3D1%26f_v%3D1%26f_b%3D1%26f_c%3D1%26big%3D1%26cid%3D8118%26ppage%3D8%26srch%3DSearch%26first%3D106%26&amp;ofirst=&amp;srch=Y&amp;hoid=7c759cc034ade073cbdf2bc3f511c15c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www.photos.com/en/search/close-up?oid=3166401&amp;a=&amp;pt=&amp;k_mode=&amp;k_exc=&amp;cid=8118&amp;date=&amp;ct_search=&amp;k_var=&amp;bl=%2Fen%2Fsearch%2Findex%3Ff_h%3D1%26f_i%3D1%26f_o%3D1%26f_v%3D1%26f_b%3D1%26f_c%3D1%26big%3D1%26cid%3D8118%26ppage%3D12%26srch%3DSearch%26first%3D166%26&amp;ofirst=&amp;srch=Y&amp;hoid=c5394b6bbd043e1910cd56f2b0ebe8e1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www.photos.com/en/search/close-up?oid=3680517&amp;a=&amp;pt=&amp;k_mode=&amp;k_exc=&amp;cid=8118&amp;date=&amp;ct_search=&amp;k_var=&amp;bl=%2Fen%2Fsearch%2Findex%3Ff_h%3D1%26f_i%3D1%26f_o%3D1%26f_v%3D1%26f_b%3D1%26f_c%3D1%26big%3D1%26cid%3D8118%26ppage%3D21%26srch%3DSearch%26first%3D301%26&amp;ofirst=&amp;srch=Y&amp;hoid=57310033f94609a25c54e21ce720a609" TargetMode="External"/><Relationship Id="rId12" Type="http://schemas.openxmlformats.org/officeDocument/2006/relationships/image" Target="../media/image12.jpeg"/><Relationship Id="rId13" Type="http://schemas.openxmlformats.org/officeDocument/2006/relationships/hyperlink" Target="http://www.photos.com/en/search/close-up?oid=3668906&amp;a=&amp;pt=&amp;k_mode=&amp;k_exc=&amp;cid=8118&amp;date=&amp;ct_search=&amp;k_var=&amp;bl=%2Fen%2Fsearch%2Findex%3Ff_h%3D1%26f_i%3D1%26f_o%3D1%26f_v%3D1%26f_b%3D1%26f_c%3D1%26big%3D1%26cid%3D8118%26ppage%3D46%26srch%3DSearch%26first%3D676%26&amp;ofirst=&amp;srch=Y&amp;hoid=2995a5cd454c2b440caa2b719740d26b" TargetMode="External"/><Relationship Id="rId14" Type="http://schemas.openxmlformats.org/officeDocument/2006/relationships/image" Target="../media/image13.jpeg"/><Relationship Id="rId15" Type="http://schemas.openxmlformats.org/officeDocument/2006/relationships/hyperlink" Target="http://www.photos.com/en/search/close-up?oid=3693177&amp;a=&amp;pt=&amp;k_mode=all&amp;k_exc=&amp;cid=811K&amp;date=&amp;ct_search=&amp;k_var=&amp;bl=%2Fen%2Fsearch%2Findex%3Ff_h%3D1%26f_i%3D1%26f_o%3D1%26f_v%3D1%26f_b%3D1%26f_c%3D1%26k_mode%3Dall%26big%3D1%26cid%3D811K%26ppage%3D19%26srch%3DSearching...%26first%3D271%26&amp;ofirst=&amp;srch=Y&amp;hoid=eb2cb9a854802221d494a351ed65433b" TargetMode="External"/><Relationship Id="rId16" Type="http://schemas.openxmlformats.org/officeDocument/2006/relationships/image" Target="../media/image14.jpeg"/><Relationship Id="rId17" Type="http://schemas.openxmlformats.org/officeDocument/2006/relationships/hyperlink" Target="http://www.photos.com/en/search/close-up?oid=2816782&amp;a=&amp;pt=&amp;k_mode=all&amp;k_exc=&amp;cid=811K&amp;date=&amp;ct_search=&amp;k_var=&amp;bl=%2Fen%2Fsearch%2Findex%3Ff_h%3D1%26f_i%3D1%26f_o%3D1%26f_v%3D1%26f_b%3D1%26f_c%3D1%26k_mode%3Dall%26big%3D1%26cid%3D811K%26ppage%3D49%26srch%3DSearching...%26first%3D721%26&amp;ofirst=&amp;srch=Y&amp;hoid=ed310edff6314dfd9c1b52c00d1aa5d3" TargetMode="External"/><Relationship Id="rId18" Type="http://schemas.openxmlformats.org/officeDocument/2006/relationships/image" Target="../media/image15.jpeg"/><Relationship Id="rId19" Type="http://schemas.openxmlformats.org/officeDocument/2006/relationships/hyperlink" Target="http://www.photos.com/en/search/close-up?oid=3181972&amp;a=&amp;pt=&amp;k_mode=all&amp;k_exc=&amp;cid=8114&amp;date=&amp;ct_search=&amp;k_var=&amp;bl=%2Fen%2Fsearch%2Findex%3Ff_h%3D1%26f_i%3D1%26f_o%3D1%26f_v%3D1%26f_b%3D1%26f_c%3D1%26k_mode%3Dall%26big%3D1%26cid%3D8114%26ppage%3D15%26srch%3DSearching...%26first%3D211%26&amp;ofirst=&amp;srch=Y&amp;hoid=64955d0f2e88ec5133c9d3a67794c310" TargetMode="External"/><Relationship Id="rId20" Type="http://schemas.openxmlformats.org/officeDocument/2006/relationships/image" Target="../media/image16.jpeg"/><Relationship Id="rId21" Type="http://schemas.openxmlformats.org/officeDocument/2006/relationships/hyperlink" Target="http://www.photos.com/en/search/close-up?oid=4830604&amp;a=&amp;pt=&amp;k_mode=all&amp;k_exc=&amp;cid=811B&amp;date=&amp;ct_search=&amp;k_var=&amp;bl=%2Fen%2Fsearch%2Findex%3Ff_h%3D1%26f_i%3D1%26f_o%3D1%26f_v%3D1%26f_b%3D1%26f_c%3D1%26k_mode%3Dall%26big%3D1%26cid%3D811B%26ppage%3D17%26srch%3DSearching...%26first%3D241%26&amp;ofirst=&amp;srch=Y&amp;hoid=559b43e687ecc6fd7b7c23863eced90a" TargetMode="External"/><Relationship Id="rId22" Type="http://schemas.openxmlformats.org/officeDocument/2006/relationships/image" Target="../media/image17.jpeg"/><Relationship Id="rId23" Type="http://schemas.openxmlformats.org/officeDocument/2006/relationships/hyperlink" Target="http://www.photos.com/en/search/close-up?oid=3645756&amp;a=&amp;pt=&amp;k_mode=all&amp;k_exc=&amp;cid=811B&amp;date=&amp;ct_search=&amp;k_var=&amp;bl=%2Fen%2Fsearch%2Findex%3Ff_h%3D1%26f_i%3D1%26f_o%3D1%26f_v%3D1%26f_b%3D1%26f_c%3D1%26k_mode%3Dall%26big%3D1%26cid%3D811B%26ppage%3D18%26srch%3DSearching...%26first%3D256%26&amp;ofirst=&amp;srch=Y&amp;hoid=ce1463ea5149568c57116cd5a126e80a" TargetMode="External"/><Relationship Id="rId24" Type="http://schemas.openxmlformats.org/officeDocument/2006/relationships/image" Target="../media/image18.jpeg"/><Relationship Id="rId25" Type="http://schemas.openxmlformats.org/officeDocument/2006/relationships/hyperlink" Target="http://www.photos.com/en/search/close-up?oid=4830317&amp;a=&amp;pt=&amp;k_mode=all&amp;k_exc=&amp;cid=811B&amp;date=&amp;ct_search=&amp;k_var=&amp;bl=%2Fen%2Fsearch%2Findex%3Ff_h%3D1%26f_i%3D1%26f_o%3D1%26f_v%3D1%26f_b%3D1%26f_c%3D1%26k_mode%3Dall%26big%3D1%26cid%3D811B%26ppage%3D23%26srch%3DSearching...%26first%3D331%26&amp;ofirst=&amp;srch=Y&amp;hoid=0a9a1651baec58e6e43e2e4fd14367ee" TargetMode="External"/><Relationship Id="rId26" Type="http://schemas.openxmlformats.org/officeDocument/2006/relationships/image" Target="../media/image19.jpeg"/><Relationship Id="rId27" Type="http://schemas.openxmlformats.org/officeDocument/2006/relationships/image" Target="../media/image20.jpeg"/><Relationship Id="rId28" Type="http://schemas.openxmlformats.org/officeDocument/2006/relationships/image" Target="../media/image21.jpeg"/><Relationship Id="rId29" Type="http://schemas.openxmlformats.org/officeDocument/2006/relationships/image" Target="../media/image22.png"/><Relationship Id="rId30" Type="http://schemas.openxmlformats.org/officeDocument/2006/relationships/image" Target="../media/image23.jpeg"/><Relationship Id="rId31" Type="http://schemas.openxmlformats.org/officeDocument/2006/relationships/image" Target="../media/image24.jpeg"/><Relationship Id="rId32" Type="http://schemas.openxmlformats.org/officeDocument/2006/relationships/image" Target="../media/image25.png"/><Relationship Id="rId33" Type="http://schemas.openxmlformats.org/officeDocument/2006/relationships/image" Target="../media/image26.wmf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ndemic Influenza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paredness, Response and Recovery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i="1" lang="en-US" sz="3200" spc="-1" strike="noStrike">
                <a:solidFill>
                  <a:srgbClr val="ff3300"/>
                </a:solidFill>
                <a:latin typeface="Tahoma"/>
              </a:rPr>
              <a:t>National Association of Clean Water Agencies</a:t>
            </a:r>
            <a:br>
              <a:rPr sz="3200"/>
            </a:br>
            <a:r>
              <a:rPr b="0" i="1" lang="en-US" sz="3200" spc="-1" strike="noStrike">
                <a:solidFill>
                  <a:srgbClr val="ff3300"/>
                </a:solidFill>
                <a:latin typeface="Tahoma"/>
              </a:rPr>
              <a:t>May 1, 2006</a:t>
            </a:r>
            <a:br>
              <a:rPr sz="3200"/>
            </a:br>
            <a:r>
              <a:rPr b="0" i="1" lang="en-US" sz="3200" spc="-1" strike="noStrike">
                <a:solidFill>
                  <a:srgbClr val="ff3300"/>
                </a:solidFill>
                <a:latin typeface="Tahoma"/>
              </a:rPr>
              <a:t>Washington, D.C.</a:t>
            </a:r>
            <a:br>
              <a:rPr sz="24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45720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athie McCracken, R.N., M.H.A., FAC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epartment of Homeland Securit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ffice of Infrastructure Protection - Infrastructure Partnerships Divis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frastructure Analy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Healthcare Sect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COP-E Phase One:</a:t>
            </a:r>
            <a:br>
              <a:rPr sz="4000"/>
            </a:br>
            <a:r>
              <a:rPr b="1" lang="en-US" sz="5400" spc="-1" strike="noStrike">
                <a:solidFill>
                  <a:srgbClr val="66ccff"/>
                </a:solidFill>
                <a:latin typeface="Tahoma"/>
              </a:rPr>
              <a:t>Planning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Below are examples of major actions and issues that businesse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should consider during the </a:t>
            </a:r>
            <a:r>
              <a:rPr b="1" lang="en-US" sz="1600" spc="-1" strike="noStrike">
                <a:solidFill>
                  <a:srgbClr val="66ccff"/>
                </a:solidFill>
                <a:latin typeface="Tahoma"/>
              </a:rPr>
              <a:t>Planning Phase:</a:t>
            </a: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ahoma"/>
              </a:rPr>
              <a:t>Essential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Define essential functions, goods, and services under conditions of dramatically worsening conditions and reduced options for the business, community, and nat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ahoma"/>
              </a:rPr>
              <a:t>Worker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ll employees are susceptible, businesses must ensure the 60 percent who are well can sustain essential functions, goods and servi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ahoma"/>
              </a:rPr>
              <a:t>Duration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 6-8 week pandemic wave increases stresses on systems and people requiring focused planning on situational awareness and suppor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ahoma"/>
              </a:rPr>
              <a:t>Dispersion and Support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apid geographic dispersion precludes transferring support to or from impacted are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ahoma"/>
              </a:rPr>
              <a:t>Familie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Keeping essential workers on the job will be substantially dependent on whether their families are protected and supporte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ahoma"/>
              </a:rPr>
              <a:t>Adaptive Us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 business’ functions may have to be adapted to enhance focus on essential goods and servi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86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1F0-E38D-468A-9FB9-065A5F0F47C0}" type="slidenum">
              <a:t>10</a:t>
            </a:fld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COP-E Phase Two:</a:t>
            </a:r>
            <a:br>
              <a:rPr sz="4000"/>
            </a:br>
            <a:r>
              <a:rPr b="1" lang="en-US" sz="5400" spc="-1" strike="noStrike">
                <a:solidFill>
                  <a:srgbClr val="ffff00"/>
                </a:solidFill>
                <a:latin typeface="Tahoma"/>
              </a:rPr>
              <a:t>Preparedness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elow are examples of major actions and issues that businesses shoul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onitor during the</a:t>
            </a: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Preparedness Phas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Share Plan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Business must share their plans with all key players in the community to ensure interlocking plans and action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etworks of Preparednes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Businesses must develop mutual support alliances within the community and region as well as with their business partners  and competitor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Large and Smal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Sustaining the local and national essential services demands both large and small businesses preparedne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2nd/3rd Order Effec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The strength of a pandemic plan will be defined by the weakest link in its supply chain, especially among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nd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order suppliers, distributors, and manufactur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Outsourc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Extensive outsourcing requires businesses to ensure their many support contractors are equally prepared to respond to a pandemi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eople and Stockpil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Prioritize all essential people, material and equipment suppor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82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F4C-DFF0-4C7D-9745-B206B68F0982}" type="slidenum">
              <a:t>11</a:t>
            </a:fld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COP-E Phase Three:</a:t>
            </a:r>
            <a:br>
              <a:rPr sz="4000"/>
            </a:b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Response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Below are examples of major actions and issues that businesse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should manage during the </a:t>
            </a: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Response Phas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isease Containment Strategie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solation, quarantine, social distancing, “snow days,” closing places of assembly and restricted movement will substantially compound impacts on business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Cross-sector Interdependencie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Planning, communicating, and supporting cross-sector partners will be key in a pandemic. Cross sector concerns include Electricity, Telecom, I.T., and Transport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Cascading Effect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he collective impacts on numerous small/large business may cascade into a regional/national emergency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Risk Communications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onsistent, honest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isk communications between a business and its workers, their families, essential business partners, and the community will prove decisiv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Cooperation and Collaboration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Government and businesses cannot go it alone during a pandemic; they must communicate and collaborate at all times to ensure mutual support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18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9BA-F1CD-449E-8C75-7BFDAE492096}" type="slidenum">
              <a:t>12</a:t>
            </a:fld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COP-E Phase Four:</a:t>
            </a:r>
            <a:br>
              <a:rPr sz="4000"/>
            </a:br>
            <a:r>
              <a:rPr b="1" lang="en-US" sz="5400" spc="-1" strike="noStrike">
                <a:solidFill>
                  <a:srgbClr val="00cc00"/>
                </a:solidFill>
                <a:latin typeface="Tahoma"/>
              </a:rPr>
              <a:t>Recovery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Below are examples of major actions and issues that business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should address during the </a:t>
            </a:r>
            <a:r>
              <a:rPr b="1" lang="en-US" sz="1600" spc="-1" strike="noStrike">
                <a:solidFill>
                  <a:srgbClr val="00cc00"/>
                </a:solidFill>
                <a:latin typeface="Tahoma"/>
              </a:rPr>
              <a:t>Recovery Phas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ahoma"/>
              </a:rPr>
              <a:t>Multiple Wave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 pandemic will not end with the first wave, thus businesses must balance their available resources to expedite recovery while preparing for the next pandemic wav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ahoma"/>
              </a:rPr>
              <a:t>Worker/Family Losse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Overcoming the effects from worker and  family illness as well as from lost wages due to providing home health care, “snow days” and worker furloughs will be a significant challeng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ahoma"/>
              </a:rPr>
              <a:t>Workforce Reconstitution and Competition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ompetition for available skilled workers and support services will be intens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ahoma"/>
              </a:rPr>
              <a:t>Government/Community Support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Substantial external support (government and community) may be required for businesses to prepare for the next pandemic wave while recovering from the first wav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ahoma"/>
              </a:rPr>
              <a:t>Inter-Business Support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or a business to recover and thrive, its essential business partner support network must also recover and thriv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ahoma"/>
              </a:rPr>
              <a:t>International Recovery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nternational recovery may lag behind U.S. recovery. International raw material availability, manufacturing, supply chain support, and purchases of U.S. goods may be delay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179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9668-CE06-4AF2-9B0F-8CE7B2C919D7}" type="slidenum">
              <a:t>13</a:t>
            </a:fld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_s1028"/>
          <p:cNvSpPr/>
          <p:nvPr/>
        </p:nvSpPr>
        <p:spPr>
          <a:xfrm>
            <a:off x="4876920" y="1066680"/>
            <a:ext cx="1523880" cy="1447920"/>
          </a:xfrm>
          <a:prstGeom prst="ellipse">
            <a:avLst/>
          </a:prstGeom>
          <a:solidFill>
            <a:srgbClr val="0066ff">
              <a:alpha val="50000"/>
            </a:srgbClr>
          </a:solidFill>
          <a:ln w="4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_s1030"/>
          <p:cNvSpPr/>
          <p:nvPr/>
        </p:nvSpPr>
        <p:spPr>
          <a:xfrm>
            <a:off x="6324480" y="2057400"/>
            <a:ext cx="1676520" cy="1595520"/>
          </a:xfrm>
          <a:prstGeom prst="ellipse">
            <a:avLst/>
          </a:prstGeom>
          <a:solidFill>
            <a:srgbClr val="ffffcc">
              <a:alpha val="50000"/>
            </a:srgbClr>
          </a:solidFill>
          <a:ln w="46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_s1032"/>
          <p:cNvSpPr/>
          <p:nvPr/>
        </p:nvSpPr>
        <p:spPr>
          <a:xfrm>
            <a:off x="5638680" y="2971800"/>
            <a:ext cx="1762200" cy="1676520"/>
          </a:xfrm>
          <a:prstGeom prst="ellipse">
            <a:avLst/>
          </a:prstGeom>
          <a:solidFill>
            <a:srgbClr val="99cc00">
              <a:alpha val="50000"/>
            </a:srgbClr>
          </a:solidFill>
          <a:ln w="4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3657600"/>
            <a:ext cx="1585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Health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_s1036"/>
          <p:cNvSpPr/>
          <p:nvPr/>
        </p:nvSpPr>
        <p:spPr>
          <a:xfrm>
            <a:off x="3886200" y="990720"/>
            <a:ext cx="1457280" cy="1447560"/>
          </a:xfrm>
          <a:prstGeom prst="ellipse">
            <a:avLst/>
          </a:prstGeom>
          <a:solidFill>
            <a:srgbClr val="66ccff">
              <a:alpha val="50000"/>
            </a:srgbClr>
          </a:solidFill>
          <a:ln w="46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2160" y="1573200"/>
            <a:ext cx="1299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Healthc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_s1038"/>
          <p:cNvSpPr/>
          <p:nvPr/>
        </p:nvSpPr>
        <p:spPr>
          <a:xfrm>
            <a:off x="762120" y="1981080"/>
            <a:ext cx="2600280" cy="2508480"/>
          </a:xfrm>
          <a:prstGeom prst="ellipse">
            <a:avLst/>
          </a:prstGeom>
          <a:solidFill>
            <a:srgbClr val="0066ff">
              <a:alpha val="50000"/>
            </a:srgbClr>
          </a:solidFill>
          <a:ln w="4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38760" y="3276720"/>
            <a:ext cx="87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ahoma"/>
              </a:rPr>
              <a:t>Electr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47440" y="320040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ahoma"/>
              </a:rPr>
              <a:t>Sewe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_s1040"/>
          <p:cNvSpPr/>
          <p:nvPr/>
        </p:nvSpPr>
        <p:spPr>
          <a:xfrm>
            <a:off x="2514600" y="2743200"/>
            <a:ext cx="2514600" cy="2514600"/>
          </a:xfrm>
          <a:prstGeom prst="ellipse">
            <a:avLst/>
          </a:prstGeom>
          <a:solidFill>
            <a:srgbClr val="ffffcc">
              <a:alpha val="50000"/>
            </a:srgbClr>
          </a:solidFill>
          <a:ln w="46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_s1042"/>
          <p:cNvSpPr/>
          <p:nvPr/>
        </p:nvSpPr>
        <p:spPr>
          <a:xfrm>
            <a:off x="609480" y="3657600"/>
            <a:ext cx="2676600" cy="2590920"/>
          </a:xfrm>
          <a:prstGeom prst="ellipse">
            <a:avLst/>
          </a:prstGeom>
          <a:solidFill>
            <a:srgbClr val="99cc00">
              <a:alpha val="50000"/>
            </a:srgbClr>
          </a:solidFill>
          <a:ln w="4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_s1041"/>
          <p:cNvSpPr/>
          <p:nvPr/>
        </p:nvSpPr>
        <p:spPr>
          <a:xfrm>
            <a:off x="990720" y="4724280"/>
            <a:ext cx="1839960" cy="45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ealthcar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_s1041"/>
          <p:cNvSpPr/>
          <p:nvPr/>
        </p:nvSpPr>
        <p:spPr>
          <a:xfrm>
            <a:off x="990720" y="2743200"/>
            <a:ext cx="1839960" cy="45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ommunity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6237360"/>
            <a:ext cx="2133720" cy="6206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675800" y="579132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ospit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33720" y="5257800"/>
            <a:ext cx="9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tai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harma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4495680"/>
            <a:ext cx="67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n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9320" y="4191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lood 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42040" y="510552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edical Supp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13480" y="3581280"/>
            <a:ext cx="96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Wholes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81040" y="48769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R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746800" y="426708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423600" y="3276720"/>
            <a:ext cx="132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Transpor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47520" y="350532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Employ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36240" y="297180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Manufactu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68360" y="21337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ahoma"/>
              </a:rPr>
              <a:t>May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71800" y="45720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Me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661200" y="4267080"/>
            <a:ext cx="110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Chamber of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Commer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07520" y="2514600"/>
            <a:ext cx="175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ahoma"/>
              </a:rPr>
              <a:t>City/County Offici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03560" y="3657600"/>
            <a:ext cx="145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ahoma"/>
              </a:rPr>
              <a:t>First Respond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83600" y="22096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ahoma"/>
              </a:rPr>
              <a:t>Publ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56800" y="3124080"/>
            <a:ext cx="6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ahoma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0320" y="449568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borato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_s1036"/>
          <p:cNvSpPr/>
          <p:nvPr/>
        </p:nvSpPr>
        <p:spPr>
          <a:xfrm>
            <a:off x="6858000" y="3200400"/>
            <a:ext cx="1676520" cy="1600200"/>
          </a:xfrm>
          <a:prstGeom prst="ellipse">
            <a:avLst/>
          </a:prstGeom>
          <a:solidFill>
            <a:srgbClr val="66ccff">
              <a:alpha val="50000"/>
            </a:srgbClr>
          </a:solidFill>
          <a:ln w="46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_s1032"/>
          <p:cNvSpPr/>
          <p:nvPr/>
        </p:nvSpPr>
        <p:spPr>
          <a:xfrm>
            <a:off x="4495680" y="228600"/>
            <a:ext cx="1447920" cy="1447920"/>
          </a:xfrm>
          <a:prstGeom prst="ellipse">
            <a:avLst/>
          </a:prstGeom>
          <a:solidFill>
            <a:srgbClr val="99cc00">
              <a:alpha val="50000"/>
            </a:srgbClr>
          </a:solidFill>
          <a:ln w="4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186360" y="5416560"/>
            <a:ext cx="12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LOC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02000" y="4800600"/>
            <a:ext cx="2794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STATE/REG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58160" y="635040"/>
            <a:ext cx="2986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FEDERAL/NATION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66880" y="1447920"/>
            <a:ext cx="4572000" cy="2666880"/>
          </a:xfrm>
          <a:custGeom>
            <a:avLst/>
            <a:gdLst/>
            <a:ahLst/>
            <a:rect l="l" t="t" r="r" b="b"/>
            <a:pathLst>
              <a:path w="2880" h="1680">
                <a:moveTo>
                  <a:pt x="0" y="1680"/>
                </a:moveTo>
                <a:lnTo>
                  <a:pt x="1536" y="0"/>
                </a:lnTo>
                <a:lnTo>
                  <a:pt x="2880" y="1344"/>
                </a:lnTo>
                <a:lnTo>
                  <a:pt x="0" y="168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176600" y="3754440"/>
            <a:ext cx="1185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393600" y="2567160"/>
            <a:ext cx="1617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Gover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88680" y="1725480"/>
            <a:ext cx="1066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Busi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92440" y="685800"/>
            <a:ext cx="1453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Gover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_s1041"/>
          <p:cNvSpPr/>
          <p:nvPr/>
        </p:nvSpPr>
        <p:spPr>
          <a:xfrm>
            <a:off x="3048120" y="3809880"/>
            <a:ext cx="1839960" cy="45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02400" y="304920"/>
            <a:ext cx="72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Presid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64280" y="609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GC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98200" y="91440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Fed Department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90840" y="1109520"/>
            <a:ext cx="73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Red Cros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7040" y="1219320"/>
            <a:ext cx="86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Citizen Corp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54320" y="457200"/>
            <a:ext cx="62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Cabine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1120" y="228600"/>
            <a:ext cx="409140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Pandem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Network </a:t>
            </a:r>
            <a:r>
              <a:rPr b="1" lang="en-US" sz="2600" spc="-1" strike="noStrike">
                <a:solidFill>
                  <a:srgbClr val="ff3300"/>
                </a:solidFill>
                <a:latin typeface="Tahoma"/>
              </a:rPr>
              <a:t>of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 Prepared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122000" y="1143000"/>
            <a:ext cx="41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HH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94720" y="1447920"/>
            <a:ext cx="53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MMR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046040" y="1828800"/>
            <a:ext cx="62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VA-me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50240" y="2133720"/>
            <a:ext cx="73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DOD-me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725080" y="137160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SC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67760" y="1600200"/>
            <a:ext cx="88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US Chamb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9880" y="1981080"/>
            <a:ext cx="53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Medi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31360" y="19810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Trad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Associa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79920" y="53352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DH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64320" y="1295280"/>
            <a:ext cx="52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NDM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7760" y="1905120"/>
            <a:ext cx="49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USD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739560" y="2135160"/>
            <a:ext cx="71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Tahoma"/>
              </a:rPr>
              <a:t>Govern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161480" y="250812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Tahoma"/>
              </a:rPr>
              <a:t>HS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683760" y="2859120"/>
            <a:ext cx="105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Tahoma"/>
              </a:rPr>
              <a:t>National Guar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61280" y="3068640"/>
            <a:ext cx="113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Tahoma"/>
              </a:rPr>
              <a:t>First Responder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536520" y="2341440"/>
            <a:ext cx="102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Tahoma"/>
              </a:rPr>
              <a:t>State Agenci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639840" y="328932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Tahoma"/>
              </a:rPr>
              <a:t>EO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20920" y="1995480"/>
            <a:ext cx="39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S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50520" y="4037040"/>
            <a:ext cx="160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Regional Distribution Ct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093080" y="3627360"/>
            <a:ext cx="1434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Regional Consortium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122600" y="4454640"/>
            <a:ext cx="106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Regional Utilit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63200" y="4245120"/>
            <a:ext cx="122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State Associa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82440" y="326556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Sole sour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Manufactur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68200" y="390384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ahoma"/>
              </a:rPr>
              <a:t>Public Health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889600" y="351324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ahoma"/>
              </a:rPr>
              <a:t>Med Stockpil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970240" y="4087800"/>
            <a:ext cx="986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ahoma"/>
              </a:rPr>
              <a:t>Regional Med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ahoma"/>
              </a:rPr>
              <a:t>Suppor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ahoma"/>
              </a:rPr>
              <a:t>Consortiu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30560" y="318276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ahoma"/>
              </a:rPr>
              <a:t>Tertiar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ahoma"/>
              </a:rPr>
              <a:t>Med Cent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00960" y="3913200"/>
            <a:ext cx="44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ahoma"/>
              </a:rPr>
              <a:t>N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05600" y="34513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ahoma"/>
              </a:rPr>
              <a:t>N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19600" y="472428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1240" y="556272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en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066400" y="41148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067400" y="391176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ublic Heal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12960" y="533412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terin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A6E-3838-4EFC-95A1-37F859E625C2}" type="slidenum">
              <a:t>14</a:t>
            </a:fld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301680" y="0"/>
            <a:ext cx="8593200" cy="687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D44-B83D-4759-899F-A322FD49FCEC}" type="slidenum">
              <a:t>15</a:t>
            </a:fld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8D2-58F0-42E7-BBAD-0691351EBAA2}" type="slidenum">
              <a:t>16</a:t>
            </a:fld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924680" cy="23065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990720" y="3886200"/>
            <a:ext cx="815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thie McCrac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2-282-96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ail:  kathie.mccracken@dhs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Objectives of This Presentation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HS Influenza Pandemic Con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cept of Contingency of Operations-Plan Essential-“COP-E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ndemic Planning:  Preparedness,  Response, and Recov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ailable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748-5ED6-4936-BAA6-1C1BD636625D}" type="slidenum">
              <a:t>2</a:t>
            </a:fld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812880" y="304920"/>
            <a:ext cx="7346520" cy="6095880"/>
            <a:chOff x="812880" y="304920"/>
            <a:chExt cx="7346520" cy="6095880"/>
          </a:xfrm>
        </p:grpSpPr>
        <p:sp>
          <p:nvSpPr>
            <p:cNvPr id="121" name=""/>
            <p:cNvSpPr/>
            <p:nvPr/>
          </p:nvSpPr>
          <p:spPr>
            <a:xfrm>
              <a:off x="3577320" y="3505320"/>
              <a:ext cx="2044440" cy="2884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3589920" y="3505320"/>
              <a:ext cx="202356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164280" y="3429000"/>
              <a:ext cx="1989360" cy="2879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64280" y="304920"/>
              <a:ext cx="1968480" cy="2819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2880" y="3505320"/>
              <a:ext cx="1994040" cy="2890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89920" y="304920"/>
              <a:ext cx="1968480" cy="29019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2880" y="304920"/>
              <a:ext cx="2031840" cy="2895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6164280" y="304920"/>
              <a:ext cx="196848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812880" y="3505320"/>
              <a:ext cx="19951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6164280" y="3429000"/>
              <a:ext cx="19951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>
              <a:off x="812880" y="304920"/>
              <a:ext cx="202356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6"/>
            <a:stretch/>
          </p:blipFill>
          <p:spPr>
            <a:xfrm>
              <a:off x="3589920" y="304920"/>
              <a:ext cx="1965600" cy="290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9B7-AD2F-4F4D-8530-49A7C139620A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DHS Critical Infrastructure Prioriti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sure continuity of operations for critical essential services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aining critical infrastructure operations as “near normal” as possible for social and economic well be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984-BD10-46AE-B69D-09D5D9ADCD11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373392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19051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32120" y="2590920"/>
            <a:ext cx="1049040" cy="1562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38080" y="1523880"/>
            <a:ext cx="142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t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sp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cov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920" y="1163520"/>
            <a:ext cx="408060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0404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ff00"/>
                </a:solidFill>
                <a:uFillTx/>
                <a:latin typeface="Tahoma"/>
              </a:rPr>
              <a:t>Healthcare</a:t>
            </a:r>
            <a:r>
              <a:rPr b="1" lang="en-US" sz="1900" spc="-1" strike="noStrike" u="sng">
                <a:solidFill>
                  <a:srgbClr val="ffff00"/>
                </a:solidFill>
                <a:uFillTx/>
                <a:latin typeface="Arial"/>
              </a:rPr>
              <a:t> &amp; Public Health (HHS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35560" y="1162080"/>
            <a:ext cx="472392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0404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ff00"/>
                </a:solidFill>
                <a:uFillTx/>
                <a:latin typeface="Tahoma"/>
              </a:rPr>
              <a:t>Critical/Essential Infrastructure (DHS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29520" y="1514520"/>
            <a:ext cx="15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sp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ust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cov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95480" y="2819520"/>
            <a:ext cx="1114560" cy="1714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95440" y="2743200"/>
            <a:ext cx="1338120" cy="1638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90720" y="380988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0" y="4267080"/>
            <a:ext cx="1143000" cy="1714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257800" y="2538360"/>
            <a:ext cx="1866960" cy="1255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086600" y="2768760"/>
            <a:ext cx="1676520" cy="1117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486400" y="1752480"/>
            <a:ext cx="1714680" cy="11430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</p:pic>
      <p:pic>
        <p:nvPicPr>
          <p:cNvPr id="149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562720" y="365760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858000" y="4800600"/>
            <a:ext cx="1714680" cy="1114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257800" y="4648320"/>
            <a:ext cx="1714680" cy="1152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7"/>
          <a:stretch/>
        </p:blipFill>
        <p:spPr>
          <a:xfrm>
            <a:off x="5943600" y="563868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8"/>
          <a:stretch/>
        </p:blipFill>
        <p:spPr>
          <a:xfrm>
            <a:off x="8273880" y="4876920"/>
            <a:ext cx="870120" cy="130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3209760" y="923760"/>
            <a:ext cx="1019520" cy="257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00640" y="923760"/>
            <a:ext cx="961920" cy="2286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0"/>
            <a:ext cx="7020000" cy="96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ahoma"/>
              </a:rPr>
              <a:t>Pandemic Preparedness and Response</a:t>
            </a:r>
            <a:br>
              <a:rPr sz="2500"/>
            </a:br>
            <a:r>
              <a:rPr b="1" i="1" lang="en-US" sz="2500" spc="-1" strike="noStrike">
                <a:solidFill>
                  <a:srgbClr val="ff3300"/>
                </a:solidFill>
                <a:latin typeface="Tahoma"/>
              </a:rPr>
              <a:t>Equal Parts…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9"/>
          <a:stretch/>
        </p:blipFill>
        <p:spPr>
          <a:xfrm>
            <a:off x="0" y="6237360"/>
            <a:ext cx="2133720" cy="620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avian flu"/>
          <p:cNvPicPr/>
          <p:nvPr/>
        </p:nvPicPr>
        <p:blipFill>
          <a:blip r:embed="rId30"/>
          <a:stretch/>
        </p:blipFill>
        <p:spPr>
          <a:xfrm>
            <a:off x="2590920" y="40384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1"/>
          <a:stretch/>
        </p:blipFill>
        <p:spPr>
          <a:xfrm>
            <a:off x="2362320" y="5029200"/>
            <a:ext cx="1447560" cy="1434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2"/>
          <a:stretch/>
        </p:blipFill>
        <p:spPr>
          <a:xfrm>
            <a:off x="914400" y="5029200"/>
            <a:ext cx="1828800" cy="1069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3"/>
          <a:stretch/>
        </p:blipFill>
        <p:spPr>
          <a:xfrm>
            <a:off x="7010280" y="5791320"/>
            <a:ext cx="1384560" cy="866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267080" y="1447920"/>
            <a:ext cx="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7E3-F26C-420D-B548-B9811F4F600F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Pandemic Influenza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66"/>
                </a:solidFill>
                <a:latin typeface="Tahoma"/>
              </a:rPr>
              <a:t>Preparedness, Response, and Recovery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            Guide for Critical Infrastructure and Key Resources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Government cannot go it alone. The Private Sector has a key role to play in pandemic preparedness, response, and recovery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With this Guide, DHS supports protecting the nation’s Critical Infrastructure, economic security and social stability from a pandemic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The extreme scale and scope of a pandemic necessitate dedicated effort and investment beyond typical business continuity planning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While the timing and severity remain unknown, a severe worst-case pandemic could have tremendous operational and economic implications, including: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66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66"/>
                </a:solidFill>
                <a:latin typeface="Tahoma"/>
              </a:rPr>
              <a:t>40 Percent or More of Workforce Out Sick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66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66"/>
                </a:solidFill>
                <a:latin typeface="Tahoma"/>
              </a:rPr>
              <a:t>Supply and Delivery Chains Disrupted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66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66"/>
                </a:solidFill>
                <a:latin typeface="Tahoma"/>
              </a:rPr>
              <a:t>Travel Delayed or Halted; Events Canceled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66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66"/>
                </a:solidFill>
                <a:latin typeface="Tahoma"/>
              </a:rPr>
              <a:t>Healthcare System Overwhelmed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66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66"/>
                </a:solidFill>
                <a:latin typeface="Tahoma"/>
              </a:rPr>
              <a:t>Essential  Services Interrupted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62485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" y="6259680"/>
            <a:ext cx="2057400" cy="598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0" t="0" r="0" b="9032"/>
          <a:stretch/>
        </p:blipFill>
        <p:spPr>
          <a:xfrm>
            <a:off x="7561440" y="0"/>
            <a:ext cx="158256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5D1-BC3B-4A5A-896A-772EE18D76D6}" type="slidenum">
              <a:t>6</a:t>
            </a:fld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59120" y="525600"/>
            <a:ext cx="5940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17 Critical Infrastructures &amp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Key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038480" y="4038480"/>
          <a:ext cx="4362480" cy="2297160"/>
        </p:xfrm>
        <a:graphic>
          <a:graphicData uri="http://schemas.openxmlformats.org/drawingml/2006/table">
            <a:tbl>
              <a:tblPr/>
              <a:tblGrid>
                <a:gridCol w="4362480"/>
              </a:tblGrid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Key Observ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1240" indent="-111240">
                        <a:lnSpc>
                          <a:spcPct val="100000"/>
                        </a:lnSpc>
                        <a:buClr>
                          <a:srgbClr val="ffffc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Physical Critical Infrastructure - 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hirteen sectors that provide the production of essential goods and services, interconnectedness and operability, public safety and security that contribute to a strong national defense and thriving econom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1240" indent="-111240">
                        <a:lnSpc>
                          <a:spcPct val="100000"/>
                        </a:lnSpc>
                        <a:buClr>
                          <a:srgbClr val="ffffc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Key Resources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 -  individual privately owned facilities, sites and groups of organized people whose destruction could cause large-scale injury, death, or destruction of property and/or profoundly damage our national prestige and confide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3344400" y="2075040"/>
            <a:ext cx="166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Physical Critical Infrastructu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0040" y="220356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and Key Resourc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46480" y="1992240"/>
            <a:ext cx="1781280" cy="393840"/>
            <a:chOff x="3246480" y="1992240"/>
            <a:chExt cx="1781280" cy="393840"/>
          </a:xfrm>
        </p:grpSpPr>
        <p:sp>
          <p:nvSpPr>
            <p:cNvPr id="173" name=""/>
            <p:cNvSpPr/>
            <p:nvPr/>
          </p:nvSpPr>
          <p:spPr>
            <a:xfrm>
              <a:off x="3265560" y="2009880"/>
              <a:ext cx="1762200" cy="376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46480" y="1992240"/>
              <a:ext cx="1764000" cy="37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46480" y="1992240"/>
              <a:ext cx="1764000" cy="3747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26760" y="2055960"/>
            <a:ext cx="166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hysical Critical Infrastructu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31320" y="218592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 Key Resourc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53240" y="270180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Critical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09960" y="2820960"/>
            <a:ext cx="74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Infrastructu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925640" y="2635200"/>
            <a:ext cx="1009800" cy="341280"/>
            <a:chOff x="1925640" y="2635200"/>
            <a:chExt cx="1009800" cy="341280"/>
          </a:xfrm>
        </p:grpSpPr>
        <p:sp>
          <p:nvSpPr>
            <p:cNvPr id="181" name=""/>
            <p:cNvSpPr/>
            <p:nvPr/>
          </p:nvSpPr>
          <p:spPr>
            <a:xfrm>
              <a:off x="1943280" y="2654280"/>
              <a:ext cx="992160" cy="322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25640" y="2635200"/>
              <a:ext cx="990720" cy="322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25640" y="2635200"/>
              <a:ext cx="990720" cy="3225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235600" y="268452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90880" y="2801880"/>
            <a:ext cx="74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66800" y="2762280"/>
            <a:ext cx="829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Key Resourc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119560" y="2635200"/>
            <a:ext cx="1009440" cy="341280"/>
            <a:chOff x="5119560" y="2635200"/>
            <a:chExt cx="1009440" cy="341280"/>
          </a:xfrm>
        </p:grpSpPr>
        <p:sp>
          <p:nvSpPr>
            <p:cNvPr id="188" name=""/>
            <p:cNvSpPr/>
            <p:nvPr/>
          </p:nvSpPr>
          <p:spPr>
            <a:xfrm>
              <a:off x="5138640" y="2654280"/>
              <a:ext cx="990360" cy="322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19560" y="2635200"/>
              <a:ext cx="992160" cy="322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19560" y="2635200"/>
              <a:ext cx="992160" cy="3225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247720" y="2743200"/>
            <a:ext cx="829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ey Resourc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70200" y="2957400"/>
            <a:ext cx="550800" cy="214560"/>
          </a:xfrm>
          <a:custGeom>
            <a:avLst/>
            <a:gdLst/>
            <a:ahLst/>
            <a:rect l="l" t="t" r="r" b="b"/>
            <a:pathLst>
              <a:path w="347" h="135">
                <a:moveTo>
                  <a:pt x="347" y="0"/>
                </a:moveTo>
                <a:lnTo>
                  <a:pt x="347" y="68"/>
                </a:lnTo>
                <a:lnTo>
                  <a:pt x="0" y="68"/>
                </a:lnTo>
                <a:lnTo>
                  <a:pt x="0" y="135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333600"/>
            <a:ext cx="167040" cy="428760"/>
          </a:xfrm>
          <a:custGeom>
            <a:avLst/>
            <a:gdLst/>
            <a:ahLst/>
            <a:rect l="l" t="t" r="r" b="b"/>
            <a:pathLst>
              <a:path w="105" h="270">
                <a:moveTo>
                  <a:pt x="104" y="0"/>
                </a:moveTo>
                <a:lnTo>
                  <a:pt x="0" y="0"/>
                </a:lnTo>
                <a:lnTo>
                  <a:pt x="0" y="270"/>
                </a:lnTo>
                <a:lnTo>
                  <a:pt x="105" y="270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484280" y="3171960"/>
            <a:ext cx="771480" cy="322200"/>
            <a:chOff x="1484280" y="3171960"/>
            <a:chExt cx="771480" cy="322200"/>
          </a:xfrm>
        </p:grpSpPr>
        <p:sp>
          <p:nvSpPr>
            <p:cNvPr id="195" name=""/>
            <p:cNvSpPr/>
            <p:nvPr/>
          </p:nvSpPr>
          <p:spPr>
            <a:xfrm>
              <a:off x="1484280" y="3171960"/>
              <a:ext cx="77148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84280" y="3171960"/>
              <a:ext cx="77148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696320" y="3220920"/>
            <a:ext cx="3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od &amp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99120" y="333864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484280" y="3544920"/>
            <a:ext cx="771480" cy="417240"/>
            <a:chOff x="1484280" y="3544920"/>
            <a:chExt cx="771480" cy="417240"/>
          </a:xfrm>
        </p:grpSpPr>
        <p:sp>
          <p:nvSpPr>
            <p:cNvPr id="200" name=""/>
            <p:cNvSpPr/>
            <p:nvPr/>
          </p:nvSpPr>
          <p:spPr>
            <a:xfrm>
              <a:off x="1484280" y="3544920"/>
              <a:ext cx="771480" cy="417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84280" y="3544920"/>
              <a:ext cx="771480" cy="4172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670400" y="3591000"/>
            <a:ext cx="45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86520" y="3710160"/>
            <a:ext cx="64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nument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86600" y="382896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amp; Ic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484280" y="4030560"/>
            <a:ext cx="771480" cy="322200"/>
            <a:chOff x="1484280" y="4030560"/>
            <a:chExt cx="771480" cy="322200"/>
          </a:xfrm>
        </p:grpSpPr>
        <p:sp>
          <p:nvSpPr>
            <p:cNvPr id="206" name=""/>
            <p:cNvSpPr/>
            <p:nvPr/>
          </p:nvSpPr>
          <p:spPr>
            <a:xfrm>
              <a:off x="1484280" y="4030560"/>
              <a:ext cx="77148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84280" y="4030560"/>
              <a:ext cx="77148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656000" y="407988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nking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25760" y="419724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amp; Fina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484280" y="4403880"/>
            <a:ext cx="771480" cy="426600"/>
            <a:chOff x="1484280" y="4403880"/>
            <a:chExt cx="771480" cy="426600"/>
          </a:xfrm>
        </p:grpSpPr>
        <p:sp>
          <p:nvSpPr>
            <p:cNvPr id="211" name=""/>
            <p:cNvSpPr/>
            <p:nvPr/>
          </p:nvSpPr>
          <p:spPr>
            <a:xfrm>
              <a:off x="1484280" y="4403880"/>
              <a:ext cx="771480" cy="426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84280" y="4403880"/>
              <a:ext cx="771480" cy="4266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552320" y="4449600"/>
            <a:ext cx="72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emicals &amp;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95160" y="4568760"/>
            <a:ext cx="61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zardous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51680" y="4687920"/>
            <a:ext cx="49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484280" y="4889520"/>
            <a:ext cx="771480" cy="322200"/>
            <a:chOff x="1484280" y="4889520"/>
            <a:chExt cx="771480" cy="322200"/>
          </a:xfrm>
        </p:grpSpPr>
        <p:sp>
          <p:nvSpPr>
            <p:cNvPr id="217" name=""/>
            <p:cNvSpPr/>
            <p:nvPr/>
          </p:nvSpPr>
          <p:spPr>
            <a:xfrm>
              <a:off x="1484280" y="4889520"/>
              <a:ext cx="77148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84280" y="4889520"/>
              <a:ext cx="77148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657440" y="4938840"/>
            <a:ext cx="479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nse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5440" y="5029200"/>
            <a:ext cx="45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85880" y="3171960"/>
            <a:ext cx="842760" cy="322200"/>
            <a:chOff x="2585880" y="3171960"/>
            <a:chExt cx="842760" cy="322200"/>
          </a:xfrm>
        </p:grpSpPr>
        <p:sp>
          <p:nvSpPr>
            <p:cNvPr id="222" name=""/>
            <p:cNvSpPr/>
            <p:nvPr/>
          </p:nvSpPr>
          <p:spPr>
            <a:xfrm>
              <a:off x="2585880" y="3171960"/>
              <a:ext cx="84276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85880" y="3171960"/>
              <a:ext cx="84276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2799360" y="3279600"/>
            <a:ext cx="38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585880" y="3602160"/>
            <a:ext cx="842760" cy="322200"/>
            <a:chOff x="2585880" y="3602160"/>
            <a:chExt cx="842760" cy="322200"/>
          </a:xfrm>
        </p:grpSpPr>
        <p:sp>
          <p:nvSpPr>
            <p:cNvPr id="226" name=""/>
            <p:cNvSpPr/>
            <p:nvPr/>
          </p:nvSpPr>
          <p:spPr>
            <a:xfrm>
              <a:off x="2585880" y="3602160"/>
              <a:ext cx="84276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85880" y="3602160"/>
              <a:ext cx="84276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684160" y="3651120"/>
            <a:ext cx="65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mergency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62280" y="376884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585880" y="4030560"/>
            <a:ext cx="842760" cy="322200"/>
            <a:chOff x="2585880" y="4030560"/>
            <a:chExt cx="842760" cy="322200"/>
          </a:xfrm>
        </p:grpSpPr>
        <p:sp>
          <p:nvSpPr>
            <p:cNvPr id="231" name=""/>
            <p:cNvSpPr/>
            <p:nvPr/>
          </p:nvSpPr>
          <p:spPr>
            <a:xfrm>
              <a:off x="2585880" y="4030560"/>
              <a:ext cx="84276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85880" y="4030560"/>
              <a:ext cx="84276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692440" y="4079880"/>
            <a:ext cx="631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85600" y="4197240"/>
            <a:ext cx="64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585880" y="4460760"/>
            <a:ext cx="842760" cy="322200"/>
            <a:chOff x="2585880" y="4460760"/>
            <a:chExt cx="842760" cy="322200"/>
          </a:xfrm>
        </p:grpSpPr>
        <p:sp>
          <p:nvSpPr>
            <p:cNvPr id="236" name=""/>
            <p:cNvSpPr/>
            <p:nvPr/>
          </p:nvSpPr>
          <p:spPr>
            <a:xfrm>
              <a:off x="2585880" y="4460760"/>
              <a:ext cx="84276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85880" y="4460760"/>
              <a:ext cx="84276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794320" y="450864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-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14360" y="450864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8360" y="4627440"/>
            <a:ext cx="779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munica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585880" y="4889520"/>
            <a:ext cx="842760" cy="322200"/>
            <a:chOff x="2585880" y="4889520"/>
            <a:chExt cx="842760" cy="322200"/>
          </a:xfrm>
        </p:grpSpPr>
        <p:sp>
          <p:nvSpPr>
            <p:cNvPr id="242" name=""/>
            <p:cNvSpPr/>
            <p:nvPr/>
          </p:nvSpPr>
          <p:spPr>
            <a:xfrm>
              <a:off x="2585880" y="4889520"/>
              <a:ext cx="84276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85880" y="4889520"/>
              <a:ext cx="84276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805480" y="49388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stal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2160" y="5056200"/>
            <a:ext cx="60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amp; Shipp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908520" y="3171960"/>
            <a:ext cx="769680" cy="322200"/>
            <a:chOff x="3908520" y="3171960"/>
            <a:chExt cx="769680" cy="322200"/>
          </a:xfrm>
        </p:grpSpPr>
        <p:sp>
          <p:nvSpPr>
            <p:cNvPr id="247" name=""/>
            <p:cNvSpPr/>
            <p:nvPr/>
          </p:nvSpPr>
          <p:spPr>
            <a:xfrm>
              <a:off x="3908520" y="3171960"/>
              <a:ext cx="769680" cy="322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08520" y="3171960"/>
              <a:ext cx="76968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961080" y="320040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76640" y="3338640"/>
            <a:ext cx="492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789440" y="3171960"/>
            <a:ext cx="771480" cy="322200"/>
            <a:chOff x="4789440" y="3171960"/>
            <a:chExt cx="771480" cy="322200"/>
          </a:xfrm>
        </p:grpSpPr>
        <p:sp>
          <p:nvSpPr>
            <p:cNvPr id="252" name=""/>
            <p:cNvSpPr/>
            <p:nvPr/>
          </p:nvSpPr>
          <p:spPr>
            <a:xfrm>
              <a:off x="4789440" y="3171960"/>
              <a:ext cx="771480" cy="322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89440" y="3171960"/>
              <a:ext cx="77148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036040" y="3279600"/>
            <a:ext cx="31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m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670720" y="3171960"/>
            <a:ext cx="771480" cy="322200"/>
            <a:chOff x="5670720" y="3171960"/>
            <a:chExt cx="771480" cy="322200"/>
          </a:xfrm>
        </p:grpSpPr>
        <p:sp>
          <p:nvSpPr>
            <p:cNvPr id="256" name=""/>
            <p:cNvSpPr/>
            <p:nvPr/>
          </p:nvSpPr>
          <p:spPr>
            <a:xfrm>
              <a:off x="5670720" y="3171960"/>
              <a:ext cx="771480" cy="322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70720" y="3171960"/>
              <a:ext cx="77148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751360" y="3220920"/>
            <a:ext cx="689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81600" y="3338640"/>
            <a:ext cx="61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ey Asset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551640" y="3171960"/>
            <a:ext cx="839520" cy="322200"/>
            <a:chOff x="6551640" y="3171960"/>
            <a:chExt cx="839520" cy="322200"/>
          </a:xfrm>
        </p:grpSpPr>
        <p:sp>
          <p:nvSpPr>
            <p:cNvPr id="261" name=""/>
            <p:cNvSpPr/>
            <p:nvPr/>
          </p:nvSpPr>
          <p:spPr>
            <a:xfrm>
              <a:off x="6551640" y="3171960"/>
              <a:ext cx="839520" cy="322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51640" y="3171960"/>
              <a:ext cx="83952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737760" y="3220920"/>
            <a:ext cx="45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uclear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0400" y="3338640"/>
            <a:ext cx="720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wer Plant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484280" y="5319720"/>
            <a:ext cx="771480" cy="322200"/>
            <a:chOff x="1484280" y="5319720"/>
            <a:chExt cx="771480" cy="322200"/>
          </a:xfrm>
        </p:grpSpPr>
        <p:sp>
          <p:nvSpPr>
            <p:cNvPr id="266" name=""/>
            <p:cNvSpPr/>
            <p:nvPr/>
          </p:nvSpPr>
          <p:spPr>
            <a:xfrm>
              <a:off x="1484280" y="5319720"/>
              <a:ext cx="77148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84280" y="5319720"/>
              <a:ext cx="77148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729800" y="5427720"/>
            <a:ext cx="3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585880" y="5319720"/>
            <a:ext cx="842760" cy="322200"/>
            <a:chOff x="2585880" y="5319720"/>
            <a:chExt cx="842760" cy="322200"/>
          </a:xfrm>
        </p:grpSpPr>
        <p:sp>
          <p:nvSpPr>
            <p:cNvPr id="270" name=""/>
            <p:cNvSpPr/>
            <p:nvPr/>
          </p:nvSpPr>
          <p:spPr>
            <a:xfrm>
              <a:off x="2585880" y="5319720"/>
              <a:ext cx="84276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85880" y="5319720"/>
              <a:ext cx="84276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589120" y="5410080"/>
            <a:ext cx="810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19040" y="3762360"/>
            <a:ext cx="167040" cy="430200"/>
          </a:xfrm>
          <a:custGeom>
            <a:avLst/>
            <a:gdLst/>
            <a:ahLst/>
            <a:rect l="l" t="t" r="r" b="b"/>
            <a:pathLst>
              <a:path w="105" h="271">
                <a:moveTo>
                  <a:pt x="104" y="0"/>
                </a:moveTo>
                <a:lnTo>
                  <a:pt x="0" y="0"/>
                </a:lnTo>
                <a:lnTo>
                  <a:pt x="0" y="271"/>
                </a:lnTo>
                <a:lnTo>
                  <a:pt x="105" y="271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19040" y="4192560"/>
            <a:ext cx="167040" cy="428760"/>
          </a:xfrm>
          <a:custGeom>
            <a:avLst/>
            <a:gdLst/>
            <a:ahLst/>
            <a:rect l="l" t="t" r="r" b="b"/>
            <a:pathLst>
              <a:path w="105" h="270">
                <a:moveTo>
                  <a:pt x="104" y="0"/>
                </a:moveTo>
                <a:lnTo>
                  <a:pt x="0" y="0"/>
                </a:lnTo>
                <a:lnTo>
                  <a:pt x="0" y="270"/>
                </a:lnTo>
                <a:lnTo>
                  <a:pt x="105" y="270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19040" y="4621320"/>
            <a:ext cx="167040" cy="430200"/>
          </a:xfrm>
          <a:custGeom>
            <a:avLst/>
            <a:gdLst/>
            <a:ahLst/>
            <a:rect l="l" t="t" r="r" b="b"/>
            <a:pathLst>
              <a:path w="105" h="271">
                <a:moveTo>
                  <a:pt x="104" y="0"/>
                </a:moveTo>
                <a:lnTo>
                  <a:pt x="0" y="0"/>
                </a:lnTo>
                <a:lnTo>
                  <a:pt x="0" y="271"/>
                </a:lnTo>
                <a:lnTo>
                  <a:pt x="105" y="271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19040" y="5051520"/>
            <a:ext cx="167040" cy="428400"/>
          </a:xfrm>
          <a:custGeom>
            <a:avLst/>
            <a:gdLst/>
            <a:ahLst/>
            <a:rect l="l" t="t" r="r" b="b"/>
            <a:pathLst>
              <a:path w="105" h="270">
                <a:moveTo>
                  <a:pt x="104" y="0"/>
                </a:moveTo>
                <a:lnTo>
                  <a:pt x="0" y="0"/>
                </a:lnTo>
                <a:lnTo>
                  <a:pt x="0" y="270"/>
                </a:lnTo>
                <a:lnTo>
                  <a:pt x="105" y="270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21000" y="2957400"/>
            <a:ext cx="550800" cy="214560"/>
          </a:xfrm>
          <a:custGeom>
            <a:avLst/>
            <a:gdLst/>
            <a:ahLst/>
            <a:rect l="l" t="t" r="r" b="b"/>
            <a:pathLst>
              <a:path w="347" h="135">
                <a:moveTo>
                  <a:pt x="0" y="0"/>
                </a:moveTo>
                <a:lnTo>
                  <a:pt x="0" y="68"/>
                </a:lnTo>
                <a:lnTo>
                  <a:pt x="347" y="68"/>
                </a:lnTo>
                <a:lnTo>
                  <a:pt x="347" y="135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21000" y="3333600"/>
            <a:ext cx="166680" cy="428760"/>
          </a:xfrm>
          <a:custGeom>
            <a:avLst/>
            <a:gdLst/>
            <a:ahLst/>
            <a:rect l="l" t="t" r="r" b="b"/>
            <a:pathLst>
              <a:path w="105" h="270">
                <a:moveTo>
                  <a:pt x="104" y="0"/>
                </a:moveTo>
                <a:lnTo>
                  <a:pt x="0" y="0"/>
                </a:lnTo>
                <a:lnTo>
                  <a:pt x="0" y="270"/>
                </a:lnTo>
                <a:lnTo>
                  <a:pt x="105" y="270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21000" y="3762360"/>
            <a:ext cx="166680" cy="430200"/>
          </a:xfrm>
          <a:custGeom>
            <a:avLst/>
            <a:gdLst/>
            <a:ahLst/>
            <a:rect l="l" t="t" r="r" b="b"/>
            <a:pathLst>
              <a:path w="105" h="271">
                <a:moveTo>
                  <a:pt x="104" y="0"/>
                </a:moveTo>
                <a:lnTo>
                  <a:pt x="0" y="0"/>
                </a:lnTo>
                <a:lnTo>
                  <a:pt x="0" y="271"/>
                </a:lnTo>
                <a:lnTo>
                  <a:pt x="105" y="271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21000" y="4192560"/>
            <a:ext cx="166680" cy="428760"/>
          </a:xfrm>
          <a:custGeom>
            <a:avLst/>
            <a:gdLst/>
            <a:ahLst/>
            <a:rect l="l" t="t" r="r" b="b"/>
            <a:pathLst>
              <a:path w="105" h="270">
                <a:moveTo>
                  <a:pt x="104" y="0"/>
                </a:moveTo>
                <a:lnTo>
                  <a:pt x="0" y="0"/>
                </a:lnTo>
                <a:lnTo>
                  <a:pt x="0" y="270"/>
                </a:lnTo>
                <a:lnTo>
                  <a:pt x="105" y="270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21000" y="4621320"/>
            <a:ext cx="166680" cy="430200"/>
          </a:xfrm>
          <a:custGeom>
            <a:avLst/>
            <a:gdLst/>
            <a:ahLst/>
            <a:rect l="l" t="t" r="r" b="b"/>
            <a:pathLst>
              <a:path w="105" h="271">
                <a:moveTo>
                  <a:pt x="104" y="0"/>
                </a:moveTo>
                <a:lnTo>
                  <a:pt x="0" y="0"/>
                </a:lnTo>
                <a:lnTo>
                  <a:pt x="0" y="271"/>
                </a:lnTo>
                <a:lnTo>
                  <a:pt x="105" y="271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21000" y="5051520"/>
            <a:ext cx="166680" cy="428400"/>
          </a:xfrm>
          <a:custGeom>
            <a:avLst/>
            <a:gdLst/>
            <a:ahLst/>
            <a:rect l="l" t="t" r="r" b="b"/>
            <a:pathLst>
              <a:path w="105" h="270">
                <a:moveTo>
                  <a:pt x="104" y="0"/>
                </a:moveTo>
                <a:lnTo>
                  <a:pt x="0" y="0"/>
                </a:lnTo>
                <a:lnTo>
                  <a:pt x="0" y="270"/>
                </a:lnTo>
                <a:lnTo>
                  <a:pt x="105" y="270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21000" y="2367000"/>
            <a:ext cx="1706400" cy="268200"/>
          </a:xfrm>
          <a:custGeom>
            <a:avLst/>
            <a:gdLst/>
            <a:ahLst/>
            <a:rect l="l" t="t" r="r" b="b"/>
            <a:pathLst>
              <a:path w="1075" h="169">
                <a:moveTo>
                  <a:pt x="1075" y="0"/>
                </a:moveTo>
                <a:lnTo>
                  <a:pt x="1075" y="85"/>
                </a:lnTo>
                <a:lnTo>
                  <a:pt x="0" y="85"/>
                </a:lnTo>
                <a:lnTo>
                  <a:pt x="0" y="169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27400" y="2367000"/>
            <a:ext cx="1487520" cy="268200"/>
          </a:xfrm>
          <a:custGeom>
            <a:avLst/>
            <a:gdLst/>
            <a:ahLst/>
            <a:rect l="l" t="t" r="r" b="b"/>
            <a:pathLst>
              <a:path w="937" h="169">
                <a:moveTo>
                  <a:pt x="0" y="0"/>
                </a:moveTo>
                <a:lnTo>
                  <a:pt x="0" y="85"/>
                </a:lnTo>
                <a:lnTo>
                  <a:pt x="937" y="85"/>
                </a:lnTo>
                <a:lnTo>
                  <a:pt x="937" y="169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94080" y="2957400"/>
            <a:ext cx="1320840" cy="214560"/>
          </a:xfrm>
          <a:custGeom>
            <a:avLst/>
            <a:gdLst/>
            <a:ahLst/>
            <a:rect l="l" t="t" r="r" b="b"/>
            <a:pathLst>
              <a:path w="832" h="135">
                <a:moveTo>
                  <a:pt x="832" y="0"/>
                </a:moveTo>
                <a:lnTo>
                  <a:pt x="832" y="68"/>
                </a:lnTo>
                <a:lnTo>
                  <a:pt x="0" y="68"/>
                </a:lnTo>
                <a:lnTo>
                  <a:pt x="0" y="135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75360" y="2957400"/>
            <a:ext cx="439560" cy="214560"/>
          </a:xfrm>
          <a:custGeom>
            <a:avLst/>
            <a:gdLst/>
            <a:ahLst/>
            <a:rect l="l" t="t" r="r" b="b"/>
            <a:pathLst>
              <a:path w="277" h="135">
                <a:moveTo>
                  <a:pt x="277" y="0"/>
                </a:moveTo>
                <a:lnTo>
                  <a:pt x="277" y="68"/>
                </a:lnTo>
                <a:lnTo>
                  <a:pt x="0" y="68"/>
                </a:lnTo>
                <a:lnTo>
                  <a:pt x="0" y="135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14920" y="2957400"/>
            <a:ext cx="1322280" cy="214560"/>
          </a:xfrm>
          <a:custGeom>
            <a:avLst/>
            <a:gdLst/>
            <a:ahLst/>
            <a:rect l="l" t="t" r="r" b="b"/>
            <a:pathLst>
              <a:path w="833" h="135">
                <a:moveTo>
                  <a:pt x="0" y="0"/>
                </a:moveTo>
                <a:lnTo>
                  <a:pt x="0" y="68"/>
                </a:lnTo>
                <a:lnTo>
                  <a:pt x="833" y="68"/>
                </a:lnTo>
                <a:lnTo>
                  <a:pt x="833" y="135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484280" y="5748480"/>
            <a:ext cx="828360" cy="322200"/>
            <a:chOff x="1484280" y="5748480"/>
            <a:chExt cx="828360" cy="322200"/>
          </a:xfrm>
        </p:grpSpPr>
        <p:sp>
          <p:nvSpPr>
            <p:cNvPr id="289" name=""/>
            <p:cNvSpPr/>
            <p:nvPr/>
          </p:nvSpPr>
          <p:spPr>
            <a:xfrm>
              <a:off x="1484280" y="5748480"/>
              <a:ext cx="82836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84280" y="5748480"/>
              <a:ext cx="82836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549080" y="58561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blic Health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19040" y="5479920"/>
            <a:ext cx="167040" cy="430200"/>
          </a:xfrm>
          <a:custGeom>
            <a:avLst/>
            <a:gdLst/>
            <a:ahLst/>
            <a:rect l="l" t="t" r="r" b="b"/>
            <a:pathLst>
              <a:path w="105" h="271">
                <a:moveTo>
                  <a:pt x="104" y="0"/>
                </a:moveTo>
                <a:lnTo>
                  <a:pt x="0" y="0"/>
                </a:lnTo>
                <a:lnTo>
                  <a:pt x="0" y="271"/>
                </a:lnTo>
                <a:lnTo>
                  <a:pt x="105" y="271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14920" y="2957400"/>
            <a:ext cx="441360" cy="214560"/>
          </a:xfrm>
          <a:custGeom>
            <a:avLst/>
            <a:gdLst/>
            <a:ahLst/>
            <a:rect l="l" t="t" r="r" b="b"/>
            <a:pathLst>
              <a:path w="278" h="135">
                <a:moveTo>
                  <a:pt x="0" y="0"/>
                </a:moveTo>
                <a:lnTo>
                  <a:pt x="0" y="68"/>
                </a:lnTo>
                <a:lnTo>
                  <a:pt x="278" y="68"/>
                </a:lnTo>
                <a:lnTo>
                  <a:pt x="278" y="135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38480" y="4038480"/>
            <a:ext cx="4343400" cy="3812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57560" y="403848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Categ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248600" y="0"/>
            <a:ext cx="1895400" cy="24573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21E-68ED-4AB5-AAC6-034C21489B17}" type="slidenum">
              <a:t>7</a:t>
            </a:fld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Tahoma"/>
              </a:rPr>
              <a:t>Business Continuity in a Pandemic Age</a:t>
            </a:r>
            <a:br>
              <a:rPr sz="2400"/>
            </a:b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Continuity of Operations Plan-Essential (COP-E) 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Supporting Businesses to Refine their Exist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Plans to Account for a Catastrophic Disaster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1932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Extending the Business Disaster Planning Continu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28600" y="6234120"/>
            <a:ext cx="2146320" cy="6238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676520" y="2209680"/>
            <a:ext cx="0" cy="320040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76520" y="5410080"/>
            <a:ext cx="6933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-117360" y="3233880"/>
            <a:ext cx="32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Increasing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Disaster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ver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676520" y="2895120"/>
            <a:ext cx="5181480" cy="2514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7360" y="5257800"/>
            <a:ext cx="112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Norm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41911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cc00"/>
                </a:solidFill>
                <a:latin typeface="Arial"/>
              </a:rPr>
              <a:t>Basic</a:t>
            </a: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 Contingenc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Pla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53880" y="4775040"/>
            <a:ext cx="1954800" cy="459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Arial"/>
              </a:rPr>
              <a:t>Localized power outag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Arial"/>
              </a:rPr>
              <a:t>Plant fire, IT fail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28800" y="34290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ontinuity of Operations Plan (COO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81080" y="274320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Continuity of Operations Plan-Essential (COP-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27160" y="4013280"/>
            <a:ext cx="2303640" cy="641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Major Hurricane, Earthquak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or Flood, Localized Terroris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onventional or Bio-attack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88200" y="5486400"/>
            <a:ext cx="625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Increasing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Impacts on CI/KR and National Economy and Social St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06640" y="3124080"/>
            <a:ext cx="2483640" cy="8240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andemic Influenz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Massive Bio, Chemic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or Radiological Even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at 5 Hurricane, 8/0 Earthqu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1828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rcRect l="0" t="0" r="0" b="9032"/>
          <a:stretch/>
        </p:blipFill>
        <p:spPr>
          <a:xfrm rot="6916800">
            <a:off x="8209440" y="857880"/>
            <a:ext cx="725400" cy="838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5E0-5215-4002-BADD-2940B53BC255}" type="slidenum">
              <a:t>8</a:t>
            </a:fld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A Guide to “COP-E”</a:t>
            </a:r>
            <a:br>
              <a:rPr sz="4000"/>
            </a:br>
            <a:r>
              <a:rPr b="1" lang="en-US" sz="2200" spc="-1" strike="noStrike">
                <a:solidFill>
                  <a:srgbClr val="ffff66"/>
                </a:solidFill>
                <a:latin typeface="Tahoma"/>
              </a:rPr>
              <a:t>Continuity of Operations Plan-Essential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The Pandemic Guide for CI/KR and COP-E Plan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troduces a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rategic framework to extend and refine business continuity planning based on severe pandemic-specific impacts. The 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COP-E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proces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defines “Essential” functions, operations and peopl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integrates Business and Health-related Assumption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outlines the government’s proposed disease mitigation strategies, and the potential impacts for businesse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offers specific actions businesses can take to </a:t>
            </a: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prepare for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respond to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, and </a:t>
            </a: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recover from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 a pandemic outbreak; 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presents useful COP-E scenarios as planning tools for private sector critical infrastructure partners—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mall businesses and Fortune 500 companies, alike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—to tailor continuity planning to their specific need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62485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228600" y="6215040"/>
            <a:ext cx="2209680" cy="6429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The deadly strain of the bird flu virus has reached Turkey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FA4-0DFC-4FE1-8B2D-E8647CC7A609}" type="slidenum">
              <a:t>9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19:34:57Z</dcterms:created>
  <dc:creator>greenj</dc:creator>
  <dc:description/>
  <dc:language>en-US</dc:language>
  <cp:lastModifiedBy>AMSA</cp:lastModifiedBy>
  <dcterms:modified xsi:type="dcterms:W3CDTF">2006-05-01T18:55:47Z</dcterms:modified>
  <cp:revision>90</cp:revision>
  <dc:subject/>
  <dc:title>CI/KR Pandemic Preparedness, Response, and Recovery Continuity of Operations Plan-Essential (COPE)</dc:title>
</cp:coreProperties>
</file>