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34.wmf" ContentType="image/x-wmf"/>
  <Override PartName="/ppt/media/image33.wmf" ContentType="image/x-wmf"/>
  <Override PartName="/ppt/media/image36.png" ContentType="image/png"/>
  <Override PartName="/ppt/media/image18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F06F38-06D1-448D-B11E-FA7DAE110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thank you for this invitation as it is topic for which we should all be intere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S has overall responsibility to integrate responses addr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ty of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of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ity of essential busines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a pandemic hits our shores, it will affect almost every sector of our society, not just health care, but transportation systems, workplaces, schools, public safety and more. It will require a coordinated government-wide response, including federal, state and local governments, and it will require the private sector and all of us as individuals to be read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s of HHS Secretary Michael Leavitt on “Avian Flu,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National Infrastructure Protection Plan, 13 sectors were identified that are crucial to the production and provision of essential goods and services to the American population.  These sectors contribute to a strong national defense and a robust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t wages and produ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from $167 Billion to $675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4D7-05CE-418D-AF3D-29133355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40D-ACC6-4982-AB65-D59BC4E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7DA-8877-4B30-8E8C-1A6B601C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3B3-5E9E-46E9-AE72-C2469194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158-89A6-4F54-9D24-C91FC32F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52BA-923E-4930-8026-EC23E3C5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47F2-BDEE-4DDF-B59A-064E113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AEBD-59A5-48C3-994C-D38CF4C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3A9-9342-47B8-9FE3-ECEFC4F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BFF-84BD-4982-B31F-FAFE9B86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FA7-31DC-4685-B3C0-A83FB5B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AB7-5001-4F7A-B478-A6779CC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4018-080E-4ECF-932A-E2B7DA5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4FF0-FA1E-4CAA-8C8B-B47B20D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7757-CF7E-4874-A13A-B2B18336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3776-DA45-4F97-8F76-39FBACFF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65F8-DDE6-4341-A854-824D9137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795-85A9-45CE-83CD-825A80E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CFA-31B3-4710-BDAA-957985F2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E1F-169B-424A-9BA8-A21C1E4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31F-2D67-4993-9B7C-60BFFFBC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505-2BE4-4B25-BA24-9C111CD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9E0-D579-4612-A216-BCECAB5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108-8710-4BEC-864D-3F4AA7B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E06F-A1A5-4338-ADAC-96C569FE7C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A755-23CE-43AF-A116-829AD27F11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.com/en/search/close-up?oid=3679966&amp;a=&amp;pt=&amp;k_mode=all&amp;k_exc=&amp;cid=811B&amp;date=&amp;ct_search=&amp;k_var=&amp;bl=%2Fen%2Fsearch%2Findex%3Ff_h%3D1%26f_i%3D1%26f_o%3D1%26f_v%3D1%26f_b%3D1%26f_c%3D1%26k_mode%3Dall%26big%3D1%26cid%3D811B%26ppage%3D36%26srch%3DSearching...%26first%3D526%26&amp;ofirst=&amp;srch=Y&amp;hoid=a6aa1338346c2d96c4ac14882d90e6d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photos.com/en/search/close-up?oid=3187121&amp;a=&amp;pt=&amp;k_mode=&amp;k_exc=&amp;cid=8118&amp;date=&amp;ct_search=&amp;k_var=&amp;bl=%2Fen%2Fsearch%2Findex%3Ff_h%3D1%26f_i%3D1%26f_o%3D1%26f_v%3D1%26f_b%3D1%26f_c%3D1%26big%3D1%26cid%3D8118%26ppage%3D2%26srch%3DSearch%26first%3D10%26&amp;ofirst=&amp;srch=Y&amp;hoid=55b8ae90aed98bee13137f04972076a6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photos.com/en/search/close-up?oid=3167738&amp;a=&amp;pt=&amp;k_mode=&amp;k_exc=&amp;cid=8118&amp;date=&amp;ct_search=&amp;k_var=&amp;bl=%2Fen%2Fsearch%2Findex%3Ff_h%3D1%26f_i%3D1%26f_o%3D1%26f_v%3D1%26f_b%3D1%26f_c%3D1%26big%3D1%26cid%3D8118%26ppage%3D28%26srch%3DSearch%26first%3D406%26&amp;ofirst=&amp;srch=Y&amp;hoid=e45379d5c14b5751cb6e513dbb7074ed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photos.com/en/search/close-up?oid=2736033&amp;a=&amp;pt=&amp;k_mode=&amp;k_exc=&amp;cid=8118&amp;date=&amp;ct_search=&amp;k_var=&amp;bl=%2Fen%2Fsearch%2Findex%3Ff_h%3D1%26f_i%3D1%26f_o%3D1%26f_v%3D1%26f_b%3D1%26f_c%3D1%26big%3D1%26cid%3D8118%26ppage%3D8%26srch%3DSearch%26first%3D106%26&amp;ofirst=&amp;srch=Y&amp;hoid=7c759cc034ade073cbdf2bc3f511c15c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photos.com/en/search/close-up?oid=3166401&amp;a=&amp;pt=&amp;k_mode=&amp;k_exc=&amp;cid=8118&amp;date=&amp;ct_search=&amp;k_var=&amp;bl=%2Fen%2Fsearch%2Findex%3Ff_h%3D1%26f_i%3D1%26f_o%3D1%26f_v%3D1%26f_b%3D1%26f_c%3D1%26big%3D1%26cid%3D8118%26ppage%3D12%26srch%3DSearch%26first%3D166%26&amp;ofirst=&amp;srch=Y&amp;hoid=c5394b6bbd043e1910cd56f2b0ebe8e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photos.com/en/search/close-up?oid=3680517&amp;a=&amp;pt=&amp;k_mode=&amp;k_exc=&amp;cid=8118&amp;date=&amp;ct_search=&amp;k_var=&amp;bl=%2Fen%2Fsearch%2Findex%3Ff_h%3D1%26f_i%3D1%26f_o%3D1%26f_v%3D1%26f_b%3D1%26f_c%3D1%26big%3D1%26cid%3D8118%26ppage%3D21%26srch%3DSearch%26first%3D301%26&amp;ofirst=&amp;srch=Y&amp;hoid=57310033f94609a25c54e21ce720a609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www.photos.com/en/search/close-up?oid=3668906&amp;a=&amp;pt=&amp;k_mode=&amp;k_exc=&amp;cid=8118&amp;date=&amp;ct_search=&amp;k_var=&amp;bl=%2Fen%2Fsearch%2Findex%3Ff_h%3D1%26f_i%3D1%26f_o%3D1%26f_v%3D1%26f_b%3D1%26f_c%3D1%26big%3D1%26cid%3D8118%26ppage%3D46%26srch%3DSearch%26first%3D676%26&amp;ofirst=&amp;srch=Y&amp;hoid=2995a5cd454c2b440caa2b719740d26b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www.photos.com/en/search/close-up?oid=3693177&amp;a=&amp;pt=&amp;k_mode=all&amp;k_exc=&amp;cid=811K&amp;date=&amp;ct_search=&amp;k_var=&amp;bl=%2Fen%2Fsearch%2Findex%3Ff_h%3D1%26f_i%3D1%26f_o%3D1%26f_v%3D1%26f_b%3D1%26f_c%3D1%26k_mode%3Dall%26big%3D1%26cid%3D811K%26ppage%3D19%26srch%3DSearching...%26first%3D271%26&amp;ofirst=&amp;srch=Y&amp;hoid=eb2cb9a854802221d494a351ed65433b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www.photos.com/en/search/close-up?oid=2816782&amp;a=&amp;pt=&amp;k_mode=all&amp;k_exc=&amp;cid=811K&amp;date=&amp;ct_search=&amp;k_var=&amp;bl=%2Fen%2Fsearch%2Findex%3Ff_h%3D1%26f_i%3D1%26f_o%3D1%26f_v%3D1%26f_b%3D1%26f_c%3D1%26k_mode%3Dall%26big%3D1%26cid%3D811K%26ppage%3D49%26srch%3DSearching...%26first%3D721%26&amp;ofirst=&amp;srch=Y&amp;hoid=ed310edff6314dfd9c1b52c00d1aa5d3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www.photos.com/en/search/close-up?oid=3181972&amp;a=&amp;pt=&amp;k_mode=all&amp;k_exc=&amp;cid=8114&amp;date=&amp;ct_search=&amp;k_var=&amp;bl=%2Fen%2Fsearch%2Findex%3Ff_h%3D1%26f_i%3D1%26f_o%3D1%26f_v%3D1%26f_b%3D1%26f_c%3D1%26k_mode%3Dall%26big%3D1%26cid%3D8114%26ppage%3D15%26srch%3DSearching...%26first%3D211%26&amp;ofirst=&amp;srch=Y&amp;hoid=64955d0f2e88ec5133c9d3a67794c310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www.photos.com/en/search/close-up?oid=4830604&amp;a=&amp;pt=&amp;k_mode=all&amp;k_exc=&amp;cid=811B&amp;date=&amp;ct_search=&amp;k_var=&amp;bl=%2Fen%2Fsearch%2Findex%3Ff_h%3D1%26f_i%3D1%26f_o%3D1%26f_v%3D1%26f_b%3D1%26f_c%3D1%26k_mode%3Dall%26big%3D1%26cid%3D811B%26ppage%3D17%26srch%3DSearching...%26first%3D241%26&amp;ofirst=&amp;srch=Y&amp;hoid=559b43e687ecc6fd7b7c23863eced90a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www.photos.com/en/search/close-up?oid=3645756&amp;a=&amp;pt=&amp;k_mode=all&amp;k_exc=&amp;cid=811B&amp;date=&amp;ct_search=&amp;k_var=&amp;bl=%2Fen%2Fsearch%2Findex%3Ff_h%3D1%26f_i%3D1%26f_o%3D1%26f_v%3D1%26f_b%3D1%26f_c%3D1%26k_mode%3Dall%26big%3D1%26cid%3D811B%26ppage%3D18%26srch%3DSearching...%26first%3D256%26&amp;ofirst=&amp;srch=Y&amp;hoid=ce1463ea5149568c57116cd5a126e80a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www.photos.com/en/search/close-up?oid=4830317&amp;a=&amp;pt=&amp;k_mode=all&amp;k_exc=&amp;cid=811B&amp;date=&amp;ct_search=&amp;k_var=&amp;bl=%2Fen%2Fsearch%2Findex%3Ff_h%3D1%26f_i%3D1%26f_o%3D1%26f_v%3D1%26f_b%3D1%26f_c%3D1%26k_mode%3Dall%26big%3D1%26cid%3D811B%26ppage%3D23%26srch%3DSearching...%26first%3D331%26&amp;ofirst=&amp;srch=Y&amp;hoid=0a9a1651baec58e6e43e2e4fd14367ee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image" Target="../media/image22.png"/><Relationship Id="rId30" Type="http://schemas.openxmlformats.org/officeDocument/2006/relationships/image" Target="../media/image23.jpeg"/><Relationship Id="rId31" Type="http://schemas.openxmlformats.org/officeDocument/2006/relationships/image" Target="../media/image24.jpeg"/><Relationship Id="rId32" Type="http://schemas.openxmlformats.org/officeDocument/2006/relationships/image" Target="../media/image25.png"/><Relationship Id="rId33" Type="http://schemas.openxmlformats.org/officeDocument/2006/relationships/image" Target="../media/image26.wm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demic Influenza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edness, Response and Recovery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National Association of Clean Water Agencies</a:t>
            </a:r>
            <a:br>
              <a:rPr sz="32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May 1, 2006</a:t>
            </a:r>
            <a:br>
              <a:rPr sz="3200"/>
            </a:b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Washington, D.C.</a:t>
            </a:r>
            <a:br>
              <a:rPr sz="24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athie McCracken, R.N., M.H.A., F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partment of Homeland Secur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ffice of Infrastructure Protection - Infrastructure Partnerships Divis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frastructure Analy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lthcare Sec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One:</a:t>
            </a:r>
            <a:br>
              <a:rPr sz="4000"/>
            </a:br>
            <a:r>
              <a:rPr b="1" lang="en-US" sz="5400" spc="-1" strike="noStrike">
                <a:solidFill>
                  <a:srgbClr val="66ccff"/>
                </a:solidFill>
                <a:latin typeface="Tahoma"/>
              </a:rPr>
              <a:t>Planning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consider during the </a:t>
            </a:r>
            <a:r>
              <a:rPr b="1" lang="en-US" sz="1600" spc="-1" strike="noStrike">
                <a:solidFill>
                  <a:srgbClr val="66ccff"/>
                </a:solidFill>
                <a:latin typeface="Tahoma"/>
              </a:rPr>
              <a:t>Planning Phase: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Essential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fine essential functions, goods, and services under conditions of dramatically worsening conditions and reduced options for the business, community, and n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Worker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ll employees are susceptible, businesses must ensure the 60 percent who are well can sustain essential functions, goods and serv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Dura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6-8 week pandemic wave increases stresses on systems and people requiring focused planning on situational awareness and suppor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Dispersion and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apid geographic dispersion precludes transferring support to or from impacted are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Famil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Keeping essential workers on the job will be substantially dependent on whether their families are protected and support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ahoma"/>
              </a:rPr>
              <a:t>Adaptive Us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business’ functions may have to be adapted to enhance focus on essential goods and serv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C6D-4F24-4BD3-8EBC-C8C37E633849}" type="slidenum">
              <a:t>10</a:t>
            </a:fld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Two:</a:t>
            </a:r>
            <a:br>
              <a:rPr sz="4000"/>
            </a:b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Preparednes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low are examples of major actions and issues that businesses shoul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nitor during the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reparedness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hare Pl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Business must share their plans with all key players in the community to ensure interlocking plans and action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etworks of Preparednes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Businesses must develop mutual support alliances within the community and region as well as with their business partners  and competito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Large and Smal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Sustaining the local and national essential services demands both large and small businesses preparedn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nd/3rd Order Effe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The strength of a pandemic plan will be defined by the weakest link in its supply chain, especially among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rder suppliers, distributors, and manufactur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Outsourc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Extensive outsourcing requires businesses to ensure their many support contractors are equally prepared to respond to a pandemi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eople and Stockpil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Prioritize all essential people, material and equipment suppor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8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A13-406A-4190-B2D3-779130B248E6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Three:</a:t>
            </a:r>
            <a:br>
              <a:rPr sz="4000"/>
            </a:b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Respons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manage during the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Response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isease Containment Strateg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olation, quarantine, social distancing, “snow days,” closing places of assembly and restricted movement will substantially compound impacts on business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ross-sector Interdependenci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lanning, communicating, and supporting cross-sector partners will be key in a pandemic. Cross sector concerns include Electricity, Telecom, I.T., and Transpor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ascading Effect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e collective impacts on numerous small/large business may cascade into a regional/national emergenc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Risk Communications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sistent, hones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sk communications between a business and its workers, their families, essential business partners, and the community will prove decisi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ooperation and Collabora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overnment and businesses cannot go it alone during a pandemic; they must communicate and collaborate at all times to ensure mutual support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FF5-0CA6-4F60-AB68-313A2393AF10}" type="slidenum">
              <a:t>12</a:t>
            </a:fld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COP-E Phase Four:</a:t>
            </a:r>
            <a:br>
              <a:rPr sz="4000"/>
            </a:br>
            <a:r>
              <a:rPr b="1" lang="en-US" sz="5400" spc="-1" strike="noStrike">
                <a:solidFill>
                  <a:srgbClr val="00cc00"/>
                </a:solidFill>
                <a:latin typeface="Tahoma"/>
              </a:rPr>
              <a:t>Recovery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Below are examples of major actions and issues that busines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should address during the </a:t>
            </a:r>
            <a:r>
              <a:rPr b="1" lang="en-US" sz="1600" spc="-1" strike="noStrike">
                <a:solidFill>
                  <a:srgbClr val="00cc00"/>
                </a:solidFill>
                <a:latin typeface="Tahoma"/>
              </a:rPr>
              <a:t>Recovery Phas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Multiple Wav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pandemic will not end with the first wave, thus businesses must balance their available resources to expedite recovery while preparing for the next pandemic wa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Worker/Family Losse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Overcoming the effects from worker and  family illness as well as from lost wages due to providing home health care, “snow days” and worker furloughs will be a significant challeng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Workforce Reconstitution and Competitio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mpetition for available skilled workers and support services will be intens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Government/Community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ubstantial external support (government and community) may be required for businesses to prepare for the next pandemic wave while recovering from the first wa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Inter-Business Suppor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a business to recover and thrive, its essential business partner support network must also recover and thri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International Recovery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national recovery may lag behind U.S. recovery. International raw material availability, manufacturing, supply chain support, and purchases of U.S. goods may be delay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7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4F2-405D-4A18-BA77-EC29D3F94425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_s1028"/>
          <p:cNvSpPr/>
          <p:nvPr/>
        </p:nvSpPr>
        <p:spPr>
          <a:xfrm>
            <a:off x="4876920" y="1066680"/>
            <a:ext cx="1523880" cy="1447920"/>
          </a:xfrm>
          <a:prstGeom prst="ellipse">
            <a:avLst/>
          </a:prstGeom>
          <a:solidFill>
            <a:srgbClr val="0066ff">
              <a:alpha val="50000"/>
            </a:srgbClr>
          </a:solidFill>
          <a:ln w="4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_s1030"/>
          <p:cNvSpPr/>
          <p:nvPr/>
        </p:nvSpPr>
        <p:spPr>
          <a:xfrm>
            <a:off x="6324480" y="2057400"/>
            <a:ext cx="1676520" cy="1595520"/>
          </a:xfrm>
          <a:prstGeom prst="ellipse">
            <a:avLst/>
          </a:prstGeom>
          <a:solidFill>
            <a:srgbClr val="ffffcc">
              <a:alpha val="50000"/>
            </a:srgbClr>
          </a:solidFill>
          <a:ln w="46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_s1032"/>
          <p:cNvSpPr/>
          <p:nvPr/>
        </p:nvSpPr>
        <p:spPr>
          <a:xfrm>
            <a:off x="5638680" y="2971800"/>
            <a:ext cx="1762200" cy="167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3657600"/>
            <a:ext cx="1585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Health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_s1036"/>
          <p:cNvSpPr/>
          <p:nvPr/>
        </p:nvSpPr>
        <p:spPr>
          <a:xfrm>
            <a:off x="3886200" y="990720"/>
            <a:ext cx="1457280" cy="1447560"/>
          </a:xfrm>
          <a:prstGeom prst="ellipse">
            <a:avLst/>
          </a:prstGeom>
          <a:solidFill>
            <a:srgbClr val="66ccff">
              <a:alpha val="50000"/>
            </a:srgbClr>
          </a:solidFill>
          <a:ln w="46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160" y="1573200"/>
            <a:ext cx="129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Health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_s1038"/>
          <p:cNvSpPr/>
          <p:nvPr/>
        </p:nvSpPr>
        <p:spPr>
          <a:xfrm>
            <a:off x="762120" y="1981080"/>
            <a:ext cx="2600280" cy="2508480"/>
          </a:xfrm>
          <a:prstGeom prst="ellipse">
            <a:avLst/>
          </a:prstGeom>
          <a:solidFill>
            <a:srgbClr val="0066ff">
              <a:alpha val="50000"/>
            </a:srgbClr>
          </a:solidFill>
          <a:ln w="4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8760" y="327672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47440" y="32004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Sewe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_s1040"/>
          <p:cNvSpPr/>
          <p:nvPr/>
        </p:nvSpPr>
        <p:spPr>
          <a:xfrm>
            <a:off x="2514600" y="2743200"/>
            <a:ext cx="2514600" cy="2514600"/>
          </a:xfrm>
          <a:prstGeom prst="ellipse">
            <a:avLst/>
          </a:prstGeom>
          <a:solidFill>
            <a:srgbClr val="ffffcc">
              <a:alpha val="50000"/>
            </a:srgbClr>
          </a:solidFill>
          <a:ln w="46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_s1042"/>
          <p:cNvSpPr/>
          <p:nvPr/>
        </p:nvSpPr>
        <p:spPr>
          <a:xfrm>
            <a:off x="609480" y="3657600"/>
            <a:ext cx="2676600" cy="25909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_s1041"/>
          <p:cNvSpPr/>
          <p:nvPr/>
        </p:nvSpPr>
        <p:spPr>
          <a:xfrm>
            <a:off x="990720" y="472428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Healthcar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_s1041"/>
          <p:cNvSpPr/>
          <p:nvPr/>
        </p:nvSpPr>
        <p:spPr>
          <a:xfrm>
            <a:off x="990720" y="274320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ommunit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6237360"/>
            <a:ext cx="2133720" cy="620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675800" y="57913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spit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525780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harm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449568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n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9320" y="4191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od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2040" y="510552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dical Supp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3480" y="358128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Wholes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81040" y="4876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R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46800" y="4267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3600" y="3276720"/>
            <a:ext cx="132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7520" y="35053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Employ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36240" y="29718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Manufactu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68360" y="2133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May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4572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Me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61200" y="426708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Chamber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Comme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07520" y="2514600"/>
            <a:ext cx="175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City/County Offici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03560" y="365760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First Respon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83600" y="22096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56800" y="3124080"/>
            <a:ext cx="6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0320" y="44956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bora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_s1036"/>
          <p:cNvSpPr/>
          <p:nvPr/>
        </p:nvSpPr>
        <p:spPr>
          <a:xfrm>
            <a:off x="6858000" y="3200400"/>
            <a:ext cx="1676520" cy="1600200"/>
          </a:xfrm>
          <a:prstGeom prst="ellipse">
            <a:avLst/>
          </a:prstGeom>
          <a:solidFill>
            <a:srgbClr val="66ccff">
              <a:alpha val="50000"/>
            </a:srgbClr>
          </a:solidFill>
          <a:ln w="46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_s1032"/>
          <p:cNvSpPr/>
          <p:nvPr/>
        </p:nvSpPr>
        <p:spPr>
          <a:xfrm>
            <a:off x="4495680" y="228600"/>
            <a:ext cx="1447920" cy="1447920"/>
          </a:xfrm>
          <a:prstGeom prst="ellipse">
            <a:avLst/>
          </a:prstGeom>
          <a:solidFill>
            <a:srgbClr val="99cc00">
              <a:alpha val="50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86360" y="5416560"/>
            <a:ext cx="12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LO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02000" y="4800600"/>
            <a:ext cx="279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TATE/REG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58160" y="635040"/>
            <a:ext cx="298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FEDERAL/NAT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1447920"/>
            <a:ext cx="4572000" cy="2666880"/>
          </a:xfrm>
          <a:custGeom>
            <a:avLst/>
            <a:gdLst/>
            <a:ahLst/>
            <a:rect l="l" t="t" r="r" b="b"/>
            <a:pathLst>
              <a:path w="2880" h="1680">
                <a:moveTo>
                  <a:pt x="0" y="1680"/>
                </a:moveTo>
                <a:lnTo>
                  <a:pt x="1536" y="0"/>
                </a:lnTo>
                <a:lnTo>
                  <a:pt x="2880" y="1344"/>
                </a:lnTo>
                <a:lnTo>
                  <a:pt x="0" y="168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176600" y="3754440"/>
            <a:ext cx="118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93600" y="2567160"/>
            <a:ext cx="1617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8680" y="1725480"/>
            <a:ext cx="106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2440" y="685800"/>
            <a:ext cx="1453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Gover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_s1041"/>
          <p:cNvSpPr/>
          <p:nvPr/>
        </p:nvSpPr>
        <p:spPr>
          <a:xfrm>
            <a:off x="3048120" y="3809880"/>
            <a:ext cx="1839960" cy="4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2400" y="304920"/>
            <a:ext cx="7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64280" y="609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GC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8200" y="91440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Fed Departme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90840" y="110952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d Cro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7040" y="1219320"/>
            <a:ext cx="86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itizen Cor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4320" y="457200"/>
            <a:ext cx="62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Cabin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1120" y="228600"/>
            <a:ext cx="40914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Pandem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etwork </a:t>
            </a:r>
            <a:r>
              <a:rPr b="1" lang="en-US" sz="2600" spc="-1" strike="noStrike">
                <a:solidFill>
                  <a:srgbClr val="ff3300"/>
                </a:solidFill>
                <a:latin typeface="Tahoma"/>
              </a:rPr>
              <a:t>of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22000" y="1143000"/>
            <a:ext cx="41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HH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94720" y="1447920"/>
            <a:ext cx="53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MM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46040" y="182880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VA-m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50240" y="2133720"/>
            <a:ext cx="73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DOD-me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5080" y="137160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C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67760" y="1600200"/>
            <a:ext cx="88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US Chamb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9880" y="1981080"/>
            <a:ext cx="53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Me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1360" y="19810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Tra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Associ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9920" y="53352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DH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4320" y="1295280"/>
            <a:ext cx="52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ND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7760" y="1905120"/>
            <a:ext cx="49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US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39560" y="2135160"/>
            <a:ext cx="71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Govern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1480" y="25081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HS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83760" y="2859120"/>
            <a:ext cx="105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National Guar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61280" y="3068640"/>
            <a:ext cx="113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First Respond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36520" y="234144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State Agenc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39840" y="32893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Tahoma"/>
              </a:rPr>
              <a:t>EO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20920" y="1995480"/>
            <a:ext cx="39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99"/>
                </a:solidFill>
                <a:latin typeface="Tahoma"/>
              </a:rPr>
              <a:t>S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50520" y="403704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Distribution Ct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93080" y="3627360"/>
            <a:ext cx="14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Consortiu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22600" y="445464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Regional Utilit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63200" y="4245120"/>
            <a:ext cx="122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tate Associ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82440" y="32655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Sole sour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99"/>
                </a:solidFill>
                <a:latin typeface="Tahoma"/>
              </a:rPr>
              <a:t>Manufactur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68200" y="390384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Public Healt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89600" y="3513240"/>
            <a:ext cx="981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Med Stockpi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70240" y="4087800"/>
            <a:ext cx="986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Regional Med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Suppor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Consortiu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30560" y="31827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Tertia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Med Cen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00960" y="391320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N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5600" y="34513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Tahoma"/>
              </a:rPr>
              <a:t>N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19600" y="47242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1240" y="556272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66400" y="41148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67400" y="39117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blic H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2960" y="533412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teri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8F2-1C3C-4392-B842-89690E17287B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859320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76E-DC47-4C94-AE76-2921F0FAF2A0}" type="slidenum">
              <a:t>15</a:t>
            </a:fld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633-2BDB-4A85-97BA-31E43E12B57E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924680" cy="2306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990720" y="38862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athie McCra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2-282-96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 kathie.mccracken@d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Objectives of This Presentation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HS Influenza Pandemic C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ept of Contingency of Operations-Plan Essential-“COP-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demic Planning:  Preparedness,  Response, and Reco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l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F0D-4059-48F3-836C-5A28DA31AC89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12880" y="304920"/>
            <a:ext cx="7346520" cy="6095880"/>
            <a:chOff x="812880" y="304920"/>
            <a:chExt cx="7346520" cy="6095880"/>
          </a:xfrm>
        </p:grpSpPr>
        <p:sp>
          <p:nvSpPr>
            <p:cNvPr id="121" name=""/>
            <p:cNvSpPr/>
            <p:nvPr/>
          </p:nvSpPr>
          <p:spPr>
            <a:xfrm>
              <a:off x="3577320" y="3505320"/>
              <a:ext cx="2044440" cy="2884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3589920" y="3505320"/>
              <a:ext cx="202356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164280" y="3429000"/>
              <a:ext cx="1989360" cy="2879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64280" y="304920"/>
              <a:ext cx="1968480" cy="2819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2880" y="3505320"/>
              <a:ext cx="1994040" cy="2890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9920" y="304920"/>
              <a:ext cx="1968480" cy="290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880" y="304920"/>
              <a:ext cx="2031840" cy="2895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164280" y="304920"/>
              <a:ext cx="196848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812880" y="3505320"/>
              <a:ext cx="1995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6164280" y="3429000"/>
              <a:ext cx="1995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812880" y="304920"/>
              <a:ext cx="202356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>
              <a:off x="3589920" y="304920"/>
              <a:ext cx="1965600" cy="290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F84-B5EA-4D7D-91A9-4C5AA367C107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DHS Critical Infrastructure Prior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ure continuity of operations for critical essential servic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ing critical infrastructure operations as “near normal” as possible for social and economic well be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579-B439-443F-A581-F1FF10303EF6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373392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1905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32120" y="2590920"/>
            <a:ext cx="1049040" cy="156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15238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t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cov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920" y="1163520"/>
            <a:ext cx="40806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0404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00"/>
                </a:solidFill>
                <a:uFillTx/>
                <a:latin typeface="Tahoma"/>
              </a:rPr>
              <a:t>Healthcare</a:t>
            </a:r>
            <a:r>
              <a:rPr b="1" lang="en-US" sz="1900" spc="-1" strike="noStrike" u="sng">
                <a:solidFill>
                  <a:srgbClr val="ffff00"/>
                </a:solidFill>
                <a:uFillTx/>
                <a:latin typeface="Arial"/>
              </a:rPr>
              <a:t> &amp; Public Health (HH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35560" y="1162080"/>
            <a:ext cx="47239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40404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00"/>
                </a:solidFill>
                <a:uFillTx/>
                <a:latin typeface="Tahoma"/>
              </a:rPr>
              <a:t>Critical/Essential Infrastructure (DH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29520" y="151452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st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cov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2819520"/>
            <a:ext cx="1114560" cy="1714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5440" y="2743200"/>
            <a:ext cx="1338120" cy="163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90720" y="380988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4267080"/>
            <a:ext cx="1143000" cy="1714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257800" y="2538360"/>
            <a:ext cx="1866960" cy="12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86600" y="2768760"/>
            <a:ext cx="1676520" cy="111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486400" y="1752480"/>
            <a:ext cx="1714680" cy="1143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pic>
        <p:nvPicPr>
          <p:cNvPr id="149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562720" y="36576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858000" y="4800600"/>
            <a:ext cx="1714680" cy="111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257800" y="4648320"/>
            <a:ext cx="171468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7"/>
          <a:stretch/>
        </p:blipFill>
        <p:spPr>
          <a:xfrm>
            <a:off x="5943600" y="563868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8"/>
          <a:stretch/>
        </p:blipFill>
        <p:spPr>
          <a:xfrm>
            <a:off x="8273880" y="4876920"/>
            <a:ext cx="87012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3209760" y="923760"/>
            <a:ext cx="1019520" cy="257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00640" y="923760"/>
            <a:ext cx="961920" cy="228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7020000" cy="96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ahoma"/>
              </a:rPr>
              <a:t>Pandemic Preparedness and Response</a:t>
            </a:r>
            <a:br>
              <a:rPr sz="2500"/>
            </a:br>
            <a:r>
              <a:rPr b="1" i="1" lang="en-US" sz="2500" spc="-1" strike="noStrike">
                <a:solidFill>
                  <a:srgbClr val="ff3300"/>
                </a:solidFill>
                <a:latin typeface="Tahoma"/>
              </a:rPr>
              <a:t>Equal Parts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9"/>
          <a:stretch/>
        </p:blipFill>
        <p:spPr>
          <a:xfrm>
            <a:off x="0" y="6237360"/>
            <a:ext cx="2133720" cy="62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vian flu"/>
          <p:cNvPicPr/>
          <p:nvPr/>
        </p:nvPicPr>
        <p:blipFill>
          <a:blip r:embed="rId30"/>
          <a:stretch/>
        </p:blipFill>
        <p:spPr>
          <a:xfrm>
            <a:off x="2590920" y="40384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1"/>
          <a:stretch/>
        </p:blipFill>
        <p:spPr>
          <a:xfrm>
            <a:off x="2362320" y="5029200"/>
            <a:ext cx="1447560" cy="1434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2"/>
          <a:stretch/>
        </p:blipFill>
        <p:spPr>
          <a:xfrm>
            <a:off x="914400" y="5029200"/>
            <a:ext cx="1828800" cy="106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3"/>
          <a:stretch/>
        </p:blipFill>
        <p:spPr>
          <a:xfrm>
            <a:off x="7010280" y="5791320"/>
            <a:ext cx="1384560" cy="86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67080" y="1447920"/>
            <a:ext cx="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C28-EF7C-46A2-B918-0758416B74D5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andemic Influenza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ff66"/>
                </a:solidFill>
                <a:latin typeface="Tahoma"/>
              </a:rPr>
              <a:t>Preparedness, Response, and Recovery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            Guide for Critical Infrastructure and Key Resources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Government cannot go it alone. The Private Sector has a key role to play in pandemic preparedness, response, and recovery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With this Guide, DHS supports protecting the nation’s Critical Infrastructure, economic security and social stability from a pandemic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The extreme scale and scope of a pandemic necessitate dedicated effort and investment beyond typical business continuity planning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While the timing and severity remain unknown, a severe worst-case pandemic could have tremendous operational and economic implications, including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40 Percent or More of Workforce Out Sick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Supply and Delivery Chains Disrupt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Travel Delayed or Halted; Events Cancel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Healthcare System Overwhelmed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66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66"/>
                </a:solidFill>
                <a:latin typeface="Tahoma"/>
              </a:rPr>
              <a:t>Essential  Services Interrupte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248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6259680"/>
            <a:ext cx="2057400" cy="598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0" t="0" r="0" b="9032"/>
          <a:stretch/>
        </p:blipFill>
        <p:spPr>
          <a:xfrm>
            <a:off x="7561440" y="0"/>
            <a:ext cx="158256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9FF-B9A8-4237-8372-A6A94DC6A9A2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59120" y="525600"/>
            <a:ext cx="5940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7 Critical Infrastructures 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Ke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38480" y="4038480"/>
          <a:ext cx="4362480" cy="2297160"/>
        </p:xfrm>
        <a:graphic>
          <a:graphicData uri="http://schemas.openxmlformats.org/drawingml/2006/table">
            <a:tbl>
              <a:tblPr/>
              <a:tblGrid>
                <a:gridCol w="4362480"/>
              </a:tblGrid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Key Observ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hysical Critical Infrastructure -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hirteen sectors that provide the production of essential goods and services, interconnectedness and operability, public safety and security that contribute to a strong national defense and thriving econom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1240" indent="-111240">
                        <a:lnSpc>
                          <a:spcPct val="100000"/>
                        </a:lnSpc>
                        <a:buClr>
                          <a:srgbClr val="ffffc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Key Resources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 -  individual privately owned facilities, sites and groups of organized people whose destruction could cause large-scale injury, death, or destruction of property and/or profoundly damage our national prestige and confid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344400" y="2075040"/>
            <a:ext cx="166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Physical Critical 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0040" y="220356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and 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6480" y="1992240"/>
            <a:ext cx="1781280" cy="393840"/>
            <a:chOff x="3246480" y="1992240"/>
            <a:chExt cx="1781280" cy="393840"/>
          </a:xfrm>
        </p:grpSpPr>
        <p:sp>
          <p:nvSpPr>
            <p:cNvPr id="173" name=""/>
            <p:cNvSpPr/>
            <p:nvPr/>
          </p:nvSpPr>
          <p:spPr>
            <a:xfrm>
              <a:off x="3265560" y="2009880"/>
              <a:ext cx="1762200" cy="376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6480" y="1992240"/>
              <a:ext cx="1764000" cy="37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6480" y="1992240"/>
              <a:ext cx="1764000" cy="374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26760" y="2055960"/>
            <a:ext cx="166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hysical Critical 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1320" y="2185920"/>
            <a:ext cx="106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 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53240" y="270180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Critic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09960" y="282096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25640" y="2635200"/>
            <a:ext cx="1009800" cy="341280"/>
            <a:chOff x="1925640" y="2635200"/>
            <a:chExt cx="1009800" cy="341280"/>
          </a:xfrm>
        </p:grpSpPr>
        <p:sp>
          <p:nvSpPr>
            <p:cNvPr id="181" name=""/>
            <p:cNvSpPr/>
            <p:nvPr/>
          </p:nvSpPr>
          <p:spPr>
            <a:xfrm>
              <a:off x="1943280" y="2654280"/>
              <a:ext cx="992160" cy="322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5640" y="2635200"/>
              <a:ext cx="990720" cy="32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5640" y="2635200"/>
              <a:ext cx="990720" cy="322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235600" y="26845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801880"/>
            <a:ext cx="74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66800" y="2762280"/>
            <a:ext cx="82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Arial"/>
              </a:rPr>
              <a:t>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19560" y="2635200"/>
            <a:ext cx="1009440" cy="341280"/>
            <a:chOff x="5119560" y="2635200"/>
            <a:chExt cx="1009440" cy="341280"/>
          </a:xfrm>
        </p:grpSpPr>
        <p:sp>
          <p:nvSpPr>
            <p:cNvPr id="188" name=""/>
            <p:cNvSpPr/>
            <p:nvPr/>
          </p:nvSpPr>
          <p:spPr>
            <a:xfrm>
              <a:off x="5138640" y="2654280"/>
              <a:ext cx="990360" cy="322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19560" y="2635200"/>
              <a:ext cx="992160" cy="3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19560" y="2635200"/>
              <a:ext cx="992160" cy="3225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247720" y="2743200"/>
            <a:ext cx="82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y Resour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70200" y="2957400"/>
            <a:ext cx="550800" cy="214560"/>
          </a:xfrm>
          <a:custGeom>
            <a:avLst/>
            <a:gdLst/>
            <a:ahLst/>
            <a:rect l="l" t="t" r="r" b="b"/>
            <a:pathLst>
              <a:path w="347" h="135">
                <a:moveTo>
                  <a:pt x="347" y="0"/>
                </a:moveTo>
                <a:lnTo>
                  <a:pt x="347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333600"/>
            <a:ext cx="16704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84280" y="3171960"/>
            <a:ext cx="771480" cy="322200"/>
            <a:chOff x="1484280" y="3171960"/>
            <a:chExt cx="771480" cy="322200"/>
          </a:xfrm>
        </p:grpSpPr>
        <p:sp>
          <p:nvSpPr>
            <p:cNvPr id="195" name=""/>
            <p:cNvSpPr/>
            <p:nvPr/>
          </p:nvSpPr>
          <p:spPr>
            <a:xfrm>
              <a:off x="1484280" y="317196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8428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696320" y="322092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d &amp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99120" y="333864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84280" y="3544920"/>
            <a:ext cx="771480" cy="417240"/>
            <a:chOff x="1484280" y="3544920"/>
            <a:chExt cx="771480" cy="417240"/>
          </a:xfrm>
        </p:grpSpPr>
        <p:sp>
          <p:nvSpPr>
            <p:cNvPr id="200" name=""/>
            <p:cNvSpPr/>
            <p:nvPr/>
          </p:nvSpPr>
          <p:spPr>
            <a:xfrm>
              <a:off x="1484280" y="3544920"/>
              <a:ext cx="771480" cy="417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4280" y="3544920"/>
              <a:ext cx="771480" cy="4172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670400" y="359100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86520" y="371016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ume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6600" y="382896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Ic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84280" y="4030560"/>
            <a:ext cx="771480" cy="322200"/>
            <a:chOff x="1484280" y="4030560"/>
            <a:chExt cx="771480" cy="322200"/>
          </a:xfrm>
        </p:grpSpPr>
        <p:sp>
          <p:nvSpPr>
            <p:cNvPr id="206" name=""/>
            <p:cNvSpPr/>
            <p:nvPr/>
          </p:nvSpPr>
          <p:spPr>
            <a:xfrm>
              <a:off x="1484280" y="403056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84280" y="40305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56000" y="407988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nking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25760" y="419724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Fi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84280" y="4403880"/>
            <a:ext cx="771480" cy="426600"/>
            <a:chOff x="1484280" y="4403880"/>
            <a:chExt cx="771480" cy="426600"/>
          </a:xfrm>
        </p:grpSpPr>
        <p:sp>
          <p:nvSpPr>
            <p:cNvPr id="211" name=""/>
            <p:cNvSpPr/>
            <p:nvPr/>
          </p:nvSpPr>
          <p:spPr>
            <a:xfrm>
              <a:off x="1484280" y="4403880"/>
              <a:ext cx="771480" cy="426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4280" y="4403880"/>
              <a:ext cx="771480" cy="4266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552320" y="4449600"/>
            <a:ext cx="72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 &amp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95160" y="456876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zardou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51680" y="4687920"/>
            <a:ext cx="49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84280" y="4889520"/>
            <a:ext cx="771480" cy="322200"/>
            <a:chOff x="1484280" y="4889520"/>
            <a:chExt cx="771480" cy="322200"/>
          </a:xfrm>
        </p:grpSpPr>
        <p:sp>
          <p:nvSpPr>
            <p:cNvPr id="217" name=""/>
            <p:cNvSpPr/>
            <p:nvPr/>
          </p:nvSpPr>
          <p:spPr>
            <a:xfrm>
              <a:off x="1484280" y="488952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4280" y="488952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657440" y="4938840"/>
            <a:ext cx="479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ns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5440" y="502920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85880" y="3171960"/>
            <a:ext cx="842760" cy="322200"/>
            <a:chOff x="2585880" y="3171960"/>
            <a:chExt cx="842760" cy="322200"/>
          </a:xfrm>
        </p:grpSpPr>
        <p:sp>
          <p:nvSpPr>
            <p:cNvPr id="222" name=""/>
            <p:cNvSpPr/>
            <p:nvPr/>
          </p:nvSpPr>
          <p:spPr>
            <a:xfrm>
              <a:off x="2585880" y="31719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5880" y="31719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799360" y="3279600"/>
            <a:ext cx="38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85880" y="3602160"/>
            <a:ext cx="842760" cy="322200"/>
            <a:chOff x="2585880" y="3602160"/>
            <a:chExt cx="842760" cy="322200"/>
          </a:xfrm>
        </p:grpSpPr>
        <p:sp>
          <p:nvSpPr>
            <p:cNvPr id="226" name=""/>
            <p:cNvSpPr/>
            <p:nvPr/>
          </p:nvSpPr>
          <p:spPr>
            <a:xfrm>
              <a:off x="2585880" y="36021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5880" y="36021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84160" y="3651120"/>
            <a:ext cx="65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mergency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62280" y="376884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85880" y="4030560"/>
            <a:ext cx="842760" cy="322200"/>
            <a:chOff x="2585880" y="4030560"/>
            <a:chExt cx="842760" cy="322200"/>
          </a:xfrm>
        </p:grpSpPr>
        <p:sp>
          <p:nvSpPr>
            <p:cNvPr id="231" name=""/>
            <p:cNvSpPr/>
            <p:nvPr/>
          </p:nvSpPr>
          <p:spPr>
            <a:xfrm>
              <a:off x="2585880" y="40305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5880" y="40305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692440" y="4079880"/>
            <a:ext cx="63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85600" y="4197240"/>
            <a:ext cx="64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85880" y="4460760"/>
            <a:ext cx="842760" cy="322200"/>
            <a:chOff x="2585880" y="4460760"/>
            <a:chExt cx="842760" cy="322200"/>
          </a:xfrm>
        </p:grpSpPr>
        <p:sp>
          <p:nvSpPr>
            <p:cNvPr id="236" name=""/>
            <p:cNvSpPr/>
            <p:nvPr/>
          </p:nvSpPr>
          <p:spPr>
            <a:xfrm>
              <a:off x="2585880" y="446076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5880" y="446076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794320" y="450864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-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14360" y="45086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8360" y="4627440"/>
            <a:ext cx="77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munic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585880" y="4889520"/>
            <a:ext cx="842760" cy="322200"/>
            <a:chOff x="2585880" y="4889520"/>
            <a:chExt cx="842760" cy="322200"/>
          </a:xfrm>
        </p:grpSpPr>
        <p:sp>
          <p:nvSpPr>
            <p:cNvPr id="242" name=""/>
            <p:cNvSpPr/>
            <p:nvPr/>
          </p:nvSpPr>
          <p:spPr>
            <a:xfrm>
              <a:off x="2585880" y="488952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5880" y="488952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805480" y="49388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2160" y="505620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amp; Shipp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08520" y="3171960"/>
            <a:ext cx="769680" cy="322200"/>
            <a:chOff x="3908520" y="3171960"/>
            <a:chExt cx="769680" cy="322200"/>
          </a:xfrm>
        </p:grpSpPr>
        <p:sp>
          <p:nvSpPr>
            <p:cNvPr id="247" name=""/>
            <p:cNvSpPr/>
            <p:nvPr/>
          </p:nvSpPr>
          <p:spPr>
            <a:xfrm>
              <a:off x="3908520" y="3171960"/>
              <a:ext cx="7696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8520" y="3171960"/>
              <a:ext cx="7696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61080" y="320040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76640" y="33386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789440" y="3171960"/>
            <a:ext cx="771480" cy="322200"/>
            <a:chOff x="4789440" y="3171960"/>
            <a:chExt cx="771480" cy="322200"/>
          </a:xfrm>
        </p:grpSpPr>
        <p:sp>
          <p:nvSpPr>
            <p:cNvPr id="252" name=""/>
            <p:cNvSpPr/>
            <p:nvPr/>
          </p:nvSpPr>
          <p:spPr>
            <a:xfrm>
              <a:off x="4789440" y="3171960"/>
              <a:ext cx="7714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8944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36040" y="327960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m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670720" y="3171960"/>
            <a:ext cx="771480" cy="322200"/>
            <a:chOff x="5670720" y="3171960"/>
            <a:chExt cx="771480" cy="322200"/>
          </a:xfrm>
        </p:grpSpPr>
        <p:sp>
          <p:nvSpPr>
            <p:cNvPr id="256" name=""/>
            <p:cNvSpPr/>
            <p:nvPr/>
          </p:nvSpPr>
          <p:spPr>
            <a:xfrm>
              <a:off x="5670720" y="3171960"/>
              <a:ext cx="77148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70720" y="317196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51360" y="3220920"/>
            <a:ext cx="689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81600" y="333864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y Asse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551640" y="3171960"/>
            <a:ext cx="839520" cy="322200"/>
            <a:chOff x="6551640" y="3171960"/>
            <a:chExt cx="839520" cy="322200"/>
          </a:xfrm>
        </p:grpSpPr>
        <p:sp>
          <p:nvSpPr>
            <p:cNvPr id="261" name=""/>
            <p:cNvSpPr/>
            <p:nvPr/>
          </p:nvSpPr>
          <p:spPr>
            <a:xfrm>
              <a:off x="6551640" y="3171960"/>
              <a:ext cx="839520" cy="322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1640" y="3171960"/>
              <a:ext cx="83952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737760" y="32209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clea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0400" y="3338640"/>
            <a:ext cx="72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wer Plan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484280" y="5319720"/>
            <a:ext cx="771480" cy="322200"/>
            <a:chOff x="1484280" y="5319720"/>
            <a:chExt cx="771480" cy="322200"/>
          </a:xfrm>
        </p:grpSpPr>
        <p:sp>
          <p:nvSpPr>
            <p:cNvPr id="266" name=""/>
            <p:cNvSpPr/>
            <p:nvPr/>
          </p:nvSpPr>
          <p:spPr>
            <a:xfrm>
              <a:off x="1484280" y="5319720"/>
              <a:ext cx="77148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4280" y="5319720"/>
              <a:ext cx="77148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29800" y="5427720"/>
            <a:ext cx="3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85880" y="5319720"/>
            <a:ext cx="842760" cy="322200"/>
            <a:chOff x="2585880" y="5319720"/>
            <a:chExt cx="842760" cy="322200"/>
          </a:xfrm>
        </p:grpSpPr>
        <p:sp>
          <p:nvSpPr>
            <p:cNvPr id="270" name=""/>
            <p:cNvSpPr/>
            <p:nvPr/>
          </p:nvSpPr>
          <p:spPr>
            <a:xfrm>
              <a:off x="2585880" y="5319720"/>
              <a:ext cx="8427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5880" y="5319720"/>
              <a:ext cx="8427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589120" y="5410080"/>
            <a:ext cx="81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19040" y="376236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19040" y="4192560"/>
            <a:ext cx="16704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19040" y="462132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19040" y="5051520"/>
            <a:ext cx="167040" cy="42840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21000" y="2957400"/>
            <a:ext cx="550800" cy="214560"/>
          </a:xfrm>
          <a:custGeom>
            <a:avLst/>
            <a:gdLst/>
            <a:ahLst/>
            <a:rect l="l" t="t" r="r" b="b"/>
            <a:pathLst>
              <a:path w="347" h="135">
                <a:moveTo>
                  <a:pt x="0" y="0"/>
                </a:moveTo>
                <a:lnTo>
                  <a:pt x="0" y="68"/>
                </a:lnTo>
                <a:lnTo>
                  <a:pt x="347" y="68"/>
                </a:lnTo>
                <a:lnTo>
                  <a:pt x="347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21000" y="3333600"/>
            <a:ext cx="16668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21000" y="3762360"/>
            <a:ext cx="16668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21000" y="4192560"/>
            <a:ext cx="166680" cy="42876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21000" y="4621320"/>
            <a:ext cx="16668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21000" y="5051520"/>
            <a:ext cx="166680" cy="428400"/>
          </a:xfrm>
          <a:custGeom>
            <a:avLst/>
            <a:gdLst/>
            <a:ahLst/>
            <a:rect l="l" t="t" r="r" b="b"/>
            <a:pathLst>
              <a:path w="105" h="270">
                <a:moveTo>
                  <a:pt x="104" y="0"/>
                </a:moveTo>
                <a:lnTo>
                  <a:pt x="0" y="0"/>
                </a:lnTo>
                <a:lnTo>
                  <a:pt x="0" y="270"/>
                </a:lnTo>
                <a:lnTo>
                  <a:pt x="105" y="270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2367000"/>
            <a:ext cx="1706400" cy="268200"/>
          </a:xfrm>
          <a:custGeom>
            <a:avLst/>
            <a:gdLst/>
            <a:ahLst/>
            <a:rect l="l" t="t" r="r" b="b"/>
            <a:pathLst>
              <a:path w="1075" h="169">
                <a:moveTo>
                  <a:pt x="1075" y="0"/>
                </a:moveTo>
                <a:lnTo>
                  <a:pt x="1075" y="85"/>
                </a:lnTo>
                <a:lnTo>
                  <a:pt x="0" y="85"/>
                </a:lnTo>
                <a:lnTo>
                  <a:pt x="0" y="169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27400" y="2367000"/>
            <a:ext cx="1487520" cy="268200"/>
          </a:xfrm>
          <a:custGeom>
            <a:avLst/>
            <a:gdLst/>
            <a:ahLst/>
            <a:rect l="l" t="t" r="r" b="b"/>
            <a:pathLst>
              <a:path w="937" h="169">
                <a:moveTo>
                  <a:pt x="0" y="0"/>
                </a:moveTo>
                <a:lnTo>
                  <a:pt x="0" y="85"/>
                </a:lnTo>
                <a:lnTo>
                  <a:pt x="937" y="85"/>
                </a:lnTo>
                <a:lnTo>
                  <a:pt x="937" y="169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94080" y="2957400"/>
            <a:ext cx="1320840" cy="214560"/>
          </a:xfrm>
          <a:custGeom>
            <a:avLst/>
            <a:gdLst/>
            <a:ahLst/>
            <a:rect l="l" t="t" r="r" b="b"/>
            <a:pathLst>
              <a:path w="832" h="135">
                <a:moveTo>
                  <a:pt x="832" y="0"/>
                </a:moveTo>
                <a:lnTo>
                  <a:pt x="832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75360" y="2957400"/>
            <a:ext cx="439560" cy="214560"/>
          </a:xfrm>
          <a:custGeom>
            <a:avLst/>
            <a:gdLst/>
            <a:ahLst/>
            <a:rect l="l" t="t" r="r" b="b"/>
            <a:pathLst>
              <a:path w="277" h="135">
                <a:moveTo>
                  <a:pt x="277" y="0"/>
                </a:moveTo>
                <a:lnTo>
                  <a:pt x="277" y="68"/>
                </a:lnTo>
                <a:lnTo>
                  <a:pt x="0" y="68"/>
                </a:lnTo>
                <a:lnTo>
                  <a:pt x="0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4920" y="2957400"/>
            <a:ext cx="1322280" cy="214560"/>
          </a:xfrm>
          <a:custGeom>
            <a:avLst/>
            <a:gdLst/>
            <a:ahLst/>
            <a:rect l="l" t="t" r="r" b="b"/>
            <a:pathLst>
              <a:path w="833" h="135">
                <a:moveTo>
                  <a:pt x="0" y="0"/>
                </a:moveTo>
                <a:lnTo>
                  <a:pt x="0" y="68"/>
                </a:lnTo>
                <a:lnTo>
                  <a:pt x="833" y="68"/>
                </a:lnTo>
                <a:lnTo>
                  <a:pt x="833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484280" y="5748480"/>
            <a:ext cx="828360" cy="322200"/>
            <a:chOff x="1484280" y="5748480"/>
            <a:chExt cx="828360" cy="322200"/>
          </a:xfrm>
        </p:grpSpPr>
        <p:sp>
          <p:nvSpPr>
            <p:cNvPr id="289" name=""/>
            <p:cNvSpPr/>
            <p:nvPr/>
          </p:nvSpPr>
          <p:spPr>
            <a:xfrm>
              <a:off x="1484280" y="5748480"/>
              <a:ext cx="828360" cy="322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84280" y="5748480"/>
              <a:ext cx="828360" cy="32220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49080" y="58561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19040" y="5479920"/>
            <a:ext cx="167040" cy="430200"/>
          </a:xfrm>
          <a:custGeom>
            <a:avLst/>
            <a:gdLst/>
            <a:ahLst/>
            <a:rect l="l" t="t" r="r" b="b"/>
            <a:pathLst>
              <a:path w="105" h="271">
                <a:moveTo>
                  <a:pt x="104" y="0"/>
                </a:moveTo>
                <a:lnTo>
                  <a:pt x="0" y="0"/>
                </a:lnTo>
                <a:lnTo>
                  <a:pt x="0" y="271"/>
                </a:lnTo>
                <a:lnTo>
                  <a:pt x="105" y="271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14920" y="2957400"/>
            <a:ext cx="441360" cy="214560"/>
          </a:xfrm>
          <a:custGeom>
            <a:avLst/>
            <a:gdLst/>
            <a:ahLst/>
            <a:rect l="l" t="t" r="r" b="b"/>
            <a:pathLst>
              <a:path w="278" h="135">
                <a:moveTo>
                  <a:pt x="0" y="0"/>
                </a:moveTo>
                <a:lnTo>
                  <a:pt x="0" y="68"/>
                </a:lnTo>
                <a:lnTo>
                  <a:pt x="278" y="68"/>
                </a:lnTo>
                <a:lnTo>
                  <a:pt x="278" y="135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038480"/>
            <a:ext cx="4343400" cy="38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7560" y="40384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248600" y="0"/>
            <a:ext cx="1895400" cy="24573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80808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F17-9F60-4345-BC24-6B0CA25610EA}" type="slidenum">
              <a:t>7</a:t>
            </a:fld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Tahoma"/>
              </a:rPr>
              <a:t>Business Continuity in a Pandemic Age</a:t>
            </a:r>
            <a:br>
              <a:rPr sz="2400"/>
            </a:b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Continuity of Operations Plan-Essential (COP-E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upporting Businesses to Refine their Exis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lans to Account for a Catastrophic Disaster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Extending the Business Disaster Planning Continu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6234120"/>
            <a:ext cx="2146320" cy="623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76520" y="2209680"/>
            <a:ext cx="0" cy="32004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76520" y="5410080"/>
            <a:ext cx="6933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117360" y="3233880"/>
            <a:ext cx="32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ncreas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Disaster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ver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676520" y="2895120"/>
            <a:ext cx="5181480" cy="2514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7360" y="525780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Norm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ccff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1911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cc00"/>
                </a:solidFill>
                <a:latin typeface="Arial"/>
              </a:rPr>
              <a:t>Basic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Conting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Pl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3880" y="4775040"/>
            <a:ext cx="1954800" cy="459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Localized power outag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Plant fire, IT fail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34290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ntinuity of Operations Plan (COO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274320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Continuity of Operations Plan-Essential (COP-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27160" y="4013280"/>
            <a:ext cx="2303640" cy="641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jor Hurricane, Earthqu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or Flood, Localized Terrori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nventional or Bio-attack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88200" y="5486400"/>
            <a:ext cx="62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ncreas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mpacts on CI/KR and National Economy and Social St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06640" y="3124080"/>
            <a:ext cx="248364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ndemic Influenz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assive Bio, Chemic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r Radiological Even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at 5 Hurricane, 8/0 Earthqu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0" t="0" r="0" b="9032"/>
          <a:stretch/>
        </p:blipFill>
        <p:spPr>
          <a:xfrm rot="6916800">
            <a:off x="8209440" y="857880"/>
            <a:ext cx="725400" cy="83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A54-CB2B-44C4-86E5-5E31A73340D3}" type="slidenum">
              <a:t>8</a:t>
            </a:fld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Guide to “COP-E”</a:t>
            </a:r>
            <a:br>
              <a:rPr sz="4000"/>
            </a:br>
            <a:r>
              <a:rPr b="1" lang="en-US" sz="2200" spc="-1" strike="noStrike">
                <a:solidFill>
                  <a:srgbClr val="ffff66"/>
                </a:solidFill>
                <a:latin typeface="Tahoma"/>
              </a:rPr>
              <a:t>Continuity of Operations Plan-Essential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The Pandemic Guide for CI/KR and COP-E Pla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troduces a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ategic framework to extend and refine business continuity planning based on severe pandemic-specific impacts. The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OP-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proces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defines “Essential” functions, operations and peop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integrates Business and Health-related Assump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utlines the government’s proposed disease mitigation strategies, and the potential impacts for business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ffers specific actions businesses can take to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repare for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spond to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, and </a:t>
            </a: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cover from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 a pandemic outbreak;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presents useful COP-E scenarios as planning tools for private sector critical infrastructure partners—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Small businesses and Fortune 500 companies, alike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—to tailor continuity planning to their specific need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248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28600" y="6215040"/>
            <a:ext cx="220968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The deadly strain of the bird flu virus has reached Turkey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035-A011-4A52-995F-C9E3DD4A8FD1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4:57Z</dcterms:created>
  <dc:creator>greenj</dc:creator>
  <dc:description/>
  <dc:language>en-US</dc:language>
  <cp:lastModifiedBy>AMSA</cp:lastModifiedBy>
  <dcterms:modified xsi:type="dcterms:W3CDTF">2006-05-01T18:55:47Z</dcterms:modified>
  <cp:revision>90</cp:revision>
  <dc:subject/>
  <dc:title>CI/KR Pandemic Preparedness, Response, and Recovery Continuity of Operations Plan-Essential (COPE)</dc:title>
</cp:coreProperties>
</file>