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D30F-A71A-401C-947E-2A5900E47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79320" y="401832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75CA-DA93-49D0-AC5C-7385D1A00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0180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9081-39FB-49EE-9F48-83DD5D9E8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148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328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7932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148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328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8B21-A0A8-43F1-A544-9CC59D602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79320" y="152280"/>
            <a:ext cx="746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55C3-17A5-4D5A-AE1A-003BC76A6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0180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79320" y="401832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0180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0148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3280" y="132984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7932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0148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3280" y="4018320"/>
            <a:ext cx="2401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9CEA-B3D9-4C77-B124-091264F17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7506-9618-47F0-92A0-25857F0A0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FF5B-99AF-4641-A543-A8D7A9780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79320" y="152280"/>
            <a:ext cx="746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71D4-FED5-44E4-B253-5F33E907F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0516-3D88-4C98-96B7-6C90DEC01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01800" y="401832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CD9E-38E8-49AA-90F4-0ED1554FF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7932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1800" y="1329840"/>
            <a:ext cx="36399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79320" y="4018320"/>
            <a:ext cx="7459560" cy="24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C91E-1F50-4896-9A7C-C95C69C22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320" y="0"/>
            <a:ext cx="132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79320" y="132984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568440" indent="-21924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2" marL="911160" indent="-225360">
              <a:spcBef>
                <a:spcPts val="7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3" marL="1257480" indent="-23184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4" marL="1606680" indent="-235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5" marL="16066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6" marL="1606680" indent="-235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67000" y="64926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4550-17AE-4518-A4C5-C8D437331169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1066680"/>
            <a:ext cx="7658280" cy="0"/>
          </a:xfrm>
          <a:prstGeom prst="line">
            <a:avLst/>
          </a:prstGeom>
          <a:ln w="28440">
            <a:solidFill>
              <a:srgbClr val="2d2d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301" r="0" b="15471"/>
          <a:stretch/>
        </p:blipFill>
        <p:spPr>
          <a:xfrm>
            <a:off x="0" y="0"/>
            <a:ext cx="13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7000" y="0"/>
            <a:ext cx="132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1280" y="5742000"/>
            <a:ext cx="1186200" cy="1011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349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685800" algn="ctr">
              <a:spcBef>
                <a:spcPts val="55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1" lang="en-US" sz="2200" spc="-1" strike="noStrike">
              <a:solidFill>
                <a:srgbClr val="333399"/>
              </a:solidFill>
              <a:latin typeface="Times New Roman"/>
            </a:endParaRPr>
          </a:p>
          <a:p>
            <a:pPr lvl="3" marL="1025640" algn="ctr"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4" marL="1371600" algn="ctr"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16765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lectronic Evidence and Document Retention in the Digital Ag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9625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Presented 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ephen M. Prign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dwards Angell Palmer &amp; Dodge L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71625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Emerging Electronic Discovery Case La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Zubulake v. UBS Warburg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329840"/>
            <a:ext cx="745992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, 217 F.R.D. 309 (S.D.N.Y. 2003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I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, 2003 WL 21087136 (S.D.N.Y. 2003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II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, 216 F.R.D. 280 (S.D.N.Y. 2003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IV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220 F.R.D. 212 (S.D.N.Y. 2003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V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2004 WL 1620866 (S.D.N.Y. 2004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V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2005 WL 266766 (S.D.N.Y. 2005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Zubulake VII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 2005 WL 627638 (S.D.N.Y. 2005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What the Court Found: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329840"/>
            <a:ext cx="745992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nsel failed to identify all key players, including IS personn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nsel failed to ascertain key players’ “document management habits”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nsel failed to locate all relevant inform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nsel failed to monitor compliance with litigation stop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icit finding that counsel withheld evidenc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130120"/>
            <a:ext cx="6705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mendments to Federal Rules of Civil Procedure 26-37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56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When Is a Document Not a Document? </a:t>
            </a:r>
            <a:br>
              <a:rPr sz="3000"/>
            </a:b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(When It’s Electronically Stored Information)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1711440"/>
            <a:ext cx="74595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mendments create a separate category for “electronically stored information.”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category is intended to capture all current forms of electronic data as well as future changes in technology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56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Rules Affected By Changes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711440"/>
            <a:ext cx="74595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16 (Pretrial Conference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26 (General Provision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33 (Interrogatorie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34 (Production of Document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37 (Sanction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le 45 (Subpoenas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Procedure under amended Rule 26(b)(2)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9680" y="1599840"/>
            <a:ext cx="7107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sponding party need not produce data identified as “not reasonably accessible”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n motion of propounding party, responding party must demonstrate data is not reasonably accessibl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f showing is made, Court may still order production for “good cause”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rt may also specify terms and conditions for produc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hanges to Rule 34 – Production of . . . Data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107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quests should now specify production of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any designated electronically stored information or any designated documents.”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opounding party may request testing or sampling of electronically stored data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opounding party may specify the form in which electronic data is to be produced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716256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Lessons from </a:t>
            </a:r>
            <a:r>
              <a:rPr b="1" lang="en-US" sz="4000" spc="-1" strike="noStrike" u="sng">
                <a:solidFill>
                  <a:srgbClr val="ff9933"/>
                </a:solidFill>
                <a:uFillTx/>
                <a:latin typeface="Times New Roman"/>
              </a:rPr>
              <a:t>Zubulake</a:t>
            </a: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 and the Amendments to the Federal Rules of Civil Procedur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Golden Rule -- Have a Comprehensive Document Retention Policy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329840"/>
            <a:ext cx="759132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fines purpose and identifies business or regulatory need for inform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pplies to electronic data and establishes procedures specific to electronically stored inform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larifies responsibilities of key personne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pplied in uniform manner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ovides a procedure for interruption in the event of litigat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tablishes document/data destruction log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stablishes a verification procedure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79320" y="323640"/>
            <a:ext cx="746892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rap for the Unwary –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Failure to Preserve Document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hillip Morris -- $2.99 million fine for failure to preserve document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UBS Warburg/Zubulake --  Spoliation instruction lead to $29 Million Verdict (included $20 Million for Punitive Damages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Kucala Enterprises, Ltd. – Patent infringement suit dismissed and sanctions awarded for failure to preserve e-mails and other electronic document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601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organ Stanley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$1.6 billion verdict as a result of botched E-Discovery compliance (included $850 million in punitive damages for litigation misconduct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Put in Place a Litigation Hold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4595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en litigation is possible – duty to preserve arises “when a party should have known that the evidence may be relevant to future litigation.”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en a federal investigation is contemplated (Sarbanes-Oxley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§ 802)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eiterate litigation hold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nitor complianc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gregate/preserve back-up tap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66640" y="152280"/>
            <a:ext cx="7600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Electronic Evidence Is Everyone’s Problem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93% of documents are created electronically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70% of documents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never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migrate to paper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1% of employee e-mail has been subpoenaed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3% of companies face lawsuits based on employee e-mail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46% of companies do not have an e-mail policy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94% of companies fail to retain or archive IM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50% of workplace IM users send/receive risky content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65% of companies lack electronic document retention policie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83% of corporate counsel have no protocol to respond to document requests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Sanctions Are Commonplace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459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egligent E-discovery Has Been Sanctioned In All 12 Federal Circuits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urts grant sanctions 65% of the tim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fendants are sanctioned 81% of the time; Plaintiffs are sanctioned only 19% of the tim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anctions are more likely for destruction/non-production of documents (84%) than for production delay (16%)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What Is Electronic Evidence?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329840"/>
            <a:ext cx="701064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ocuments and data are “electronic” if …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y exist in a medium that can only be read through the use of computer or other electronic device.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Electronic Evidence Is Different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olum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uplicability/Dispersion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posability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angeability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etadata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bsolescenc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archability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ttorney-Client Privilege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The Capacity Solution/Problem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79680" y="1330200"/>
          <a:ext cx="7459200" cy="5146560"/>
        </p:xfrm>
        <a:graphic>
          <a:graphicData uri="http://schemas.openxmlformats.org/drawingml/2006/table">
            <a:tbl>
              <a:tblPr/>
              <a:tblGrid>
                <a:gridCol w="2486160"/>
                <a:gridCol w="2486520"/>
                <a:gridCol w="248652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Flo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44 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00 p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00 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DV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.7 G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6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Hard Dr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0 G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20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ack-up T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00 G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800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Examples of Electronic Evidence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711440"/>
            <a:ext cx="745956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-Mail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ord Processing and Spreadsheet Fil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tabase Fil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stant Messaging Log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ectronically generated engineering drawing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canned images – PDF’s, GIFF’s, TIFF’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gital Photographs – JPEG’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79320" y="152280"/>
            <a:ext cx="7468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Also Includes …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84080" y="1294920"/>
            <a:ext cx="7459560" cy="51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oice-mail messages and fil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ack-up voice-mail tap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eb-site information, including log fil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etadata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oki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235080" indent="-235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ther electronically recorded information, found on hard drives, servers, PDAs, Blackberrys, cell phones, digital cameras, printers and fax machines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5:40:59Z</dcterms:created>
  <dc:creator>EAUSER</dc:creator>
  <dc:description/>
  <dc:language>en-US</dc:language>
  <cp:lastModifiedBy>EAUSER</cp:lastModifiedBy>
  <dcterms:modified xsi:type="dcterms:W3CDTF">2006-11-14T15:10:00Z</dcterms:modified>
  <cp:revision>110</cp:revision>
  <dc:subject/>
  <dc:title>PRESERVATION OF ELECTRONIC EVIDENCE</dc:title>
</cp:coreProperties>
</file>