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86FD4-9BD2-4B07-9160-B9799669E7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79320" y="152280"/>
            <a:ext cx="7468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79320" y="1329840"/>
            <a:ext cx="7459560" cy="24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79320" y="4018320"/>
            <a:ext cx="7459560" cy="24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85DD8-1D16-485A-B804-1236083E82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79320" y="152280"/>
            <a:ext cx="7468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79320" y="1329840"/>
            <a:ext cx="3639960" cy="24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01800" y="1329840"/>
            <a:ext cx="3639960" cy="24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79320" y="4018320"/>
            <a:ext cx="3639960" cy="24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01800" y="4018320"/>
            <a:ext cx="3639960" cy="24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F9E4F-3B6C-4520-BC1E-733B6A7791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79320" y="152280"/>
            <a:ext cx="7468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79320" y="1329840"/>
            <a:ext cx="2401560" cy="24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1480" y="1329840"/>
            <a:ext cx="2401560" cy="24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23280" y="1329840"/>
            <a:ext cx="2401560" cy="24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79320" y="4018320"/>
            <a:ext cx="2401560" cy="24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1480" y="4018320"/>
            <a:ext cx="2401560" cy="24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23280" y="4018320"/>
            <a:ext cx="2401560" cy="24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302C7-DF9D-492E-A0E7-3DAD999C79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79320" y="152280"/>
            <a:ext cx="7468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579320" y="1329840"/>
            <a:ext cx="7459560" cy="514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79320" y="152280"/>
            <a:ext cx="7468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79320" y="1329840"/>
            <a:ext cx="7459560" cy="514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79320" y="152280"/>
            <a:ext cx="7468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79320" y="1329840"/>
            <a:ext cx="3639960" cy="514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401800" y="1329840"/>
            <a:ext cx="3639960" cy="514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79320" y="152280"/>
            <a:ext cx="7468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579320" y="152280"/>
            <a:ext cx="7468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79320" y="152280"/>
            <a:ext cx="7468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79320" y="1329840"/>
            <a:ext cx="3639960" cy="24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401800" y="1329840"/>
            <a:ext cx="3639960" cy="514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579320" y="4018320"/>
            <a:ext cx="3639960" cy="24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79320" y="152280"/>
            <a:ext cx="7468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79320" y="1329840"/>
            <a:ext cx="7459560" cy="514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EA5FC-C802-4CD7-9ADD-FA8EEC9532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79320" y="152280"/>
            <a:ext cx="7468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79320" y="1329840"/>
            <a:ext cx="3639960" cy="514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401800" y="1329840"/>
            <a:ext cx="3639960" cy="24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401800" y="4018320"/>
            <a:ext cx="3639960" cy="24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79320" y="152280"/>
            <a:ext cx="7468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79320" y="1329840"/>
            <a:ext cx="3639960" cy="24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401800" y="1329840"/>
            <a:ext cx="3639960" cy="24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579320" y="4018320"/>
            <a:ext cx="7459560" cy="24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79320" y="152280"/>
            <a:ext cx="7468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79320" y="1329840"/>
            <a:ext cx="7459560" cy="24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579320" y="4018320"/>
            <a:ext cx="7459560" cy="24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79320" y="152280"/>
            <a:ext cx="7468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79320" y="1329840"/>
            <a:ext cx="3639960" cy="24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01800" y="1329840"/>
            <a:ext cx="3639960" cy="24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79320" y="4018320"/>
            <a:ext cx="3639960" cy="24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401800" y="4018320"/>
            <a:ext cx="3639960" cy="24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79320" y="152280"/>
            <a:ext cx="7468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79320" y="1329840"/>
            <a:ext cx="2401560" cy="24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101480" y="1329840"/>
            <a:ext cx="2401560" cy="24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23280" y="1329840"/>
            <a:ext cx="2401560" cy="24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579320" y="4018320"/>
            <a:ext cx="2401560" cy="24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101480" y="4018320"/>
            <a:ext cx="2401560" cy="24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23280" y="4018320"/>
            <a:ext cx="2401560" cy="24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79320" y="152280"/>
            <a:ext cx="7468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79320" y="1329840"/>
            <a:ext cx="7459560" cy="514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EB920-C4FD-4338-B783-B151FCBF5A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79320" y="152280"/>
            <a:ext cx="7468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79320" y="1329840"/>
            <a:ext cx="3639960" cy="514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01800" y="1329840"/>
            <a:ext cx="3639960" cy="514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99E93-F003-4F1E-8B8D-4FAF97FF9D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79320" y="152280"/>
            <a:ext cx="7468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A64DD-3865-4687-85B3-AB877E7B60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79320" y="152280"/>
            <a:ext cx="7468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A5382-3B64-4174-99F1-562DC17974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79320" y="152280"/>
            <a:ext cx="7468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79320" y="1329840"/>
            <a:ext cx="3639960" cy="24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01800" y="1329840"/>
            <a:ext cx="3639960" cy="514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79320" y="4018320"/>
            <a:ext cx="3639960" cy="24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4A74A-D27C-4687-9981-7B310AFA35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79320" y="152280"/>
            <a:ext cx="7468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79320" y="1329840"/>
            <a:ext cx="3639960" cy="514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01800" y="1329840"/>
            <a:ext cx="3639960" cy="24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01800" y="4018320"/>
            <a:ext cx="3639960" cy="24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6F312-7CA4-4807-A042-8A8CDE286B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79320" y="152280"/>
            <a:ext cx="7468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79320" y="1329840"/>
            <a:ext cx="3639960" cy="24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01800" y="1329840"/>
            <a:ext cx="3639960" cy="24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79320" y="4018320"/>
            <a:ext cx="7459560" cy="24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87B33-E913-42DB-BDF1-270872A7E5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9320" y="0"/>
            <a:ext cx="132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79320" y="152280"/>
            <a:ext cx="7468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79320" y="1329840"/>
            <a:ext cx="7459560" cy="514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568440" indent="-219240">
              <a:spcBef>
                <a:spcPts val="700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2" marL="911160" indent="-225360">
              <a:spcBef>
                <a:spcPts val="700"/>
              </a:spcBef>
              <a:buClr>
                <a:srgbClr val="ff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3" marL="1257480" indent="-23184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4" marL="1606680" indent="-235080">
              <a:spcBef>
                <a:spcPts val="700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5" marL="1606680" indent="-235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6" marL="1606680" indent="-235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867000" y="649260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457C0-61DF-4EAA-A1AF-DF49ABF98F6B}" type="slidenum">
              <a:rPr b="0" lang="en-US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371600" y="1066680"/>
            <a:ext cx="7658280" cy="0"/>
          </a:xfrm>
          <a:prstGeom prst="line">
            <a:avLst/>
          </a:prstGeom>
          <a:ln w="28440">
            <a:solidFill>
              <a:srgbClr val="2d2d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1301" r="0" b="15471"/>
          <a:stretch/>
        </p:blipFill>
        <p:spPr>
          <a:xfrm>
            <a:off x="0" y="0"/>
            <a:ext cx="1386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-31680" y="0"/>
            <a:ext cx="9175680" cy="68817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914400"/>
            <a:ext cx="693432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-27000" y="0"/>
            <a:ext cx="132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1280" y="5742000"/>
            <a:ext cx="1186200" cy="1011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349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685800" algn="ctr">
              <a:spcBef>
                <a:spcPts val="550"/>
              </a:spcBef>
              <a:buClr>
                <a:srgbClr val="ff9933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1" lang="en-US" sz="2200" spc="-1" strike="noStrike">
              <a:solidFill>
                <a:srgbClr val="333399"/>
              </a:solidFill>
              <a:latin typeface="Times New Roman"/>
            </a:endParaRPr>
          </a:p>
          <a:p>
            <a:pPr lvl="3" marL="1025640" algn="ctr"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Fourth Outline Level</a:t>
            </a:r>
            <a:endParaRPr b="1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4" marL="1371600" algn="ctr"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Fifth Outline Level</a:t>
            </a:r>
            <a:endParaRPr b="1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Sixth Outline Level</a:t>
            </a:r>
            <a:endParaRPr b="1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Seventh Outline Level</a:t>
            </a:r>
            <a:endParaRPr b="1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52480" y="1676520"/>
            <a:ext cx="6934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Electronic Evidence and Document Retention in the Digital Ag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71600" y="3962520"/>
            <a:ext cx="7772400" cy="266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9900"/>
                </a:solidFill>
                <a:latin typeface="Times New Roman"/>
              </a:rPr>
              <a:t>Presented by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Stephen M. Prign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Edwards Angell Palmer &amp; Dodge LL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520" y="2130120"/>
            <a:ext cx="716256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Times New Roman"/>
              </a:rPr>
              <a:t>Emerging Electronic Discovery Case Law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79320" y="152280"/>
            <a:ext cx="7468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Zubulake v. UBS Warburg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3880" y="1329840"/>
            <a:ext cx="7459920" cy="514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Times New Roman"/>
              </a:rPr>
              <a:t>Zubulake I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, 217 F.R.D. 309 (S.D.N.Y. 2003)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Times New Roman"/>
              </a:rPr>
              <a:t>Zubulake II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, 2003 WL 21087136 (S.D.N.Y. 2003)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Times New Roman"/>
              </a:rPr>
              <a:t>Zubulake III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, 216 F.R.D. 280 (S.D.N.Y. 2003)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Times New Roman"/>
              </a:rPr>
              <a:t>Zubulake IV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, 220 F.R.D. 212 (S.D.N.Y. 2003)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Times New Roman"/>
              </a:rPr>
              <a:t>Zubulake V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, 2004 WL 1620866 (S.D.N.Y. 2004)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Times New Roman"/>
              </a:rPr>
              <a:t>Zubulake VI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, 2005 WL 266766 (S.D.N.Y. 2005)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Times New Roman"/>
              </a:rPr>
              <a:t>Zubulake VII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, 2005 WL 627638 (S.D.N.Y. 2005)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79320" y="152280"/>
            <a:ext cx="7468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What the Court Found: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3880" y="1329840"/>
            <a:ext cx="7459920" cy="514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ounsel failed to identify all key players, including IS personnel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ounsel failed to ascertain key players’ “document management habits” 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ounsel failed to locate all relevant information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ounsel failed to monitor compliance with litigation stop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Implicit finding that counsel withheld evidence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28440" y="2130120"/>
            <a:ext cx="670572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Times New Roman"/>
              </a:rPr>
              <a:t>Amendments to Federal Rules of Civil Procedure 26-37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920" y="152280"/>
            <a:ext cx="75643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When Is a Document Not a Document? </a:t>
            </a:r>
            <a:br>
              <a:rPr sz="3000"/>
            </a:b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(When It’s Electronically Stored Information)</a:t>
            </a:r>
            <a:endParaRPr b="1" lang="en-US" sz="3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7560" y="1711440"/>
            <a:ext cx="7459560" cy="51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Amendments create a separate category for “electronically stored information.”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he category is intended to capture all current forms of electronic data as well as future changes in technology.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7920" y="152280"/>
            <a:ext cx="75643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Rules Affected By Changes</a:t>
            </a:r>
            <a:endParaRPr b="1" lang="en-US" sz="3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47560" y="1711440"/>
            <a:ext cx="7459560" cy="51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Rule 16 (Pretrial Conference)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Rule 26 (General Provisions)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Rule 33 (Interrogatories)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Rule 34 (Production of Documents)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Rule 37 (Sanctions)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Rule 45 (Subpoenas)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79320" y="152280"/>
            <a:ext cx="7468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Procedure under amended Rule 26(b)(2)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79680" y="1599840"/>
            <a:ext cx="71071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Responding party need not produce data identified as “not reasonably accessible”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On motion of propounding party, responding party must demonstrate data is not reasonably accessible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If showing is made, Court may still order production for “good cause”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ourt may also specify terms and conditions for production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79320" y="152280"/>
            <a:ext cx="7468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Changes to Rule 34 – Production of . . . Data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520" y="1676520"/>
            <a:ext cx="7107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Requests should now specify production of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“any designated electronically stored information or any designated documents.”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Propounding party may request testing or sampling of electronically stored data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Propounding party may specify the form in which electronic data is to be produced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520" y="2130120"/>
            <a:ext cx="716256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Times New Roman"/>
              </a:rPr>
              <a:t>Lessons from </a:t>
            </a:r>
            <a:r>
              <a:rPr b="1" lang="en-US" sz="4000" spc="-1" strike="noStrike" u="sng">
                <a:solidFill>
                  <a:srgbClr val="ff9933"/>
                </a:solidFill>
                <a:uFillTx/>
                <a:latin typeface="Times New Roman"/>
              </a:rPr>
              <a:t>Zubulake</a:t>
            </a:r>
            <a:r>
              <a:rPr b="1" lang="en-US" sz="4000" spc="-1" strike="noStrike">
                <a:solidFill>
                  <a:srgbClr val="ff9933"/>
                </a:solidFill>
                <a:latin typeface="Times New Roman"/>
              </a:rPr>
              <a:t> and the Amendments to the Federal Rules of Civil Procedure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79320" y="152280"/>
            <a:ext cx="7468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Golden Rule -- Have a Comprehensive Document Retention Policy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47560" y="1329840"/>
            <a:ext cx="7591320" cy="514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Defines purpose and identifies business or regulatory need for information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Applies to electronic data and establishes procedures specific to electronically stored information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larifies responsibilities of key personnel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Applied in uniform manner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Provides a procedure for interruption in the event of litigation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Establishes document/data destruction logs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Establishes a verification procedure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79320" y="323640"/>
            <a:ext cx="7468920" cy="7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Trap for the Unwary –</a:t>
            </a:r>
            <a:br>
              <a:rPr sz="3200"/>
            </a:b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Failure to Preserve Documents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3880" y="137160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spcBef>
                <a:spcPts val="601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Phillip Morris -- $2.99 million fine for failure to preserve documents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spcBef>
                <a:spcPts val="601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UBS Warburg/Zubulake --  Spoliation instruction lead to $29 Million Verdict (included $20 Million for Punitive Damages)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spcBef>
                <a:spcPts val="601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Kucala Enterprises, Ltd. – Patent infringement suit dismissed and sanctions awarded for failure to preserve e-mails and other electronic documents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spcBef>
                <a:spcPts val="601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Morgan Stanley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—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$1.6 billion verdict as a result of botched E-Discovery compliance (included $850 million in punitive damages for litigation misconduct)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79320" y="152280"/>
            <a:ext cx="7468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Put in Place a Litigation Hold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47560" y="1371600"/>
            <a:ext cx="7459560" cy="51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When litigation is possible – duty to preserve arises “when a party should have known that the evidence may be relevant to future litigation.”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When a federal investigation is contemplated (Sarbanes-Oxley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§ 802).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Reiterate litigation hold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Monitor compliance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Segregate/preserve back-up tapes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66640" y="152280"/>
            <a:ext cx="7600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Electronic Evidence Is Everyone’s Problem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3880" y="137160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93% of documents are created electronically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70% of documents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</a:rPr>
              <a:t>never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migrate to paper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21% of employee e-mail has been subpoenaed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13% of companies face lawsuits based on employee e-mail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46% of companies do not have an e-mail policy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94% of companies fail to retain or archive IM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50% of workplace IM users send/receive risky content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65% of companies lack electronic document retention policies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83% of corporate counsel have no protocol to respond to document requests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79320" y="152280"/>
            <a:ext cx="7468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Sanctions Are Commonplace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4595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Negligent E-discovery Has Been Sanctioned In All 12 Federal Circuits 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ourts grant sanctions 65% of the time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Defendants are sanctioned 81% of the time; Plaintiffs are sanctioned only 19% of the time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Sanctions are more likely for destruction/non-production of documents (84%) than for production delay (16%).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79320" y="152280"/>
            <a:ext cx="7468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What Is Electronic Evidence?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3880" y="1329840"/>
            <a:ext cx="7010640" cy="514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Documents and data are “electronic” if … 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  “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hey exist in a medium that can only be read through the use of computer or other electronic device.”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79320" y="152280"/>
            <a:ext cx="7468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Electronic Evidence Is Different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99840" y="16765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Volume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Duplicability/Dispersion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Disposability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hangeability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Metadata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Obsolescence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Searchability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Attorney-Client Privilege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79320" y="152280"/>
            <a:ext cx="7468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The Capacity Solution/Problem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579680" y="1330200"/>
          <a:ext cx="7459200" cy="5146560"/>
        </p:xfrm>
        <a:graphic>
          <a:graphicData uri="http://schemas.openxmlformats.org/drawingml/2006/table">
            <a:tbl>
              <a:tblPr/>
              <a:tblGrid>
                <a:gridCol w="2486160"/>
                <a:gridCol w="2486520"/>
                <a:gridCol w="2486520"/>
              </a:tblGrid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Med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Capa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Pap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Flopp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.44 M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00 pag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C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700 M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9 Box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DV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4.7 G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66 Box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Hard Dr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30 G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420 Box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ack-up Ta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200 G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2800 Box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79320" y="152280"/>
            <a:ext cx="7468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Examples of Electronic Evidence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47560" y="1711440"/>
            <a:ext cx="7459560" cy="51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E-Mail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Word Processing and Spreadsheet Files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Database Files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Instant Messaging Logs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Electronically generated engineering drawings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Scanned images – PDF’s, GIFF’s, TIFF’s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Digital Photographs – JPEG’s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79320" y="152280"/>
            <a:ext cx="7468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Also Includes …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84080" y="1294920"/>
            <a:ext cx="7459560" cy="514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Voice-mail messages and files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Back-up voice-mail tapes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Web-site information, including log files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Metadata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ookies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Other electronically recorded information, found on hard drives, servers, PDAs, Blackberrys, cell phones, digital cameras, printers and fax machines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2T15:40:59Z</dcterms:created>
  <dc:creator>EAUSER</dc:creator>
  <dc:description/>
  <dc:language>en-US</dc:language>
  <cp:lastModifiedBy>EAUSER</cp:lastModifiedBy>
  <dcterms:modified xsi:type="dcterms:W3CDTF">2006-11-14T15:10:00Z</dcterms:modified>
  <cp:revision>110</cp:revision>
  <dc:subject/>
  <dc:title>PRESERVATION OF ELECTRONIC EVIDENCE</dc:title>
</cp:coreProperties>
</file>