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06F35-766F-4288-829B-4F112C12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4216-83AB-40A9-9FFD-BA23E014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E7AF-30B2-450A-A4FA-85D0F452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01EC-3D6F-4AE4-8EBE-CC1835A9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5D08-36A9-42FB-A0BC-AEAC9C27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8D25-AFE4-495C-959A-E86F1210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E04B-F861-4272-BBE9-4448D1B8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5D53-CA8E-4C93-9C28-C652C4C6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9FD8-8569-487F-93AC-4A6FE340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B003-D044-48C5-8D61-8DF87966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90A2-D3D9-41F3-8342-1957EF21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ADB7-C6C1-4A8D-B23F-425CE4EC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CE19-249C-44F6-A205-F5E2BBF2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0DE3-A032-4BD6-9AB7-10D9880E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87DC-A878-47E7-9898-259B020D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6550-DEB8-40EA-B6B2-4E7F673D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9B7C-73D6-4402-823F-7BA052C3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8AF39-D152-47B6-9EF0-D64A04D7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BE389-0898-4C68-B3C0-B29B774C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79C1-CD9B-4A89-981B-6B549964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E804-AF74-4A4B-BFE4-19FA0C73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17BC-1DF5-471F-8DD0-8269ECD3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2B83A-B23E-4EBD-A617-88C70C23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6266-54D4-4041-9D37-C22476AD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DCF3-E230-4135-AC25-E7490A6272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7C17-F6B2-40E9-964A-6A9ED09F72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W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HAT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S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THE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 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“P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OINT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” </a:t>
            </a:r>
            <a:br>
              <a:rPr sz="4400"/>
            </a:b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OF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 C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OMPLIANCE</a:t>
            </a:r>
            <a:br>
              <a:rPr sz="1600"/>
            </a:br>
            <a:br>
              <a:rPr sz="4400"/>
            </a:b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City of Indianapolis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A Case Study</a:t>
            </a:r>
            <a:endParaRPr b="1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semary G. Spa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LD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amp; 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M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ation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WA Law Sem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ston,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17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32600" y="5022720"/>
            <a:ext cx="1943280" cy="162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4367" t="7709" r="13059" b="6669"/>
          <a:stretch/>
        </p:blipFill>
        <p:spPr>
          <a:xfrm>
            <a:off x="165240" y="4095720"/>
            <a:ext cx="13874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Actual Results Will Vary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16383" r="0" b="0"/>
          <a:stretch/>
        </p:blipFill>
        <p:spPr>
          <a:xfrm>
            <a:off x="88920" y="1308240"/>
            <a:ext cx="899172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Negotiation Issues </a:t>
            </a:r>
            <a:br>
              <a:rPr sz="36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dentifying Compliance Measures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sign Criter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fines what you will build in design terms (MG, MGD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erformance Criter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fines how it will perform when bui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ritical Mileston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fines milestone dates for completing key stages in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napolis has only two: Bid Year and Achievement of Full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(See CD Exhibit 1; LTCP Section 7, Table 7-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Negotiation Issues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How many performance criteria do you need?</a:t>
            </a:r>
            <a:endParaRPr b="1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dianapolis proposed % capture as appropriate measure of compliance based upon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ze of collection syste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umber of CSO outfa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cipitation patter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PA wanted overflow frequency, but after compromise, demanded overflow frequency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% cap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Negotiation Issues</a:t>
            </a:r>
            <a:br>
              <a:rPr sz="40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Defining Performance Criteria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Performance Criteria Defin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overflow frequency, EPA demanded performance to no more than 2 and 4 per typical year (2.0 and 4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% capture, EPA demanded performance to 97.00% and 95.0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ty response:  We cannot commit to EPA’s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overflow frequency, model predictions have inherent 20% variabili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% capture, we cannot measure to that level of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eting EPA demands will have potential $130 million price tag and no certainty of compliance in the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ity willing to litigate this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ity rejected 4.0/2.0 overflow frequency and 97.00%/95.00% capture, EPA claimed city was “backing away” from its agre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Negotiation Issues</a:t>
            </a:r>
            <a:br>
              <a:rPr sz="36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Defining Performance Criteria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nal Performance Criteria Agre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-year (1996-2000) model simulation sh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7% or greater capture on Fall Creek waters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5% or greater capture on other watersh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or fewer CSO events into the Fall Creek watershed (2.4 average annual overflow frequ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or fewer CSO events into the other watersheds (4.8 average annual overflow frequ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(See LTCP Section 8.4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Negotiation Issues</a:t>
            </a:r>
            <a:br>
              <a:rPr sz="40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Measuring Performance Criteria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lect data for 12 months afte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letion of all control measure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a waters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n continuous simulation of CSO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charges using existing model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compare to actual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alibrate model, if nee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n continuous simulation fo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ears 1996-2000 to determine if performance criteria are m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vantage: data for 1996-2000 are known and can be used during desig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(See LTCP Section 8.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1523" r="0" b="0"/>
          <a:stretch/>
        </p:blipFill>
        <p:spPr>
          <a:xfrm>
            <a:off x="6477120" y="1371600"/>
            <a:ext cx="22287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Escape Hatch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if Performance Criteria are not m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plan for additional remedial measures to meet Performance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modification of Performance Criteria if remedial measures would be cost-prohibitive, infeasible or otherwise in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/IDEM approval required for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nclusion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ure that full implementation of the long-term control plan will result in compliance with NDPES permit requirements, water quality standards and the Clean Water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 and define the “point” of compliance through specific performance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agree to something you can’t meet, no matter what regulators 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otiate escape hatches in your permit or agre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ntac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osemary G. Spa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PALDING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&amp; H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ILMES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, 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30 South Downey Ave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anapolis, IN 462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(317) 375-04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palding@iquest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napolis Consent Decree with U.S. EPA and the Indiana Department of Environmental Management (ID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4, 2006 - CD lodged in Federal District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18, 2006 - Federal Register notice of 30-day public comment period (expires today - November 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pe: combined sewer overflows (CSOs) and sanitary sewer discharges (SS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nt Decree and Long-Term Control Plan available at:   www.indycleanstream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cope of Consent Decree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SO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 implementation of the city’s Nine Minimum Controls (NMC)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of the city’s $1.8 billion Long-Term Contro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49880" y="1273320"/>
            <a:ext cx="47559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cope of Consent Decree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D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d implement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ity’s Capacity Manage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, Operation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(CMOM)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ion of seven Capital Improvement Projects to address “chronic” SSD locations at estimated cost of $50.4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5536" t="13414" r="0" b="0"/>
          <a:stretch/>
        </p:blipFill>
        <p:spPr>
          <a:xfrm>
            <a:off x="5715000" y="1523880"/>
            <a:ext cx="289548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CSO Compliance Requirement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sent Decre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dianapolis’ remaining CSOs, if any, shall comply with Indianapolis’ Current Permits (Section VI.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¶ 2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PDES Permit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scharges from the CSOs listed herein shall not cause or contribute to violations of water quality standards or to the impairment of designated or existing uses. (Attachment A, Section 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diana Recreational Use Water Quality Criteria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ometric mean of 125 cfu/100 mL, based upon five equally spaced samples taken in a one-month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sample maximum of 235 cfu/100 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pliance Conundrum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2 CSO outfalls along 5 urban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-scale sewer separation to eliminate CSOs is neither cost-effective nor environmentally benefi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TCP’s storage &amp; conveyance solution won’t eliminate all C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CSO will violate Indiana’s current bacteria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fore, a change in WQSs is needed through UAA to ensure compliance after LTCP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ing Level of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ing Complianc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Performance Criteria do you ne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ng Performance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ing Performance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1911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Negotiation Issues </a:t>
            </a:r>
            <a:br>
              <a:rPr sz="36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Determining Level of Control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do you determine the appropriate level of CSO control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ee of the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ord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 Criteria: How do you describe/measure it?  Federal CSO Policy describes three alternativ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flow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remov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Negotiation Issues </a:t>
            </a:r>
            <a:br>
              <a:rPr sz="36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Determining Level of Control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upon knee of the curve and affordability analy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anapolis proposed 95% capture system w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A proposed overflow frequency of 2 overflow events  per typical year on Fall Creek and 3 on other watersh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negotiating, parties agreed in princip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7% capture for Fall Creek and 95% capture for other watersh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overflow events on Fall Creek and 4 overflow events on other watershe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38715" t="0" r="0" b="0"/>
          <a:stretch/>
        </p:blipFill>
        <p:spPr>
          <a:xfrm>
            <a:off x="5257800" y="1600200"/>
            <a:ext cx="3505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7:23:40Z</dcterms:created>
  <dc:creator>Jodi Perras</dc:creator>
  <dc:description/>
  <dc:language>en-US</dc:language>
  <cp:lastModifiedBy>Rosemary G. Spalding</cp:lastModifiedBy>
  <dcterms:modified xsi:type="dcterms:W3CDTF">2006-11-01T17:06:49Z</dcterms:modified>
  <cp:revision>55</cp:revision>
  <dc:subject/>
  <dc:title>Indianapolis Approach to Use Attainability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  <property fmtid="{D5CDD505-2E9C-101B-9397-08002B2CF9AE}" pid="3" name="_AdHocReviewCycleID">
    <vt:r8>-1689496201</vt:r8>
  </property>
  <property fmtid="{D5CDD505-2E9C-101B-9397-08002B2CF9AE}" pid="4" name="_AuthorEmail">
    <vt:lpwstr>spalding@iquest.net</vt:lpwstr>
  </property>
  <property fmtid="{D5CDD505-2E9C-101B-9397-08002B2CF9AE}" pid="5" name="_AuthorEmailDisplayName">
    <vt:lpwstr>Rosemary Spalding</vt:lpwstr>
  </property>
  <property fmtid="{D5CDD505-2E9C-101B-9397-08002B2CF9AE}" pid="6" name="_EmailSubject">
    <vt:lpwstr>Presentation</vt:lpwstr>
  </property>
</Properties>
</file>