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EF04-B6B0-4DD1-AAE8-3D551398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C3A0-E1C0-43A3-B658-3B4D3AD9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9611-509D-4A9E-BC2A-7C1C11F5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8A79-F74F-4AEB-838F-4C2C1DAA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BCDE-5179-48AF-8C28-42F906FD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241B-8084-45CD-A66E-D46DBAC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940A-5D10-407F-9A50-6409A901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7859-D0CD-46C7-B1A3-1963DDA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A13-31A9-4C15-A3C2-412404E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79F-3FC9-4314-8BA1-9F5E70D4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ACCB-71D6-4DCB-B48D-3EAA2BF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AE49-DD89-4FBA-A8FD-8FE9C53D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8E50-F638-42E4-B7B1-ECE21C8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33D8-13B1-4D47-94E7-03AE19B2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99C-FEAB-4216-AA17-C55EE7B7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D802-6DD8-450B-A514-B4DAE597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8598-E75F-49CA-AF71-DE80BED9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C65D-AC20-480B-9E43-EB9E6BF0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6517-EDA0-4B2E-818A-CEFDEE9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88D1-F6B2-4754-B9A1-BC89F29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A532-E902-41B3-83C6-F5B09545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ABE1-A45B-407B-A62C-E0A2CAB2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CD1E7-5992-4C1B-8296-99E89BEB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531E-C225-46AB-9404-CBC71F6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2C6-4F5A-4C22-9E17-83624C315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E498-6DB8-4E8B-8900-2C0EF6B031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W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AT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THE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“P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INT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” </a:t>
            </a:r>
            <a:br>
              <a:rPr sz="44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F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 C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OMPLIANCE</a:t>
            </a:r>
            <a:br>
              <a:rPr sz="1600"/>
            </a:br>
            <a:br>
              <a:rPr sz="44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City of Indianapolis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A Case Study</a:t>
            </a:r>
            <a:endParaRPr b="1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emary G. Spa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Law Se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17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ctual Results Will Vary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16383" r="0" b="0"/>
          <a:stretch/>
        </p:blipFill>
        <p:spPr>
          <a:xfrm>
            <a:off x="88920" y="1308240"/>
            <a:ext cx="899172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dentifying Compliance Measures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sign Crite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what you will build in design terms (MG, MGD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rformance Crite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how it will perform when bui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itical Mileston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ines milestone dates for completing key stages i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apolis has only two: Bid Year and Achievement of Full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See CD Exhibit 1; LTCP Section 7, Table 7-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How many performance criteria do you need?</a:t>
            </a:r>
            <a:endParaRPr b="1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dianapolis proposed % capture as appropriate measure of compliance based up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ze of collection syst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umber of CSO outfa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cipitation patter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PA wanted overflow frequency, but after compromise, demanded overflow frequency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% cap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fin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erformance Criteria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overflow frequency, EPA demanded performance to no more than 2 and 4 per typical year (2.0 and 4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% capture, EPA demanded performance to 97.00% and 95.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y response:  We cannot commit to EPA’s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overflow frequency, model predictions have inherent 20% varia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% capture, we cannot measure to that level of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eting EPA demands will have potential $130 million price tag and no certainty of compliance in the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ty willing to litigate this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ity rejected 4.0/2.0 overflow frequency and 97.00%/95.00% capture, EPA claimed city was “backing away” from its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fin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al Performance Criteria Agre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-year (1996-2000) model simulation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or greater capture on Fall Creek water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% or greater capture on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or fewer CSO events into the Fall Creek watershed (2.4 average annual overflow fre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or fewer CSO events into the other watersheds (4.8 average annual overflow frequ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(See LTCP Section 8.4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br>
              <a:rPr sz="40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easuring Performance Criteria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 data for 12 months aft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letion of all control measur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a waters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continuous simulation of CSO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charges using existing model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compare to actual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alibrate model, if 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continuous simulation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ears 1996-2000 to determine if performance criteria are m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vantage: data for 1996-2000 are known and can be used during des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(See LTCP Section 8.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1523" r="0" b="0"/>
          <a:stretch/>
        </p:blipFill>
        <p:spPr>
          <a:xfrm>
            <a:off x="6477120" y="1371600"/>
            <a:ext cx="22287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Escape Hatch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if Performance Criteria are not m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plan for additional remedial measures to meet Performance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modification of Performance Criteria if remedial measures would be cost-prohibitive, infeasible or otherwise in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/IDEM approval required for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that full implementation of the long-term control plan will result in compliance with NDPES permit requirements, water quality standards and the Clean Water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and define the “point” of compliance through specific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agree to something you can’t meet, no matter what regulators 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otiate escape hatches in your permit or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osemary G. Spa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PALDING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&amp; H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LMES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,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30 South Downey A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anapolis, IN 462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(317) 375-04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palding@iquest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 Consent Decree with U.S. EPA and the Indiana Department of Environmental Management (ID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4, 2006 - CD lodged in Federal District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8, 2006 - Federal Register notice of 30-day public comment period (expires today - November 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: combined sewer overflows (CSOs) and sanitary sewer discharges (SS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t Decree and Long-Term Control Plan available at:   www.indycleanstream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Consent Decre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O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implementation of the city’s Nine Minimum Controls (NMC)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of the city’s $1.8 billion Long-Term Contro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9880" y="1273320"/>
            <a:ext cx="47559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Consent Decre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D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implement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ity’s Capacity Manage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, Operation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(CMOM)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ion of seven Capital Improvement Projects to address “chronic” SSD locations at estimated cost of $50.4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5536" t="13414" r="0" b="0"/>
          <a:stretch/>
        </p:blipFill>
        <p:spPr>
          <a:xfrm>
            <a:off x="5715000" y="1523880"/>
            <a:ext cx="28954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CSO Compliance Requiremen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sent Decre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ianapolis’ remaining CSOs, if any, shall comply with Indianapolis’ Current Permits (Section VI.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¶ 2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PDES Permit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scharges from the CSOs listed herein shall not cause or contribute to violations of water quality standards or to the impairment of designated or existing uses. (Attachment A, Section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diana Recreational Use Water Quality Criteria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metric mean of 125 cfu/100 mL, based upon five equally spaced samples taken in a one-month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sample maximum of 235 cfu/100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pliance Conundrum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2 CSO outfalls along 5 urban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-scale sewer separation to eliminate CSOs is neither cost-effective nor environmentally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TCP’s storage &amp; conveyance solution won’t eliminate all C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SO will violate Indiana’s current bacteria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fore, a change in WQSs is needed through UAA to ensure compliance after LTCP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ing Level of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Complianc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Performance Criteria do you ne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Performance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1911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termining Level of Control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do you determine the appropriate level of CSO control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 of the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 Criteria: How do you describe/measure it?  Federal CSO Policy describes three alternativ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flow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remov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Negotiation Issues </a:t>
            </a:r>
            <a:br>
              <a:rPr sz="3600"/>
            </a:b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etermining Level of Control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upon knee of the curve and affordability analy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napolis proposed 95% capture system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proposed overflow frequency of 2 overflow events  per typical year on Fall Creek and 3 on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negotiating, parties agreed in princip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capture for Fall Creek and 95% capture for other watersh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overflow events on Fall Creek and 4 overflow events on other watershe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8715" t="0" r="0" b="0"/>
          <a:stretch/>
        </p:blipFill>
        <p:spPr>
          <a:xfrm>
            <a:off x="5257800" y="16002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Rosemary G. Spalding</cp:lastModifiedBy>
  <dcterms:modified xsi:type="dcterms:W3CDTF">2006-11-01T17:06:49Z</dcterms:modified>
  <cp:revision>55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-1689496201</vt:r8>
  </property>
  <property fmtid="{D5CDD505-2E9C-101B-9397-08002B2CF9AE}" pid="4" name="_AuthorEmail">
    <vt:lpwstr>spalding@iquest.net</vt:lpwstr>
  </property>
  <property fmtid="{D5CDD505-2E9C-101B-9397-08002B2CF9AE}" pid="5" name="_AuthorEmailDisplayName">
    <vt:lpwstr>Rosemary Spalding</vt:lpwstr>
  </property>
  <property fmtid="{D5CDD505-2E9C-101B-9397-08002B2CF9AE}" pid="6" name="_EmailSubject">
    <vt:lpwstr>Presentation</vt:lpwstr>
  </property>
</Properties>
</file>