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EAE-67D6-4AE1-8D31-56F49254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389-DA02-4199-B6E9-2E5993C6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843-C3CF-42E4-B259-B0ACD771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C4E-BBE1-4951-A421-5143515E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3999-DD33-477A-A839-58471091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74E-DCE5-4BA5-BB66-213D21C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C928-E26C-4A23-AFEA-2239EBD1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36EF-75B4-4026-BCDF-79A39A2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5D06-421E-4E8A-89EC-0F86CC78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584-EC56-4A68-9B2E-C65F25A1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5A44-2BD5-42E9-8381-2CF3256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2DA-F4C3-4A3D-9AD3-3F6E9449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83E3-F04F-4E61-AC7F-BA329FD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EC1A-C9F3-4430-965E-57DE3944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5BA-8A60-44F4-9472-80DFEEE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CC21-7F05-42AF-A545-9CACC6E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300-49DE-4A88-A2D8-5F87E313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D35-5284-4FF4-918C-2D54B379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26E-80A0-4696-8052-A4E0A27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DDF-45AF-4AF2-9C34-E4D4F69D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012-E601-4E13-AB46-A9DCAE31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340-D8D3-4621-B79E-A83FF1A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7D9-B91B-41AA-82A7-699831A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665-EA9C-43D0-8A3F-D4159DC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91A-B922-4D13-9D3C-90626DE9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D7BB-3CE7-4596-BAB2-F5789A98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ean Water Act Citizen Suits:  Trends and Proposals for Refor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a La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 Association of Sanitation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WA Law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ton,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16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ome Modest Reforms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s F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attorney fee awards to the degree of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a clear statement of congressional intent that the attorney fee provision of the Act be read as recipro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 attorneys fees (by amount or percent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ome Modest Reform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 the Primary Role of th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courts to consider improvements and actions already being undertaken by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y that suits are barred when the State is in the process of enforcing-- it is not possible for most states to complete an action within a 60 day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ther Actions that May Help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sion of mandatory minimum pen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ulemaking/policy by regulatory agencies (e.g. water transfer rule, regulations to impl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pan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other mechanisms for meaningful NGO invol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tact Info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475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a La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Legal &amp; Regulatory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Assn of Sanitation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ch, Simmons &amp; Du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3 Sixth Street, 3rd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mento, CA  95814-24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16) 446-7979, ext. 3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rson@lawss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le of Citizen Sui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e se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le of the citizen is to supplement, not supplant, the primary role of the State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Gwaltney of Smithfield v. Chesapeake Bay Foundati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4 U.S. 49 (1987).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waltne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rt noted that the legislative history of the Act reinforces this view of the role of the citizen suit. (The Senate Committee “intends the great volume of enforcement actions [to] be brought by the State," and that citizen suits are prop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if the Federal, State, and local agencies fail to exercise their enforcement responsibility.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le of Citizen Sui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GOs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clearly intended “that citizen plaintiffs are not to be treated as nuisances or troublemakers but rather as welcome participants in the vindication of environmental interests.”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fitt v. Municipal Authority of the Borough of Morrisvill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6 F.Supp 837, 844 (ED PA 198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third party citizen enforcement focu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USEPA for failure to act (TMDLs, adoption of regulation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POTWs and industry for violations of effuent limitations in NPDES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industry for failure to seek coverage under general stormwater per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urrent Trend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that NPDES permits are required  for programs and activities not traditionally regulated under the program (water transfers, dams, aquatic herbicide application, discharges to ground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eged violations of general stormwater per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ary Sewer Over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y Now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Minimum Penalties for Effluent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regulatory requirements/focus on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ing view of CWA jurisdiction by EPA, state,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Past and Current </a:t>
            </a:r>
            <a:br>
              <a:rPr sz="4000"/>
            </a:b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Citizen Suits in California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828800"/>
            <a:ext cx="2943360" cy="4579920"/>
          </a:xfrm>
          <a:custGeom>
            <a:avLst/>
            <a:gdLst/>
            <a:ahLst/>
            <a:rect l="l" t="t" r="r" b="b"/>
            <a:pathLst>
              <a:path w="2407" h="3745">
                <a:moveTo>
                  <a:pt x="177" y="0"/>
                </a:moveTo>
                <a:lnTo>
                  <a:pt x="1288" y="219"/>
                </a:lnTo>
                <a:lnTo>
                  <a:pt x="1045" y="1323"/>
                </a:lnTo>
                <a:lnTo>
                  <a:pt x="2295" y="3003"/>
                </a:lnTo>
                <a:lnTo>
                  <a:pt x="2406" y="3218"/>
                </a:lnTo>
                <a:lnTo>
                  <a:pt x="2291" y="3322"/>
                </a:lnTo>
                <a:lnTo>
                  <a:pt x="2217" y="3508"/>
                </a:lnTo>
                <a:lnTo>
                  <a:pt x="2141" y="3618"/>
                </a:lnTo>
                <a:lnTo>
                  <a:pt x="2219" y="3716"/>
                </a:lnTo>
                <a:lnTo>
                  <a:pt x="2088" y="3744"/>
                </a:lnTo>
                <a:lnTo>
                  <a:pt x="1358" y="3720"/>
                </a:lnTo>
                <a:lnTo>
                  <a:pt x="1312" y="3501"/>
                </a:lnTo>
                <a:lnTo>
                  <a:pt x="1181" y="3339"/>
                </a:lnTo>
                <a:lnTo>
                  <a:pt x="1091" y="3284"/>
                </a:lnTo>
                <a:lnTo>
                  <a:pt x="1060" y="3173"/>
                </a:lnTo>
                <a:lnTo>
                  <a:pt x="986" y="3106"/>
                </a:lnTo>
                <a:lnTo>
                  <a:pt x="908" y="3029"/>
                </a:lnTo>
                <a:lnTo>
                  <a:pt x="884" y="2944"/>
                </a:lnTo>
                <a:lnTo>
                  <a:pt x="812" y="2884"/>
                </a:lnTo>
                <a:lnTo>
                  <a:pt x="699" y="2918"/>
                </a:lnTo>
                <a:lnTo>
                  <a:pt x="568" y="2871"/>
                </a:lnTo>
                <a:lnTo>
                  <a:pt x="568" y="2822"/>
                </a:lnTo>
                <a:lnTo>
                  <a:pt x="562" y="2720"/>
                </a:lnTo>
                <a:lnTo>
                  <a:pt x="512" y="2603"/>
                </a:lnTo>
                <a:lnTo>
                  <a:pt x="503" y="2512"/>
                </a:lnTo>
                <a:lnTo>
                  <a:pt x="451" y="2424"/>
                </a:lnTo>
                <a:lnTo>
                  <a:pt x="465" y="2352"/>
                </a:lnTo>
                <a:lnTo>
                  <a:pt x="306" y="2157"/>
                </a:lnTo>
                <a:lnTo>
                  <a:pt x="306" y="2049"/>
                </a:lnTo>
                <a:lnTo>
                  <a:pt x="385" y="2006"/>
                </a:lnTo>
                <a:lnTo>
                  <a:pt x="385" y="1938"/>
                </a:lnTo>
                <a:lnTo>
                  <a:pt x="306" y="1916"/>
                </a:lnTo>
                <a:lnTo>
                  <a:pt x="270" y="1815"/>
                </a:lnTo>
                <a:lnTo>
                  <a:pt x="225" y="1633"/>
                </a:lnTo>
                <a:lnTo>
                  <a:pt x="347" y="1730"/>
                </a:lnTo>
                <a:lnTo>
                  <a:pt x="299" y="1599"/>
                </a:lnTo>
                <a:lnTo>
                  <a:pt x="385" y="1599"/>
                </a:lnTo>
                <a:lnTo>
                  <a:pt x="385" y="1508"/>
                </a:lnTo>
                <a:lnTo>
                  <a:pt x="299" y="1447"/>
                </a:lnTo>
                <a:lnTo>
                  <a:pt x="258" y="1534"/>
                </a:lnTo>
                <a:lnTo>
                  <a:pt x="177" y="1503"/>
                </a:lnTo>
                <a:lnTo>
                  <a:pt x="25" y="1081"/>
                </a:lnTo>
                <a:lnTo>
                  <a:pt x="67" y="777"/>
                </a:lnTo>
                <a:lnTo>
                  <a:pt x="0" y="605"/>
                </a:lnTo>
                <a:lnTo>
                  <a:pt x="31" y="478"/>
                </a:lnTo>
                <a:lnTo>
                  <a:pt x="108" y="453"/>
                </a:lnTo>
                <a:lnTo>
                  <a:pt x="177" y="246"/>
                </a:lnTo>
                <a:lnTo>
                  <a:pt x="177" y="0"/>
                </a:lnTo>
              </a:path>
            </a:pathLst>
          </a:custGeom>
          <a:solidFill>
            <a:srgbClr val="ff7518"/>
          </a:solidFill>
          <a:ln cap="rnd" w="12600">
            <a:solidFill>
              <a:srgbClr val="000000"/>
            </a:solidFill>
            <a:round/>
          </a:ln>
          <a:effectLst>
            <a:outerShdw dist="143570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4100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61722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3434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5812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96252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8672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594360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4290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362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1981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2578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5627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638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5450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65760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400800"/>
            <a:ext cx="22860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19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60" y="5867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40" y="6248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6576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352680"/>
            <a:ext cx="22860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A Few Case Exampl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ke County Sanitation District: 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of Richmond: 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of Healdsburg:  NPDES Per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ke Wildwood Association:  NPDES Per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y CA Agencies Are Concern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mmunities often targ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has in many cases already 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o defenses (especially SSO c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s in many cases don’t track water quality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4:19:30Z</dcterms:created>
  <dc:creator>Roberta Larson</dc:creator>
  <dc:description/>
  <dc:language>en-US</dc:language>
  <cp:lastModifiedBy>Roberta Larson</cp:lastModifiedBy>
  <dcterms:modified xsi:type="dcterms:W3CDTF">2006-11-16T13:58:43Z</dcterms:modified>
  <cp:revision>8</cp:revision>
  <dc:subject/>
  <dc:title>Clean Water Act Citizen Suits:  Trends and Proposals for Reform</dc:title>
</cp:coreProperties>
</file>