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7ED-F37C-4CE9-B0C2-E1BF5549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062-78A4-4022-9B05-E3F64534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A4E-B049-47CD-B44A-3B5723EC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FC1-5690-46D7-A7F3-DC85AE1C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C9F-4CDE-47C6-9522-718EEE8E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83F6-15A0-470F-BC18-579BCBBF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31C-B47D-4FF6-B7EA-ABD52EC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FC2-2D32-4309-87D5-5422361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7A0F-E728-4BDC-8A77-EC90E04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6E5-CD3D-4860-95D6-D7FA9AF8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039-00D5-4133-AAE4-68AD9EDE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9F4-4B28-43BD-93C5-4C7E1F2E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1B8D-65B5-4B24-BCB8-13A9664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3D86-669A-4FC5-9766-FEC7A3E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E59D-8B4C-45D7-88EF-D07A213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D386-9ECB-4BBA-B8CB-B3D10F40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9D2E-BB79-4678-A729-0DBA7FE1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236-C38A-40A4-ADA3-E31E6733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8C5-BAD9-494D-84D0-E85DA070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E1A-5AB4-4823-82D1-9023AF3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205740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B2F-5DBE-4F17-B910-5E11CD7C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2A8-C42A-4A9B-A3BD-D8F8BEE1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E9B-5724-4D9E-8B45-14DD3A7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6A9-041F-40FA-8005-CA396B2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92E6-3F86-4449-8126-7987C04A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E1F-C71E-46B3-BD2B-FC40D858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ean Water Act Citizen Suits:  Trends and Proposals for Refor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a La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fornia Association of Sanitation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WA Law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ton,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16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ome Modest Reforms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s Fe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attorney fee awards to the degree of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a clear statement of congressional intent that the attorney fee provision of the Act be read as recipro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 attorneys fees (by amount or percent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Some Modest Reform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 the Primary Role of the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courts to consider improvements and actions already being undertaken by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y that suits are barred when the State is in the process of enforcing-- it is not possible for most states to complete an action within a 60 day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ther Actions that May Help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sion of mandatory minimum pen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ulemaking/policy by regulatory agencies (e.g. water transfer rule, regulations to imple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pan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ing other mechanisms for meaningful NGO invol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tact Info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475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rta La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Legal &amp; Regulatory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Assn of Sanitation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ch, Simmons &amp; Du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3 Sixth Street, 3rd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cramento, CA  95814-24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16) 446-7979, ext. 3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rson@lawss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le of Citizen Sui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e see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le of the citizen is to supplement, not supplant, the primary role of the State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Gwaltney of Smithfield v. Chesapeake Bay Foundati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4 U.S. 49 (1987).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waltne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urt noted that the legislative history of the Act reinforces this view of the role of the citizen suit. (The Senate Committee “intends the great volume of enforcement actions [to] be brought by the State," and that citizen suits are prop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if the Federal, State, and local agencies fail to exercise their enforcement responsibility.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le of Citizen Sui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GOs see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clearly intended “that citizen plaintiffs are not to be treated as nuisances or troublemakers but rather as welcome participants in the vindication of environmental interests.”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fitt v. Municipal Authority of the Borough of Morrisvill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6 F.Supp 837, 844 (ED PA 198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third party citizen enforcement focu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USEPA for failure to act (TMDLs, adoption of regulation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POTWs and industry for violations of effuent limitations in NPDES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s against industry for failure to seek coverage under general stormwater per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urrent Trend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s that NPDES permits are required  for programs and activities not traditionally regulated under the program (water transfers, dams, aquatic herbicide application, discharges to ground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eged violations of general stormwater per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ary Sewer Over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y Now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Minimum Penalties for Effluent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regulatory requirements/focus on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ing view of CWA jurisdiction by EPA, state,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Past and Current </a:t>
            </a:r>
            <a:br>
              <a:rPr sz="4000"/>
            </a:b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Citizen Suits in California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828800"/>
            <a:ext cx="2943360" cy="4579920"/>
          </a:xfrm>
          <a:custGeom>
            <a:avLst/>
            <a:gdLst/>
            <a:ahLst/>
            <a:rect l="l" t="t" r="r" b="b"/>
            <a:pathLst>
              <a:path w="2407" h="3745">
                <a:moveTo>
                  <a:pt x="177" y="0"/>
                </a:moveTo>
                <a:lnTo>
                  <a:pt x="1288" y="219"/>
                </a:lnTo>
                <a:lnTo>
                  <a:pt x="1045" y="1323"/>
                </a:lnTo>
                <a:lnTo>
                  <a:pt x="2295" y="3003"/>
                </a:lnTo>
                <a:lnTo>
                  <a:pt x="2406" y="3218"/>
                </a:lnTo>
                <a:lnTo>
                  <a:pt x="2291" y="3322"/>
                </a:lnTo>
                <a:lnTo>
                  <a:pt x="2217" y="3508"/>
                </a:lnTo>
                <a:lnTo>
                  <a:pt x="2141" y="3618"/>
                </a:lnTo>
                <a:lnTo>
                  <a:pt x="2219" y="3716"/>
                </a:lnTo>
                <a:lnTo>
                  <a:pt x="2088" y="3744"/>
                </a:lnTo>
                <a:lnTo>
                  <a:pt x="1358" y="3720"/>
                </a:lnTo>
                <a:lnTo>
                  <a:pt x="1312" y="3501"/>
                </a:lnTo>
                <a:lnTo>
                  <a:pt x="1181" y="3339"/>
                </a:lnTo>
                <a:lnTo>
                  <a:pt x="1091" y="3284"/>
                </a:lnTo>
                <a:lnTo>
                  <a:pt x="1060" y="3173"/>
                </a:lnTo>
                <a:lnTo>
                  <a:pt x="986" y="3106"/>
                </a:lnTo>
                <a:lnTo>
                  <a:pt x="908" y="3029"/>
                </a:lnTo>
                <a:lnTo>
                  <a:pt x="884" y="2944"/>
                </a:lnTo>
                <a:lnTo>
                  <a:pt x="812" y="2884"/>
                </a:lnTo>
                <a:lnTo>
                  <a:pt x="699" y="2918"/>
                </a:lnTo>
                <a:lnTo>
                  <a:pt x="568" y="2871"/>
                </a:lnTo>
                <a:lnTo>
                  <a:pt x="568" y="2822"/>
                </a:lnTo>
                <a:lnTo>
                  <a:pt x="562" y="2720"/>
                </a:lnTo>
                <a:lnTo>
                  <a:pt x="512" y="2603"/>
                </a:lnTo>
                <a:lnTo>
                  <a:pt x="503" y="2512"/>
                </a:lnTo>
                <a:lnTo>
                  <a:pt x="451" y="2424"/>
                </a:lnTo>
                <a:lnTo>
                  <a:pt x="465" y="2352"/>
                </a:lnTo>
                <a:lnTo>
                  <a:pt x="306" y="2157"/>
                </a:lnTo>
                <a:lnTo>
                  <a:pt x="306" y="2049"/>
                </a:lnTo>
                <a:lnTo>
                  <a:pt x="385" y="2006"/>
                </a:lnTo>
                <a:lnTo>
                  <a:pt x="385" y="1938"/>
                </a:lnTo>
                <a:lnTo>
                  <a:pt x="306" y="1916"/>
                </a:lnTo>
                <a:lnTo>
                  <a:pt x="270" y="1815"/>
                </a:lnTo>
                <a:lnTo>
                  <a:pt x="225" y="1633"/>
                </a:lnTo>
                <a:lnTo>
                  <a:pt x="347" y="1730"/>
                </a:lnTo>
                <a:lnTo>
                  <a:pt x="299" y="1599"/>
                </a:lnTo>
                <a:lnTo>
                  <a:pt x="385" y="1599"/>
                </a:lnTo>
                <a:lnTo>
                  <a:pt x="385" y="1508"/>
                </a:lnTo>
                <a:lnTo>
                  <a:pt x="299" y="1447"/>
                </a:lnTo>
                <a:lnTo>
                  <a:pt x="258" y="1534"/>
                </a:lnTo>
                <a:lnTo>
                  <a:pt x="177" y="1503"/>
                </a:lnTo>
                <a:lnTo>
                  <a:pt x="25" y="1081"/>
                </a:lnTo>
                <a:lnTo>
                  <a:pt x="67" y="777"/>
                </a:lnTo>
                <a:lnTo>
                  <a:pt x="0" y="605"/>
                </a:lnTo>
                <a:lnTo>
                  <a:pt x="31" y="478"/>
                </a:lnTo>
                <a:lnTo>
                  <a:pt x="108" y="453"/>
                </a:lnTo>
                <a:lnTo>
                  <a:pt x="177" y="246"/>
                </a:lnTo>
                <a:lnTo>
                  <a:pt x="177" y="0"/>
                </a:lnTo>
              </a:path>
            </a:pathLst>
          </a:custGeom>
          <a:solidFill>
            <a:srgbClr val="ff7518"/>
          </a:solidFill>
          <a:ln cap="rnd" w="12600">
            <a:solidFill>
              <a:srgbClr val="000000"/>
            </a:solidFill>
            <a:round/>
          </a:ln>
          <a:effectLst>
            <a:outerShdw dist="143570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4100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61722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3434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5812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9718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96252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8672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352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594360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2767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42900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3623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19810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2578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5627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638680"/>
            <a:ext cx="2286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5450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W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657600"/>
            <a:ext cx="22860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400800"/>
            <a:ext cx="22860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6019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60" y="58672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kee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40" y="6248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65760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352680"/>
            <a:ext cx="22860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A Few Case Exampl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ke County Sanitation District: 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of Richmond:  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of Healdsburg:  NPDES Per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ke Wildwood Association:  NPDES Per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hy CA Agencies Are Concern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mmunities often targ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has in many cases already a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o defenses (especially SSO ca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s in many cases don’t track water quality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4:19:30Z</dcterms:created>
  <dc:creator>Roberta Larson</dc:creator>
  <dc:description/>
  <dc:language>en-US</dc:language>
  <cp:lastModifiedBy>Roberta Larson</cp:lastModifiedBy>
  <dcterms:modified xsi:type="dcterms:W3CDTF">2006-11-16T13:58:43Z</dcterms:modified>
  <cp:revision>8</cp:revision>
  <dc:subject/>
  <dc:title>Clean Water Act Citizen Suits:  Trends and Proposals for Reform</dc:title>
</cp:coreProperties>
</file>