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01C-D375-4B25-89C7-27E86DE7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849-6A4C-4708-9D00-85FC70BD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B0F-FB5C-4A4B-B1C7-97DFFB90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814-BEAD-4D76-B147-CE7F62EC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20EA4-7740-4139-BF39-C90304EE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9C922-3C28-4A8C-8B84-C9DB70EF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2408D-5BCF-4022-9CFF-9F45A8B1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EF9FB-3FA3-46CE-B768-35664569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6B6BC-C594-4AD3-8065-C22A5195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A2A5B-EAFA-46C6-B385-74DAF0D3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DF553-EAF7-47AB-9BBA-B02486DE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546-EC66-43C2-8D89-6FA80FCF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3F82E-0A33-472B-A146-0A95EE0F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A3DAF-85DF-4161-9F51-C458673C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7B6A1-6768-42D9-8B78-BD60AE9B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21429-D0A7-4128-8581-8B4A4A7D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62B9D-0605-4041-9284-E8890D24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5F0-1688-44B1-8783-3860665B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CBC-9737-4B9D-A241-19CEA071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301-FC1A-4020-8FA4-74776380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8A9-895A-40B9-A74C-0B1AF71D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C19-0B09-4DDC-A96F-3DCCD7A1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1A1-484D-4ED5-BB35-02D31330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C23-3CE1-40D6-9632-1AECB20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BCD3-B1AE-4C8E-8718-B6E88234A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9BDC-1E17-403C-B081-9938E0AB2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hat </a:t>
            </a:r>
            <a:r>
              <a:rPr b="0" i="1" lang="en-US" sz="66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 the Point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hard Dav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veridge &amp; Diamond, P.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davis@bdlaw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 What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The Poi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rave New World of Opport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ally Brave New Ways to Get Flee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 Mindless Days/Reactive Days are D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olden Opportunity for In-House Counsel to </a:t>
            </a:r>
            <a:r>
              <a:rPr b="1" i="1" lang="en-US" sz="3200" spc="-1" strike="noStrike">
                <a:solidFill>
                  <a:srgbClr val="ffff00"/>
                </a:solidFill>
                <a:latin typeface="Impact"/>
              </a:rPr>
              <a:t>Add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A9C-6D12-4958-AE2F-CDD82BD5B5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Old Day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was si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t was your B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0/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MR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Biggest Challe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ing Second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ing/Building Second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ng Second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597-5CF8-4569-983D-CAA6FE8BB2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In Haiku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Clean Water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Rules For Being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ngineer’s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0F4-9614-4ECF-B5F5-267C11F846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day, Technological Relativism!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P Technology Debated for MS4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ly Sufficient” Local Ordin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ly and Appropriate” Enforcement the Gu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Money an Issue – or No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Perfect is Perfect Enough for CSO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Your Plant “Properly” Operated and Maintain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6F1-CE16-4454-9CCC-E4E9C5B4B7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d Don’t Get Me Started on Water Quality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Criter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its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Measure of Compli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Consequence of Non-Compli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o Narrative Limi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3C8-4FEE-4F76-8AB4-01A9ACDA64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 you Know What’s Right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Perm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Fu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esig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Oper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efe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Writing a Dec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24F-B135-4E9D-B84F-06E7F30DEA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in Haiku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Drip Like D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ing From Each Program Bra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ling In Cha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EE3-154E-4DCA-B960-D74A318239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Good Thing or A Bad Th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To Get Taken To the Clea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d to Know When To Stand and F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precedented Number of T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tors Welcome Creative Win-Win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A Trying Hard to He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C19-1203-4111-BD34-427F880EE4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in Haiku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 or Pratf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Thinking Rewarded 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wyers’ Parad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C14-04AA-4E0D-8C24-0ABAD34F51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3:38:32Z</dcterms:created>
  <dc:creator>Richard S. Davis</dc:creator>
  <dc:description/>
  <dc:language>en-US</dc:language>
  <cp:lastModifiedBy>Richard S. Davis</cp:lastModifiedBy>
  <dcterms:modified xsi:type="dcterms:W3CDTF">2006-11-17T05:31:31Z</dcterms:modified>
  <cp:revision>2</cp:revision>
  <dc:subject/>
  <dc:title>What is the Point?</dc:title>
</cp:coreProperties>
</file>