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1E3F-BEAB-4444-B3B4-63C049EB5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6B5D-7A0A-4E9E-A562-A14B10D05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B01B-5205-4742-A984-CF4695C0E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95C2-39A4-4080-8592-8F9A1B5C4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039966-9E8B-4DDA-AA60-F1B6C434D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BBEFDF-4C10-4552-8B1C-0EAE5FF4D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5AAE61-E29F-4871-8EA0-2F8064D29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BBC85E-C2DC-40E0-9DD7-4870CCE30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C3E636-65B8-4679-B59D-0E71BEF86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7D38D0-8165-480D-84F9-15EFCB29D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91DFF7-7EAB-482C-8BE5-2D0EAB53B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C915-D3F5-4166-A197-F5FF044D2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A373CB-A081-4039-A147-05EF308CF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16DA71-42A0-4E11-905A-FA9BB0BF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A46C6E-1FD5-4868-961F-884267B87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9CD4DF-AA9B-4317-B379-7C914E488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49F811-FD0B-4CB3-B074-51A6340BC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5F98-104F-47C8-B5FC-9C2754B62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9B8D-0F4A-472C-B2E5-A18DE105F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2444-C8EB-4A93-A5B3-566C56D65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3FDD-21E9-4480-A0AD-BD100E25C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B103-37C4-436F-A7E0-A73AECE1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3A8D-503D-4307-B45C-3388F119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F941-278A-4CC1-AFCF-46F10B1A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EDEEC-7706-4541-BD1C-9691A45343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949C3-2CAB-4ADA-ACD9-5A4067395F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What </a:t>
            </a:r>
            <a:r>
              <a:rPr b="0" i="1" lang="en-US" sz="6600" spc="-1" strike="noStrike">
                <a:solidFill>
                  <a:srgbClr val="ffffff"/>
                </a:solidFill>
                <a:latin typeface="Tahoma"/>
              </a:rPr>
              <a:t>is</a:t>
            </a: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 the Point?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chard Dav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veridge &amp; Diamond, P.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davis@bdlaw.c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o What </a:t>
            </a: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Is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The Point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Brave New World of Opportun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qually Brave New Ways to Get Fleec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ld Mindless Days/Reactive Days are De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Golden Opportunity for In-House Counsel to </a:t>
            </a:r>
            <a:r>
              <a:rPr b="1" i="1" lang="en-US" sz="3200" spc="-1" strike="noStrike">
                <a:solidFill>
                  <a:srgbClr val="ffff00"/>
                </a:solidFill>
                <a:latin typeface="Impact"/>
              </a:rPr>
              <a:t>Add Val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CWA 2006 Law Semin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FC40-6B7D-494C-8715-52B307DE72A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7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Old Days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fe was simp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mit was your Bi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0/3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MR’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r Biggest Challeng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nding Second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igning/Building Second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perating Second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CWA 2006 Law Semin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9A27-B765-43BD-A561-00DE4EED210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7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(In Haiku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ur Clean Water A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mple Rules For Being Go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 Engineer’s La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CWA 2006 Law Semin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4497-CA30-4EAB-8D5D-1A29C827474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7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oday, Technological Relativism!!!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P Technology Debated for MS4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gally Sufficient” Local Ordinan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imely and Appropriate” Enforcement the Gui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Money an Issue – or No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Perfect is Perfect Enough for CSO’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Your Plant “Properly” Operated and Maintained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CWA 2006 Law Semin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2070-448A-4D11-A7C5-5C5FEEF00D7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7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nd Don’t Get Me Started on Water Quality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nge the U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nge the Criter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nge its Appli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nge the Datab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nge the Mod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nge the Measure of Compli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nge the Consequence of Non-Compli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nge to Narrative Limit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CWA 2006 Law Semin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F0EC-02B7-4223-A6CD-8BA6254DAB4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7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ow Do you Know What’s Right?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Permit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Plann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Fun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Design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Opera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Defen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Writing a Decre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CWA 2006 Law Semin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B81E-15A7-4012-A4ED-CD73948FE22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7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(in Haiku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estions Drip Like D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ining From Each Program Bran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oling In Cha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CWA 2006 Law Semin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571C-5EE4-4405-90DD-BFBEAF72167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7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 Good Thing or A Bad Thing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asy To Get Taken To the Clean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rd to Know When To Stand and Figh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precedented Number of Too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gulators Welcome Creative Win-Win Ide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PA Trying Hard to Hel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CWA 2006 Law Semin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79DE-FC73-48F9-B000-8C2BAF3FB56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7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(in Haiku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nning or Pratfa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od Thinking Rewarded He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wyers’ Paradi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CWA 2006 Law Semina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7F6A-F756-40D8-90C4-69C763F8472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7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7T03:38:32Z</dcterms:created>
  <dc:creator>Richard S. Davis</dc:creator>
  <dc:description/>
  <dc:language>en-US</dc:language>
  <cp:lastModifiedBy>Richard S. Davis</cp:lastModifiedBy>
  <dcterms:modified xsi:type="dcterms:W3CDTF">2006-11-17T05:31:31Z</dcterms:modified>
  <cp:revision>2</cp:revision>
  <dc:subject/>
  <dc:title>What is the Point?</dc:title>
</cp:coreProperties>
</file>