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563-BE25-4DFE-8CCC-72FC1693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5CD-932A-4971-A2C7-B03EB9D8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944-306A-49AC-B15F-6F451CB3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830-CA5A-4D70-A492-48C850C8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5F4-3666-48A3-90E3-22022749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546-4282-469E-8A86-EEDDECBF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522-679C-431A-936E-AD7BA04D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BE1-9B52-4C04-A857-C40E8D1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3B7-BE36-4945-87C8-2298BE0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420-0837-4C7B-985F-0322619A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93F-BFAD-45F9-86D4-001F18A8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54F-D985-481E-8E6C-A1F05904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0A9-CEBB-4D1A-810A-A45D2CEC5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3840" y="531360"/>
            <a:ext cx="79614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Prevailing Parties under the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Clean Water Act: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To the Victor Go the Spoils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60400" y="4238280"/>
            <a:ext cx="77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264360" y="357120"/>
            <a:ext cx="253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9040" y="483696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6960" y="4235400"/>
            <a:ext cx="71960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hael K. Murph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CWA Law Seminar – Citizen Suit Tr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ember 16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120px-US_%241_obverse" descr=""/>
          <p:cNvPicPr/>
          <p:nvPr/>
        </p:nvPicPr>
        <p:blipFill>
          <a:blip r:embed="rId2"/>
          <a:stretch/>
        </p:blipFill>
        <p:spPr>
          <a:xfrm>
            <a:off x="3510000" y="2921040"/>
            <a:ext cx="202716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ssues on Appea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“catalyst” theory still apply to the citizen suit provision under the CW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Sierra Club a “prevailing party” under the CWA citizen suit provi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intervenors entitled to fees under the CWA provi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atalyst Theor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jected by Supreme Court 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ckhannon Bd. v. W.Va. Dep’t of Heal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532 U.S. 598 (2001) when statute awards fees to “prevailing parties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WA awards fees both to “prevailing and substantially prevailing parties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ct Court found this distinction important, and found catalyst theory still valid under C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atalyst Theor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ircuit has appli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ckhann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irectly to the CWA –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erra Club v. City of Little Ro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351 F.3d 840 – rejecting catalyst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circuit courts have appli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ckhann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other statutes that use “substantially prevailing” language -- RCRA, FOIA, and Preservation 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ogy to Clean Air Act is inappropriate b/c CAA does not contain the “prevailing party” requirement, allowing fees “whenever appropriat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id Sierra Club “Prevail?”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enforceable judgments on the merits and court-ordered consent decrees” satisf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ckhannon’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quirement for judicially sanctioned relief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ms v. Taf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338 F.3d 519 (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ir. 200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evailing Parti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ct court and Sierra Club argue that because consent decrees were “entered” by court, that is su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was not a party to the consent decrees, and obtained no “final relief” on the merits of its own cla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nsent decree is not enforceable either directly or in collateral proceedings by those who are not parties to it.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lue Chip Stamps v. Manor Drug Stor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421 U.S. 723 (197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Fees for Intervention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urt, in issuing any final ord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any action brought pursuant to this s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ay award costs of litigation (including reasonable attorney and expert witness fees) to any prevailing or substantially prevailing party, whenever the court determines such award is appropriate.”  33 U.S.C. § 1365(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Do Intervenors Bring an Action Under the Citizen Suit Provision?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Notice. No action may be commenced-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(1) under subsection (a)(1) of this section-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if the Administrator or State has commenced and is diligently prosecuting a civil or criminal action in a court of the United States, or a State to require compliance with the standard, limitation, or order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 in any such action in a court of the United States any citizen may intervene as a matter of r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ntervention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venors have been denied fees in other districts under the CWA.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ited States v. Maine D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980 F. Supp. 546 (D. Me. 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 the CAA, courts have rejected the “intervenor” argument because the underlying government proceedings were brought pursuant to the federal enforcement provision, and not under the consent decree pro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nited States v. National Steel Cor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, 782 F.2d 62 (6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ir. 1986);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nited States v. Stone Container Corp.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96 F.3d 1066 (9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ir. 199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A differs from the CWA, though, and OEPA suit filed under § 1365(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ther Defens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lying citizen suit must be valid in order to recover fees.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ynch v. Le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382 F.3d 642 (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ir.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ligent prosec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WA citizen suit jurisdictional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3 U.S.C. § 1364 “Emergency Powers” exclu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vigable waters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itizen Suit Case Stud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PA/Ohio enforcement action against MSD of Greater Cincinn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izen suit filed by Sierra Club, who also moved to intervene in the underlying federal laws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msdlogo_shadow" descr=""/>
          <p:cNvPicPr/>
          <p:nvPr/>
        </p:nvPicPr>
        <p:blipFill>
          <a:blip r:embed="rId1"/>
          <a:stretch/>
        </p:blipFill>
        <p:spPr>
          <a:xfrm>
            <a:off x="4873680" y="2058840"/>
            <a:ext cx="1482840" cy="1644840"/>
          </a:xfrm>
          <a:prstGeom prst="rect">
            <a:avLst/>
          </a:prstGeom>
          <a:ln w="0">
            <a:noFill/>
          </a:ln>
        </p:spPr>
      </p:pic>
      <p:pic>
        <p:nvPicPr>
          <p:cNvPr id="51" name="weblogo_fall2002" descr=""/>
          <p:cNvPicPr/>
          <p:nvPr/>
        </p:nvPicPr>
        <p:blipFill>
          <a:blip r:embed="rId2"/>
          <a:stretch/>
        </p:blipFill>
        <p:spPr>
          <a:xfrm>
            <a:off x="6772320" y="3675240"/>
            <a:ext cx="1828800" cy="849240"/>
          </a:xfrm>
          <a:prstGeom prst="rect">
            <a:avLst/>
          </a:prstGeom>
          <a:ln w="0">
            <a:noFill/>
          </a:ln>
        </p:spPr>
      </p:pic>
      <p:pic>
        <p:nvPicPr>
          <p:cNvPr id="52" name="epafiles_aara_logo_epaseal" descr=""/>
          <p:cNvPicPr/>
          <p:nvPr/>
        </p:nvPicPr>
        <p:blipFill>
          <a:blip r:embed="rId3"/>
          <a:stretch/>
        </p:blipFill>
        <p:spPr>
          <a:xfrm>
            <a:off x="4867200" y="452772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MainBannerOEPA" descr=""/>
          <p:cNvPicPr/>
          <p:nvPr/>
        </p:nvPicPr>
        <p:blipFill>
          <a:blip r:embed="rId4"/>
          <a:srcRect l="0" t="0" r="78854" b="0"/>
          <a:stretch/>
        </p:blipFill>
        <p:spPr>
          <a:xfrm>
            <a:off x="6508800" y="5473800"/>
            <a:ext cx="1550880" cy="619200"/>
          </a:xfrm>
          <a:prstGeom prst="rect">
            <a:avLst/>
          </a:prstGeom>
          <a:ln w="0">
            <a:noFill/>
          </a:ln>
        </p:spPr>
      </p:pic>
      <p:pic>
        <p:nvPicPr>
          <p:cNvPr id="54" name="colorbar2" descr=""/>
          <p:cNvPicPr/>
          <p:nvPr/>
        </p:nvPicPr>
        <p:blipFill>
          <a:blip r:embed="rId5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incinnati Histor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20440"/>
            <a:ext cx="77724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wer system dates from 18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d and separate sanitary sewers have numerous overflows during wet we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ography of Cincinnati exacerbates issues dur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r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Overflow2" descr=""/>
          <p:cNvPicPr/>
          <p:nvPr/>
        </p:nvPicPr>
        <p:blipFill>
          <a:blip r:embed="rId1"/>
          <a:stretch/>
        </p:blipFill>
        <p:spPr>
          <a:xfrm>
            <a:off x="3870360" y="4448160"/>
            <a:ext cx="4560840" cy="1474920"/>
          </a:xfrm>
          <a:prstGeom prst="rect">
            <a:avLst/>
          </a:prstGeom>
          <a:ln w="0">
            <a:noFill/>
          </a:ln>
        </p:spPr>
      </p:pic>
      <p:pic>
        <p:nvPicPr>
          <p:cNvPr id="58" name="colorbar2" descr=""/>
          <p:cNvPicPr/>
          <p:nvPr/>
        </p:nvPicPr>
        <p:blipFill>
          <a:blip r:embed="rId2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USEPA &amp; OEPA Enforc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PA and OEPA began negotiations to reach comprehensive settlement of CSO, SSO and WWTP issues in 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es agreed to a phased negotiation to address SSO issues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rra Club sent a citizen suit notice letter in December 2002 providing notice of only certain SSO vio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ettlement &amp; Litiga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expiration of the 60-day notice period, USEPA &amp; OEPA filed suit in the S.D. of Ohio against City of Cincinnati and Hamilton County, lodging a consent decree settling SSO violations – entitled “Interim and Partial Consent Decre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filed its citizen suit two-weeks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y and County filed a motion to dismiss citizen suit because the ongoing enforcement action represented diligent prosec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nterven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the City and County’s motion to dismiss was pending, Sierra Club moved to intervene into the USEPA and OEPA enforcement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PA “withdrew” the initial consent decree, and asked court to stay litigation until the CSO and WWTP decree were comple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separate CSO consent decree is lodged, court holds fairness h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objects and argues that the decrees should be rejected by cou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onsent Decre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lodged with the court, the initial SSO Decree is revised slightly in reaction to public com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O Decree includes a “Water-in-Basement” program for which Sierra Club takes credit, but it  continues to argue that it does not go far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ge rejects all of Sierra Club’s positions, and enters consent decrees without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s Sierra Club Entitled to Fees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PA and OEPA actions settled by consent decrees to which Sierra Club was not a party and strongly obj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never received any judgment on their citizen suit, as court never ruled on outstanding motion to dismi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t’s final order entering consent decrees instructed only that Sierra Club receive copies of all deliverables under the decrees – a commitment that the City and County made during oral arg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istrict Court said y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wards $1M in attorneys fe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was a “catalyst” whose efforts led to the consent dec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was a “prevailing party” and the entry of the consent decrees provided the “judicial imprimatur” necessary for final judgment on the mer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2:06:03Z</dcterms:created>
  <dc:creator>Michael Murphy</dc:creator>
  <dc:description/>
  <dc:language>en-US</dc:language>
  <cp:lastModifiedBy>Michael Murphy</cp:lastModifiedBy>
  <dcterms:modified xsi:type="dcterms:W3CDTF">2006-10-30T20:21:58Z</dcterms:modified>
  <cp:revision>26</cp:revision>
  <dc:subject/>
  <dc:title>Government Recovery</dc:title>
</cp:coreProperties>
</file>