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61F-C6E4-43A6-B643-4A9F4C68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5C07-8C41-421A-8AD8-224432A2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144E-FE63-4834-B44C-4820B9A4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7EE-605E-4E83-AFF1-1FCE0042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0DC-771B-4250-9B64-C3AF9422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7389-1AF2-440B-800C-95BD5800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9D0D-EC44-499D-9C70-DA6CBE0D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A69-6A9F-4304-A11B-AF6B71B5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F387-C1AA-484A-B352-4102828C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1833-A9C9-4524-9130-7768DAE2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9487-E901-4DFE-8718-9DFCB522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B6C-5C9E-4DC0-AD7F-5E5FCEF8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B2B2-114E-474C-93C8-D36D046F2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3840" y="531360"/>
            <a:ext cx="796140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Prevailing Parties under the</a:t>
            </a:r>
            <a:br>
              <a:rPr sz="4800"/>
            </a:b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Clean Water Act:</a:t>
            </a:r>
            <a:br>
              <a:rPr sz="4800"/>
            </a:b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To the Victor Go the Spoils</a:t>
            </a:r>
            <a:endParaRPr b="0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60400" y="4238280"/>
            <a:ext cx="77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264360" y="357120"/>
            <a:ext cx="253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9040" y="4836960"/>
            <a:ext cx="300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66960" y="4235400"/>
            <a:ext cx="71960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ed by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hael K. Murph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CWA Law Seminar – Citizen Suit Tr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ember 16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120px-US_%241_obverse" descr=""/>
          <p:cNvPicPr/>
          <p:nvPr/>
        </p:nvPicPr>
        <p:blipFill>
          <a:blip r:embed="rId2"/>
          <a:stretch/>
        </p:blipFill>
        <p:spPr>
          <a:xfrm>
            <a:off x="3510000" y="2921040"/>
            <a:ext cx="202716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Issues on Appeal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“catalyst” theory still apply to the citizen suit provision under the CW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 Sierra Club a “prevailing party” under the CWA citizen suit provi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intervenors entitled to fees under the CWA provi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atalyst Theory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jected by Supreme Court i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uckhannon Bd. v. W.Va. Dep’t of Heal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532 U.S. 598 (2001) when statute awards fees to “prevailing parties”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WA awards fees both to “prevailing and substantially prevailing parties”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rict Court found this distinction important, and found catalyst theory still valid under CW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atalyst Theory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ircuit has applie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uckhann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irectly to the CWA –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ierra Club v. City of Little Roc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351 F.3d 840 – rejecting catalyst the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circuit courts have applie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uckhann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other statutes that use “substantially prevailing” language -- RCRA, FOIA, and Preservation 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ogy to Clean Air Act is inappropriate b/c CAA does not contain the “prevailing party” requirement, allowing fees “whenever appropriat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Did Sierra Club “Prevail?”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enforceable judgments on the merits and court-ordered consent decrees” satisf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uckhannon’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quirement for judicially sanctioned relief.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oms v. Taf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338 F.3d 519 (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ir. 200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revailing Partie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rict court and Sierra Club argue that because consent decrees were “entered” by court, that is suffic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erra Club was not a party to the consent decrees, and obtained no “final relief” on the merits of its own clai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nsent decree is not enforceable either directly or in collateral proceedings by those who are not parties to it.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lue Chip Stamps v. Manor Drug Stor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421 U.S. 723 (197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Fees for Intervention?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urt, in issuing any final orde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 any action brought pursuant to this se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may award costs of litigation (including reasonable attorney and expert witness fees) to any prevailing or substantially prevailing party, whenever the court determines such award is appropriate.”  33 U.S.C. § 1365(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Do Intervenors Bring an Action Under the Citizen Suit Provision?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b) Notice. No action may be commenced--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  (1) under subsection (a)(1) of this section--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    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B) if the Administrator or State has commenced and is diligently prosecuting a civil or criminal action in a court of the United States, or a State to require compliance with the standard, limitation, or order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ut in any such action in a court of the United States any citizen may intervene as a matter of r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Intervention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venors have been denied fees in other districts under the CWA.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ited States v. Maine D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980 F. Supp. 546 (D. Me. 199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der the CAA, courts have rejected the “intervenor” argument because the underlying government proceedings were brought pursuant to the federal enforcement provision, and not under the consent decree pro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United States v. National Steel Corp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, 782 F.2d 62 (6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ir. 1986);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United States v. Stone Container Corp.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196 F.3d 1066 (9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ir. 199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A differs from the CWA, though, and OEPA suit filed under § 1365(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ther Defense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lying citizen suit must be valid in order to recover fees.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ynch v. Le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382 F.3d 642 (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ir.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ligent prosec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ce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WA citizen suit jurisdictional limi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3 U.S.C. § 1364 “Emergency Powers” exclu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vigable waters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itizen Suit Case Study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PA/Ohio enforcement action against MSD of Greater Cincinn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tizen suit filed by Sierra Club, who also moved to intervene in the underlying federal lawsu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msdlogo_shadow" descr=""/>
          <p:cNvPicPr/>
          <p:nvPr/>
        </p:nvPicPr>
        <p:blipFill>
          <a:blip r:embed="rId1"/>
          <a:stretch/>
        </p:blipFill>
        <p:spPr>
          <a:xfrm>
            <a:off x="4873680" y="2058840"/>
            <a:ext cx="1482840" cy="1644840"/>
          </a:xfrm>
          <a:prstGeom prst="rect">
            <a:avLst/>
          </a:prstGeom>
          <a:ln w="0">
            <a:noFill/>
          </a:ln>
        </p:spPr>
      </p:pic>
      <p:pic>
        <p:nvPicPr>
          <p:cNvPr id="51" name="weblogo_fall2002" descr=""/>
          <p:cNvPicPr/>
          <p:nvPr/>
        </p:nvPicPr>
        <p:blipFill>
          <a:blip r:embed="rId2"/>
          <a:stretch/>
        </p:blipFill>
        <p:spPr>
          <a:xfrm>
            <a:off x="6772320" y="3675240"/>
            <a:ext cx="1828800" cy="849240"/>
          </a:xfrm>
          <a:prstGeom prst="rect">
            <a:avLst/>
          </a:prstGeom>
          <a:ln w="0">
            <a:noFill/>
          </a:ln>
        </p:spPr>
      </p:pic>
      <p:pic>
        <p:nvPicPr>
          <p:cNvPr id="52" name="epafiles_aara_logo_epaseal" descr=""/>
          <p:cNvPicPr/>
          <p:nvPr/>
        </p:nvPicPr>
        <p:blipFill>
          <a:blip r:embed="rId3"/>
          <a:stretch/>
        </p:blipFill>
        <p:spPr>
          <a:xfrm>
            <a:off x="4867200" y="4527720"/>
            <a:ext cx="1333440" cy="1295280"/>
          </a:xfrm>
          <a:prstGeom prst="rect">
            <a:avLst/>
          </a:prstGeom>
          <a:ln w="0">
            <a:noFill/>
          </a:ln>
        </p:spPr>
      </p:pic>
      <p:pic>
        <p:nvPicPr>
          <p:cNvPr id="53" name="MainBannerOEPA" descr=""/>
          <p:cNvPicPr/>
          <p:nvPr/>
        </p:nvPicPr>
        <p:blipFill>
          <a:blip r:embed="rId4"/>
          <a:srcRect l="0" t="0" r="78854" b="0"/>
          <a:stretch/>
        </p:blipFill>
        <p:spPr>
          <a:xfrm>
            <a:off x="6508800" y="5473800"/>
            <a:ext cx="1550880" cy="619200"/>
          </a:xfrm>
          <a:prstGeom prst="rect">
            <a:avLst/>
          </a:prstGeom>
          <a:ln w="0">
            <a:noFill/>
          </a:ln>
        </p:spPr>
      </p:pic>
      <p:pic>
        <p:nvPicPr>
          <p:cNvPr id="54" name="colorbar2" descr=""/>
          <p:cNvPicPr/>
          <p:nvPr/>
        </p:nvPicPr>
        <p:blipFill>
          <a:blip r:embed="rId5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incinnati History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20440"/>
            <a:ext cx="777240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wer system dates from 18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ed and separate sanitary sewers have numerous overflows during wet we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ography of Cincinnati exacerbates issues dur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vy ra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Overflow2" descr=""/>
          <p:cNvPicPr/>
          <p:nvPr/>
        </p:nvPicPr>
        <p:blipFill>
          <a:blip r:embed="rId1"/>
          <a:stretch/>
        </p:blipFill>
        <p:spPr>
          <a:xfrm>
            <a:off x="3870360" y="4448160"/>
            <a:ext cx="4560840" cy="1474920"/>
          </a:xfrm>
          <a:prstGeom prst="rect">
            <a:avLst/>
          </a:prstGeom>
          <a:ln w="0">
            <a:noFill/>
          </a:ln>
        </p:spPr>
      </p:pic>
      <p:pic>
        <p:nvPicPr>
          <p:cNvPr id="58" name="colorbar2" descr=""/>
          <p:cNvPicPr/>
          <p:nvPr/>
        </p:nvPicPr>
        <p:blipFill>
          <a:blip r:embed="rId2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USEPA &amp; OEPA Enforcemen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PA and OEPA began negotiations to reach comprehensive settlement of CSO, SSO and WWTP issues in 19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es agreed to a phased negotiation to address SSO issues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erra Club sent a citizen suit notice letter in December 2002 providing notice of only certain SSO vio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ettlement &amp; Litigati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to expiration of the 60-day notice period, USEPA &amp; OEPA filed suit in the S.D. of Ohio against City of Cincinnati and Hamilton County, lodging a consent decree settling SSO violations – entitled “Interim and Partial Consent Decre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erra Club filed its citizen suit two-weeks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ty and County filed a motion to dismiss citizen suit because the ongoing enforcement action represented diligent prosec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Interventi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le the City and County’s motion to dismiss was pending, Sierra Club moved to intervene into the USEPA and OEPA enforcement 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PA “withdrew” the initial consent decree, and asked court to stay litigation until the CSO and WWTP decree were comple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separate CSO consent decree is lodged, court holds fairness h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erra Club objects and argues that the decrees should be rejected by cou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onsent Decree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lodged with the court, the initial SSO Decree is revised slightly in reaction to public com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O Decree includes a “Water-in-Basement” program for which Sierra Club takes credit, but it  continues to argue that it does not go far en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dge rejects all of Sierra Club’s positions, and enters consent decrees without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Is Sierra Club Entitled to Fees?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PA and OEPA actions settled by consent decrees to which Sierra Club was not a party and strongly obj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erra Club never received any judgment on their citizen suit, as court never ruled on outstanding motion to dismi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rt’s final order entering consent decrees instructed only that Sierra Club receive copies of all deliverables under the decrees – a commitment that the City and County made during oral arg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District Court said ye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wards $1M in attorneys fe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erra Club was a “catalyst” whose efforts led to the consent dec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erra Club was a “prevailing party” and the entry of the consent decrees provided the “judicial imprimatur” necessary for final judgment on the mer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olorbar2" descr=""/>
          <p:cNvPicPr/>
          <p:nvPr/>
        </p:nvPicPr>
        <p:blipFill>
          <a:blip r:embed="rId1"/>
          <a:stretch/>
        </p:blipFill>
        <p:spPr>
          <a:xfrm>
            <a:off x="0" y="6141960"/>
            <a:ext cx="9144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22:06:03Z</dcterms:created>
  <dc:creator>Michael Murphy</dc:creator>
  <dc:description/>
  <dc:language>en-US</dc:language>
  <cp:lastModifiedBy>Michael Murphy</cp:lastModifiedBy>
  <dcterms:modified xsi:type="dcterms:W3CDTF">2006-10-30T20:21:58Z</dcterms:modified>
  <cp:revision>26</cp:revision>
  <dc:subject/>
  <dc:title>Government Recovery</dc:title>
</cp:coreProperties>
</file>