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FEC5-8EAC-4A66-94EE-5A2E69FCD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How many here have actually constructed a CSO outfall or recommended that one be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If you have CSOs and are alive today, high likelihood that you inherited them. It is, however, highly  unlikely that during the natural lives of anyone in this room that EPA will  officially concede that any CSOs are in compliance with the C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When I thought about clarifying the point of compliance for CSOs, two pictures popped in my mind. One is feeling like a 6 year old on a cross country car trip, going “are we there yet?” But I decided it was more like . . .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 presumed is not on EPA’s web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ed to see LTCPs – blank looks on 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Jan – not on my watch /file/c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arti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alties: $1 million cash penalty to Common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to work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k the approach that we wanted to preclude EPA from being the lead. Timely and appropriate/com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omment period not required under stat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stage for the next larg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lient, may prefer to pay millions of dollars to your lawyers to save you hundreds of thousands, or a few millions. I once paid a divorce lawyer more than the amount that was being claimed by my then soon-to – be ex-husband.  And I felt good about that. But my ex-husband has no regulatory authority over me, ie., he can no longer make my life miserable. So you need to know what is worth fighting over and what is not. And you need to make that choice, not your lawyer. Then your lawyer can wordsmith and tweak. But you need to decide what you can live with, and what you ca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positive experience with MSD, we moved to San. Dis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but sam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physic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ed States v. Krilich, 303 F.3d 784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Run Coalition v. Reilly, 1993 U.S. App. LEXIS 201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Contempt proceedings/ injunctive relief United States v. Wayne County, 40 ERC (BNA) 127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ent decree, while contractual in nature, is enforceable as "a judicial decree that is subject to the rules generally applicable to other judgments and decrees." Rufo v. Inmates of Suffolk Co. Jail, 502 U.S. 367, 378, 116 L. Ed. 2d 867, 112 S. Ct. 748 (1992). Accordingly, parties wishing to modify or vacate a consent decree may do so by resorting to Rule 60(b). In moving to modify or vacate the Consent Decree, Krilich relies upon the third clause of Section (b)(5) of Rule 60, which provides that a judgment may be modified if "it is no longer equitable that the judgment should have prospective application." Fed. R. Civ. P. 60(b)(5). HN5In interpreting this clause of Rule 60(b)(5), the Supreme Court has set forth a two-part test to determine whether modification is warranted. See Rufo, 502 U.S. at 383. Under that test,  [**16]  a party seeking to modify a Consent Decree "bears the burden of establishing that a significant change in circumstances  [*790]  warrants revision of the decree." Id. A party may meet the initial burden of establishing a significant change in circumstances "by showing a significant change either in factual conditions or in law." Id. at 384. Krilich does not contend that there has been a change in factual conditions, only that the Supreme Court's decision in SWANCC is a significant change in the law. If the moving party meets this initial burden, "the court should consider whether the proposed modification is suitably tailored to the changed circumstance." Id. at 383.</a:t>
            </a:r>
            <a:br>
              <a:rPr sz="1200"/>
            </a:br>
            <a:br>
              <a:rPr sz="1200"/>
            </a:br>
            <a:r>
              <a:rPr b="0" lang="en-US" sz="1200" spc="-1" strike="noStrike">
                <a:solidFill>
                  <a:srgbClr val="000000"/>
                </a:solidFill>
                <a:latin typeface="Times New Roman"/>
              </a:rPr>
              <a:t>United States v. Krilich, 303 F.3d 784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Run Coalition v. Reilly, 1993 U.S. App. LEXIS 201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what you mean and mean what you say or be ready to fight on another da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You may feel like Sisyphus, the king In Greek mythology who punishment in hell was to roll a huge rock to the top of  a steep hill, but just as he is almost there, the rock slips away and rolls to the bottom, again, and again, and again. Or you may feel like you have a starring role in the movie   “Groundhog Day”, but the right thing to do ke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changing so you never have a chance to get i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Not knowing what to do with CSOs is not a new phenonem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sins of our fathers, even when the so-called sin was the state of the art technology at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syphus was founder and king of Corinth, or Ephyra as it was called in those days. </a:t>
            </a:r>
            <a:r>
              <a:rPr b="0" lang="en" sz="1200" spc="-1" strike="noStrike">
                <a:solidFill>
                  <a:srgbClr val="000000"/>
                </a:solidFill>
                <a:latin typeface="Times New Roman"/>
                <a:ea typeface="Times New Roman"/>
              </a:rPr>
              <a:t>As a punishment from the gods for his trickery, his punishment in Hades was to roll a huge rock up a steep hill, but before he reached the top of the hill the rock always escaped him and he had to begin again (</a:t>
            </a:r>
            <a:r>
              <a:rPr b="0" i="1" lang="en" sz="1200" spc="-1" strike="noStrike">
                <a:solidFill>
                  <a:srgbClr val="000000"/>
                </a:solidFill>
                <a:latin typeface="Times New Roman"/>
                <a:ea typeface="Times New Roman"/>
              </a:rPr>
              <a:t>Odyssey</a:t>
            </a:r>
            <a:r>
              <a:rPr b="0" lang="en" sz="1200" spc="-1" strike="noStrike">
                <a:solidFill>
                  <a:srgbClr val="000000"/>
                </a:solidFill>
                <a:latin typeface="Times New Roman"/>
                <a:ea typeface="Times New Roman"/>
              </a:rPr>
              <a:t>, xi. 59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ware of Guid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sue has been controversial since at least       , when an environmental group called the MEC sued EPA, claiming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rt addresses that issue, holding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course, left EPA with the challenge of having gross disparity among permit conditions for the &gt; 10k CSO discharge points throughout the country, or with trying to come up with a system of permitting CSOs that provided some consistency, while taking into account the very site specific and climatic variability that characterize CSOs, and the potential for spending hundreds of billions of dollars to implement some of the solutions being tossed about in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almost a decade, not a lot was done. Some permitting authorities ignored them. Others wrote blanket provisions in the permits allowing them. Some recognized them during precipitation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Os burst on the national scene in the 1988 presidential campaign. GHWB had announced that he wanted to be “the environmental president” attacked Mass. Gov. George Dukakis’ environmental record by running  ads that filled TV screens across the country with clips  of raw sewage running into Boston Har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ar later, EPA published a rather anemic CSO strategy, basically telling states to figure it out and submit plans for fixing the problem . . . Because let’s face it, untreated sewage and stormwater, sometimes with an industrial wastewater chaser thrown in, is not a good thing! And since even memebers of Congress could understand that, and since the Ds were in control of the House and Senate in 1989, POTWs had a problem! One of the more modest proposals was to require all CSOs to receive at least secondary trea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before the days when the battle cry on unfunded mandates had rippled through Washington, at least at any discernable volume. POTWs had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me munis, recognizing that you can never build a facility big enough to capture every drop of wet weather, considered them their God –given answer to peak dry-weather flows, postponing the need to expand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348 outfalls in 746 communities in  32 states and 9 reg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2004 report to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ember of the committee signed off on EVERY WORD of the proposes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derailed  by enforcement. Herb 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Concerns – it’s not legal . . . But it will be. Congressmen pass laws. What easier law to pass than one that all the interests agree wi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due to NACWA/then AMSA’s efforts, the 200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F7589-A8A7-47EF-AAFA-3117C343F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2DCE-B405-456D-B087-4EBF7E0AB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628F5-DCDD-4D35-9ECA-03336D61C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F24B6-61B9-45BD-9C68-7B5D725FE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DEF6C-44A3-4F66-A613-D2DC9C650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F0144-D3D1-4576-B8AE-F8095652B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25489-862E-4683-A872-4C6FE3387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7"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69D44-A6D4-4719-ABDB-5AC81C47C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C2200-EC05-40BA-BA4A-76C85F58A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CB380-24D8-4577-9FB4-25A894CAA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02BF8-BBBB-4AC2-B53D-4A465C88D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43052-D2D8-4792-85D3-E170863D3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5"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ED5D9-B2AA-4C38-9DCA-2F45B7FF6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A150-CC12-4518-BB85-5908CF86C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6057E-78CE-45BE-AFDB-A20309D35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2B61C-BEDF-41F2-AEEF-84661CCD8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1"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66922-C9CC-428F-B893-0D18A1280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41AEA-E40C-46D1-A6AA-67906C8D3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C9404-D933-4607-884E-002B2B165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EE3C-6F67-48E6-BD04-FBC3CDF0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9024-586B-435B-BD96-DC924F47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96FF-5AEF-45F1-9A84-57EBE8F71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340EE-B5F0-4815-8124-D47657334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78E7-8AB5-4341-AF64-F0618525F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F036-50E0-4734-AE48-BBB5F8F2A873}"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6AE9-BAD9-44C4-A32E-3DFDECACE268}"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262800"/>
            <a:ext cx="8637480" cy="122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ACWA</a:t>
            </a:r>
            <a:br>
              <a:rPr sz="4400"/>
            </a:br>
            <a:r>
              <a:rPr b="0" lang="en-US" sz="3000" spc="-1" strike="noStrike">
                <a:solidFill>
                  <a:srgbClr val="ffcc00"/>
                </a:solidFill>
                <a:latin typeface="Arial"/>
              </a:rPr>
              <a:t>What is the “Point” of Compliance?</a:t>
            </a:r>
            <a:endParaRPr b="0" lang="en-US" sz="30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SOs, Compliance and</a:t>
            </a:r>
            <a:endParaRPr b="0" lang="en-US" sz="4400" spc="-1" strike="noStrike">
              <a:solidFill>
                <a:srgbClr val="ffffcc"/>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Clean Water Act</a:t>
            </a:r>
            <a:endParaRPr b="0" lang="en-US" sz="44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y</a:t>
            </a:r>
            <a:endParaRPr b="0" lang="en-US" sz="32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Juana S. Wilcher</a:t>
            </a:r>
            <a:endParaRPr b="0" lang="en-US" sz="32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vember 17, 2006</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6316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ompliance with the CSO Policy: The Four “Forgotten” Principles</a:t>
            </a:r>
            <a:r>
              <a:rPr b="0" lang="en-US" sz="4400" spc="-1" strike="noStrike">
                <a:solidFill>
                  <a:srgbClr val="ffcc00"/>
                </a:solidFill>
                <a:latin typeface="Arial"/>
              </a:rPr>
              <a:t> </a:t>
            </a:r>
            <a:endParaRPr b="0" lang="en-US" sz="4400" spc="-1" strike="noStrike">
              <a:solidFill>
                <a:srgbClr val="ffcc00"/>
              </a:solidFill>
              <a:latin typeface="Arial"/>
            </a:endParaRPr>
          </a:p>
        </p:txBody>
      </p:sp>
      <p:sp>
        <p:nvSpPr>
          <p:cNvPr id="11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ear levels of control </a:t>
            </a:r>
            <a:r>
              <a:rPr b="0" lang="en-US" sz="2800" spc="-1" strike="noStrike">
                <a:solidFill>
                  <a:srgbClr val="ffcc00"/>
                </a:solidFill>
                <a:latin typeface="Arial"/>
              </a:rPr>
              <a:t>PRESUMED</a:t>
            </a:r>
            <a:r>
              <a:rPr b="0" lang="en-US" sz="2800" spc="-1" strike="noStrike">
                <a:solidFill>
                  <a:srgbClr val="ffffcc"/>
                </a:solidFill>
                <a:latin typeface="Arial"/>
              </a:rPr>
              <a:t> to meet appropriate health and environmental objectiv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FLEXIBILITY</a:t>
            </a:r>
            <a:r>
              <a:rPr b="0" lang="en-US" sz="2800" spc="-1" strike="noStrike">
                <a:solidFill>
                  <a:srgbClr val="ffffcc"/>
                </a:solidFill>
                <a:latin typeface="Arial"/>
              </a:rPr>
              <a:t> to munis to consider site-specific nature of CSOs and select cost-effective control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a:t>
            </a:r>
            <a:r>
              <a:rPr b="0" lang="en-US" sz="2800" spc="-1" strike="noStrike">
                <a:solidFill>
                  <a:srgbClr val="ffcc00"/>
                </a:solidFill>
                <a:latin typeface="Arial"/>
              </a:rPr>
              <a:t>PHASED</a:t>
            </a:r>
            <a:r>
              <a:rPr b="0" lang="en-US" sz="2800" spc="-1" strike="noStrike">
                <a:solidFill>
                  <a:srgbClr val="ffffcc"/>
                </a:solidFill>
                <a:latin typeface="Arial"/>
              </a:rPr>
              <a:t> approach</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REVIEW AND REVISION OF WQ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pliance with the CSO Policy</a:t>
            </a:r>
            <a:endParaRPr b="0" lang="en-US" sz="4400" spc="-1" strike="noStrike">
              <a:solidFill>
                <a:srgbClr val="ffcc00"/>
              </a:solidFill>
              <a:latin typeface="Arial"/>
            </a:endParaRPr>
          </a:p>
        </p:txBody>
      </p:sp>
      <p:sp>
        <p:nvSpPr>
          <p:cNvPr id="11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MC Guidance is pretty good about documenting compliance for NMC</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MC or LTCP?</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TCP – Presumption of Complianc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 (4) overflows/yr PRESUMED to be in compliance, up to 6</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es NOT start with ability to pay</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	</a:t>
            </a:r>
            <a:r>
              <a:rPr b="0" lang="en-US" sz="3000" spc="-1" strike="noStrike">
                <a:solidFill>
                  <a:srgbClr val="ffcc00"/>
                </a:solidFill>
                <a:latin typeface="Arial"/>
              </a:rPr>
              <a:t>	</a:t>
            </a:r>
            <a:r>
              <a:rPr b="0" lang="en-US" sz="3000" spc="-1" strike="noStrike">
                <a:solidFill>
                  <a:srgbClr val="ffcc00"/>
                </a:solidFill>
                <a:latin typeface="Arial"/>
              </a:rPr>
              <a:t>In Kentucky</a:t>
            </a:r>
            <a:endParaRPr b="0" lang="en-US" sz="3000" spc="-1" strike="noStrike">
              <a:solidFill>
                <a:srgbClr val="ffcc00"/>
              </a:solidFill>
              <a:latin typeface="Arial"/>
            </a:endParaRPr>
          </a:p>
        </p:txBody>
      </p:sp>
      <p:sp>
        <p:nvSpPr>
          <p:cNvPr id="12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7 CSO Communiti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ly one “ approved” LTCP, with no firm deadlines for compliance in that on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clear documentation of NMC</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inclusion of CSO requirements in permit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CALL from EPA – State Lea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r>
              <a:rPr b="0" lang="en-US" sz="3000" spc="-1" strike="noStrike">
                <a:solidFill>
                  <a:srgbClr val="ffcc00"/>
                </a:solidFill>
                <a:latin typeface="Arial"/>
              </a:rPr>
              <a:t>Louisville-Jefferson County MSD</a:t>
            </a:r>
            <a:endParaRPr b="0" lang="en-US" sz="3000" spc="-1" strike="noStrike">
              <a:solidFill>
                <a:srgbClr val="ffcc00"/>
              </a:solidFill>
              <a:latin typeface="Arial"/>
            </a:endParaRPr>
          </a:p>
        </p:txBody>
      </p:sp>
      <p:sp>
        <p:nvSpPr>
          <p:cNvPr id="12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pproved LTCP</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nforcement action initiated in state court Jan. 2004</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greement reached spring 2005</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PA, DOJ invited to participate in negotiation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parties agree and file in federal court April 2005</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r>
              <a:rPr b="0" lang="en-US" sz="3000" spc="-1" strike="noStrike">
                <a:solidFill>
                  <a:srgbClr val="ffcc00"/>
                </a:solidFill>
                <a:latin typeface="Arial"/>
              </a:rPr>
              <a:t>Louisville-Jefferson County MSD</a:t>
            </a:r>
            <a:endParaRPr b="0" lang="en-US" sz="30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adlines to document NMC</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adlines to “update” LTCP</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ublic participation requirement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lan to create a pla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d not develop and evaluate engineering alternatives at the litigation table, with EPA leverage in pla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r>
              <a:rPr b="0" lang="en-US" sz="3000" spc="-1" strike="noStrike">
                <a:solidFill>
                  <a:srgbClr val="ffcc00"/>
                </a:solidFill>
                <a:latin typeface="Arial"/>
              </a:rPr>
              <a:t>Sanitation District # 1</a:t>
            </a:r>
            <a:endParaRPr b="0" lang="en-US" sz="30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ilarities to MS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UT development of a LTCP done </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 a watershed basi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ing an integrated management approach</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me firm deadlines, … but engineering not done during negotiation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endParaRPr b="0" lang="en-US" sz="3000" spc="-1" strike="noStrike">
              <a:solidFill>
                <a:srgbClr val="ffcc00"/>
              </a:solidFill>
              <a:latin typeface="Arial"/>
            </a:endParaRPr>
          </a:p>
        </p:txBody>
      </p:sp>
      <p:sp>
        <p:nvSpPr>
          <p:cNvPr id="12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dvantages: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l CD (bar to citizens suit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inimizes time in negotiations and costs (emotional and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ts city on a faster track toward addressing CSO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sitive relationships among parti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endParaRPr b="0" lang="en-US" sz="3000" spc="-1" strike="noStrike">
              <a:solidFill>
                <a:srgbClr val="ffcc00"/>
              </a:solidFill>
              <a:latin typeface="Arial"/>
            </a:endParaRPr>
          </a:p>
        </p:txBody>
      </p:sp>
      <p:sp>
        <p:nvSpPr>
          <p:cNvPr id="13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advantag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me uncertainty</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tential for conflict in the futur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tential for disputes over meaning of compliance with C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monstrating Compliance</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com·pli·ance </a:t>
            </a:r>
            <a:r>
              <a:rPr b="1" lang="en-US" sz="2800" spc="-1" strike="noStrike">
                <a:solidFill>
                  <a:srgbClr val="ffffcc"/>
                </a:solidFill>
                <a:latin typeface="Arial"/>
                <a:ea typeface="Times New Roman"/>
              </a:rPr>
              <a:t>1a.</a:t>
            </a:r>
            <a:r>
              <a:rPr b="0" lang="en-US" sz="2800" spc="-1" strike="noStrike">
                <a:solidFill>
                  <a:srgbClr val="ffffcc"/>
                </a:solidFill>
                <a:latin typeface="Arial"/>
                <a:ea typeface="Times New Roman"/>
              </a:rPr>
              <a:t> The act of complying with a wish, request, or demand; acquiescence. </a:t>
            </a:r>
            <a:r>
              <a:rPr b="1" lang="en-US" sz="2800" spc="-1" strike="noStrike">
                <a:solidFill>
                  <a:srgbClr val="ffffcc"/>
                </a:solidFill>
                <a:latin typeface="Arial"/>
                <a:ea typeface="Times New Roman"/>
              </a:rPr>
              <a:t>b.</a:t>
            </a:r>
            <a:r>
              <a:rPr b="0" lang="en-US" sz="2800" spc="-1" strike="noStrike">
                <a:solidFill>
                  <a:srgbClr val="ffffcc"/>
                </a:solidFill>
                <a:latin typeface="Arial"/>
                <a:ea typeface="Times New Roman"/>
              </a:rPr>
              <a:t> </a:t>
            </a:r>
            <a:r>
              <a:rPr b="0" i="1" lang="en-US" sz="2800" spc="-1" strike="noStrike">
                <a:solidFill>
                  <a:srgbClr val="ffffcc"/>
                </a:solidFill>
                <a:latin typeface="Arial"/>
                <a:ea typeface="Times New Roman"/>
              </a:rPr>
              <a:t>Medicine</a:t>
            </a:r>
            <a:r>
              <a:rPr b="0" lang="en-US" sz="2800" spc="-1" strike="noStrike">
                <a:solidFill>
                  <a:srgbClr val="ffffcc"/>
                </a:solidFill>
                <a:latin typeface="Arial"/>
                <a:ea typeface="Times New Roman"/>
              </a:rPr>
              <a:t> Willingness to follow a prescribed course of treatment. </a:t>
            </a:r>
            <a:r>
              <a:rPr b="1" lang="en-US" sz="2800" spc="-1" strike="noStrike">
                <a:solidFill>
                  <a:srgbClr val="ffffcc"/>
                </a:solidFill>
                <a:latin typeface="Arial"/>
                <a:ea typeface="Times New Roman"/>
              </a:rPr>
              <a:t>2.</a:t>
            </a:r>
            <a:r>
              <a:rPr b="0" lang="en-US" sz="2800" spc="-1" strike="noStrike">
                <a:solidFill>
                  <a:srgbClr val="ffffcc"/>
                </a:solidFill>
                <a:latin typeface="Arial"/>
                <a:ea typeface="Times New Roman"/>
              </a:rPr>
              <a:t> A disposition or tendency to yield to the will of others. </a:t>
            </a:r>
            <a:r>
              <a:rPr b="1" lang="en-US" sz="2800" spc="-1" strike="noStrike">
                <a:solidFill>
                  <a:srgbClr val="ffffcc"/>
                </a:solidFill>
                <a:latin typeface="Arial"/>
                <a:ea typeface="Times New Roman"/>
              </a:rPr>
              <a:t>3a.</a:t>
            </a:r>
            <a:r>
              <a:rPr b="0" lang="en-US" sz="2800" spc="-1" strike="noStrike">
                <a:solidFill>
                  <a:srgbClr val="ffffcc"/>
                </a:solidFill>
                <a:latin typeface="Arial"/>
                <a:ea typeface="Times New Roman"/>
              </a:rPr>
              <a:t> Extension or displacement of a loaded structure per unit load. </a:t>
            </a:r>
            <a:r>
              <a:rPr b="1" lang="en-US" sz="2800" spc="-1" strike="noStrike">
                <a:solidFill>
                  <a:srgbClr val="ffffcc"/>
                </a:solidFill>
                <a:latin typeface="Arial"/>
                <a:ea typeface="Times New Roman"/>
              </a:rPr>
              <a:t>b.</a:t>
            </a:r>
            <a:r>
              <a:rPr b="0" lang="en-US" sz="2800" spc="-1" strike="noStrike">
                <a:solidFill>
                  <a:srgbClr val="ffffcc"/>
                </a:solidFill>
                <a:latin typeface="Arial"/>
                <a:ea typeface="Times New Roman"/>
              </a:rPr>
              <a:t> Flexibility. (American Heritage Dictionary)</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cument, document, document</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ut it in the writing</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ular contact with regulators</a:t>
            </a:r>
            <a:endParaRPr b="0" lang="en-US" sz="2800" spc="-1" strike="noStrike">
              <a:solidFill>
                <a:srgbClr val="ffff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Judicial Interpretation of Final Consent Decrees</a:t>
            </a:r>
            <a:endParaRPr b="0" lang="en-US" sz="3000" spc="-1" strike="noStrike">
              <a:solidFill>
                <a:srgbClr val="ffcc00"/>
              </a:solidFill>
              <a:latin typeface="Arial"/>
            </a:endParaRPr>
          </a:p>
        </p:txBody>
      </p:sp>
      <p:sp>
        <p:nvSpPr>
          <p:cNvPr id="13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400" spc="-1" strike="noStrike">
                <a:solidFill>
                  <a:srgbClr val="ffffcc"/>
                </a:solidFill>
                <a:latin typeface="Arial"/>
              </a:rPr>
              <a:t>A consent decree has the attributes of a contract voluntarily undertaken.</a:t>
            </a:r>
            <a:r>
              <a:rPr b="0" lang="en-US" sz="2400" spc="-1" strike="noStrike">
                <a:solidFill>
                  <a:srgbClr val="ffffcc"/>
                </a:solidFill>
                <a:latin typeface="Trebuchet MS"/>
              </a:rPr>
              <a:t> </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ile contractual in nature, is enforceable as a judicial decree (injunctive relief, contempt)</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fter entry of a CD, a court will not usually modify or add to its terms unless under FRCP 60.</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ourt should not modify a decree by interposing terms not agreed to by the parties or nor included in the language of the agreement. </a:t>
            </a:r>
            <a:r>
              <a:rPr b="0" i="1" lang="en-US" sz="2400" spc="-1" strike="noStrike">
                <a:solidFill>
                  <a:srgbClr val="ffffcc"/>
                </a:solidFill>
                <a:latin typeface="Arial"/>
              </a:rPr>
              <a:t>Harris v. City of Philadelphia</a:t>
            </a:r>
            <a:r>
              <a:rPr b="0" lang="en-US" sz="2400" spc="-1" strike="noStrike">
                <a:solidFill>
                  <a:srgbClr val="ffffcc"/>
                </a:solidFill>
                <a:latin typeface="Arial"/>
              </a:rPr>
              <a:t>, 137 F.3d 209  (3</a:t>
            </a:r>
            <a:r>
              <a:rPr b="0" lang="en-US" sz="2400" spc="-1" strike="noStrike" baseline="30000">
                <a:solidFill>
                  <a:srgbClr val="ffffcc"/>
                </a:solidFill>
                <a:latin typeface="Arial"/>
              </a:rPr>
              <a:t>rd</a:t>
            </a:r>
            <a:r>
              <a:rPr b="0" lang="en-US" sz="2400" spc="-1" strike="noStrike">
                <a:solidFill>
                  <a:srgbClr val="ffffcc"/>
                </a:solidFill>
                <a:latin typeface="Arial"/>
              </a:rPr>
              <a:t> Cir. 1998).</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Court may modify the decree if changed circumstances subvert its intended purpose</a:t>
            </a:r>
            <a:r>
              <a:rPr b="0" lang="en-US" sz="2400" spc="-1" strike="noStrike">
                <a:solidFill>
                  <a:srgbClr val="ffffcc"/>
                </a:solidFill>
                <a:latin typeface="Trebuchet MS"/>
              </a:rPr>
              <a:t>.</a:t>
            </a:r>
            <a:r>
              <a:rPr b="0" lang="en-US" sz="2400" spc="-1" strike="noStrike">
                <a:solidFill>
                  <a:srgbClr val="ffffcc"/>
                </a:solidFill>
                <a:latin typeface="Arial"/>
              </a:rPr>
              <a:t> </a:t>
            </a:r>
            <a:endParaRPr b="0" lang="en-US" sz="2400" spc="-1" strike="noStrike">
              <a:solidFill>
                <a:srgbClr val="ffffcc"/>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38120"/>
            <a:ext cx="9144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r, </a:t>
            </a:r>
            <a:br>
              <a:rPr sz="4400"/>
            </a:br>
            <a:r>
              <a:rPr b="0" lang="en-US" sz="4400" spc="-1" strike="noStrike">
                <a:solidFill>
                  <a:srgbClr val="ffcc00"/>
                </a:solidFill>
                <a:latin typeface="Arial"/>
              </a:rPr>
              <a:t>Sisyphus,  Compliance and CSOs</a:t>
            </a:r>
            <a:endParaRPr b="0" lang="en-US" sz="4400" spc="-1" strike="noStrike">
              <a:solidFill>
                <a:srgbClr val="ffcc00"/>
              </a:solidFill>
              <a:latin typeface="Arial"/>
            </a:endParaRPr>
          </a:p>
        </p:txBody>
      </p:sp>
      <p:graphicFrame>
        <p:nvGraphicFramePr>
          <p:cNvPr id="97" name=""/>
          <p:cNvGraphicFramePr/>
          <p:nvPr/>
        </p:nvGraphicFramePr>
        <p:xfrm>
          <a:off x="5295960" y="2209680"/>
          <a:ext cx="3848040" cy="3740400"/>
        </p:xfrm>
        <a:graphic>
          <a:graphicData uri="http://schemas.openxmlformats.org/presentationml/2006/ole">
            <p:oleObj r:id="rId1" spid="">
              <p:embed/>
              <p:pic>
                <p:nvPicPr>
                  <p:cNvPr id="98" name="" descr=""/>
                  <p:cNvPicPr/>
                  <p:nvPr/>
                </p:nvPicPr>
                <p:blipFill>
                  <a:blip r:embed="rId2"/>
                  <a:stretch/>
                </p:blipFill>
                <p:spPr>
                  <a:xfrm>
                    <a:off x="5295960" y="2209680"/>
                    <a:ext cx="3848040" cy="3740400"/>
                  </a:xfrm>
                  <a:prstGeom prst="rect">
                    <a:avLst/>
                  </a:prstGeom>
                  <a:ln w="0">
                    <a:noFill/>
                  </a:ln>
                </p:spPr>
              </p:pic>
            </p:oleObj>
          </a:graphicData>
        </a:graphic>
      </p:graphicFrame>
      <p:sp>
        <p:nvSpPr>
          <p:cNvPr id="99" name="PlaceHolder 2"/>
          <p:cNvSpPr>
            <a:spLocks noGrp="1"/>
          </p:cNvSpPr>
          <p:nvPr>
            <p:ph/>
          </p:nvPr>
        </p:nvSpPr>
        <p:spPr>
          <a:xfrm>
            <a:off x="4513320" y="1941480"/>
            <a:ext cx="4024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00" name=""/>
          <p:cNvGraphicFramePr/>
          <p:nvPr/>
        </p:nvGraphicFramePr>
        <p:xfrm>
          <a:off x="1447920" y="4543560"/>
          <a:ext cx="2381040" cy="2314440"/>
        </p:xfrm>
        <a:graphic>
          <a:graphicData uri="http://schemas.openxmlformats.org/presentationml/2006/ole">
            <p:oleObj r:id="rId3" spid="">
              <p:embed/>
              <p:pic>
                <p:nvPicPr>
                  <p:cNvPr id="101" name="" descr=""/>
                  <p:cNvPicPr/>
                  <p:nvPr/>
                </p:nvPicPr>
                <p:blipFill>
                  <a:blip r:embed="rId4"/>
                  <a:stretch/>
                </p:blipFill>
                <p:spPr>
                  <a:xfrm>
                    <a:off x="1447920" y="4543560"/>
                    <a:ext cx="2381040" cy="23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Judicial Interpretation of Final Consent Decrees</a:t>
            </a:r>
            <a:endParaRPr b="0" lang="en-US" sz="3000" spc="-1" strike="noStrike">
              <a:solidFill>
                <a:srgbClr val="ffcc00"/>
              </a:solidFill>
              <a:latin typeface="Arial"/>
            </a:endParaRPr>
          </a:p>
        </p:txBody>
      </p:sp>
      <p:sp>
        <p:nvSpPr>
          <p:cNvPr id="13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language in CD says “in compliance with CWA” or “in compliance with CSO policy” or “in compliance with the Guidance” how much deference will a court give EPA’s interpretation of the documents under progeny of Chevro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Judicial Interpretation of Final Consent Decrees</a:t>
            </a:r>
            <a:endParaRPr b="0" lang="en-US" sz="30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y what you mean</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mean what you say</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r prepare to fight</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nother day!</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 sometimes is </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better wa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531720"/>
            <a:ext cx="80773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 </a:t>
            </a:r>
            <a:br>
              <a:rPr sz="3000"/>
            </a:br>
            <a:r>
              <a:rPr b="0" lang="en-US" sz="3000" spc="-1" strike="noStrike">
                <a:solidFill>
                  <a:srgbClr val="ffcc00"/>
                </a:solidFill>
                <a:latin typeface="Arial"/>
              </a:rPr>
              <a:t>Lack of Clarity is Not New </a:t>
            </a:r>
            <a:endParaRPr b="0" lang="en-US" sz="30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SOs Are Not:</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rt of a treatment works</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bject to secondary treatment requirement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SOs Are:</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Subject to Best Practicable Technology (BPT) Based On Best Professional Judgment (BPJ) (and WQS)</a:t>
            </a:r>
            <a:endParaRPr b="0" lang="en-US" sz="28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ffffcc"/>
                </a:solidFill>
                <a:latin typeface="Arial"/>
              </a:rPr>
              <a:t>Montgomery Environmental Coalition v. Costle,</a:t>
            </a:r>
            <a:r>
              <a:rPr b="0" lang="en-US" sz="2000" spc="-1" strike="noStrike">
                <a:solidFill>
                  <a:srgbClr val="ffffcc"/>
                </a:solidFill>
                <a:latin typeface="Arial"/>
              </a:rPr>
              <a:t> 646 F.2d 568 (D.C. Cir. 1980)</a:t>
            </a:r>
            <a:endParaRPr b="0" lang="en-US" sz="2000" spc="-1" strike="noStrike">
              <a:solidFill>
                <a:srgbClr val="ffff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507240"/>
            <a:ext cx="77724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the “Point” of Compliance?</a:t>
            </a:r>
            <a:br>
              <a:rPr sz="3200"/>
            </a:br>
            <a:r>
              <a:rPr b="0" lang="en-US" sz="3200" spc="-1" strike="noStrike">
                <a:solidFill>
                  <a:srgbClr val="ffcc00"/>
                </a:solidFill>
                <a:latin typeface="Arial"/>
              </a:rPr>
              <a:t>Little Progress in the 1980s</a:t>
            </a:r>
            <a:endParaRPr b="0" lang="en-US" sz="32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SOs (Sewage) in Boston Harbor a campaign issue in 1988 Bush vs. Dukakis Presidential Campaig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989 – (Anemic) </a:t>
            </a:r>
            <a:r>
              <a:rPr b="0" i="1" lang="en-US" sz="3200" spc="-1" strike="noStrike">
                <a:solidFill>
                  <a:srgbClr val="ffffcc"/>
                </a:solidFill>
                <a:latin typeface="Arial"/>
              </a:rPr>
              <a:t>National Combined Sewer Overflow Strategy,</a:t>
            </a:r>
            <a:r>
              <a:rPr b="0" lang="en-US" sz="3200" spc="-1" strike="noStrike">
                <a:solidFill>
                  <a:srgbClr val="ffffcc"/>
                </a:solidFill>
                <a:latin typeface="Arial"/>
              </a:rPr>
              <a:t> 54 </a:t>
            </a:r>
            <a:r>
              <a:rPr b="0" i="1" lang="en-US" sz="3200" spc="-1" strike="noStrike">
                <a:solidFill>
                  <a:srgbClr val="ffffcc"/>
                </a:solidFill>
                <a:latin typeface="Arial"/>
              </a:rPr>
              <a:t>Fed. Reg.</a:t>
            </a:r>
            <a:r>
              <a:rPr b="0" lang="en-US" sz="3200" spc="-1" strike="noStrike">
                <a:solidFill>
                  <a:srgbClr val="ffffcc"/>
                </a:solidFill>
                <a:latin typeface="Arial"/>
              </a:rPr>
              <a:t> 37,371 (Sept. 18, 1989)</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507240"/>
            <a:ext cx="777240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the “Point” of </a:t>
            </a:r>
            <a:r>
              <a:rPr b="0" lang="en-US" sz="2800" spc="-1" strike="noStrike">
                <a:solidFill>
                  <a:srgbClr val="ffcc00"/>
                </a:solidFill>
                <a:latin typeface="Arial"/>
              </a:rPr>
              <a:t>Compliance</a:t>
            </a:r>
            <a:r>
              <a:rPr b="0" lang="en-US" sz="3200" spc="-1" strike="noStrike">
                <a:solidFill>
                  <a:srgbClr val="ffcc00"/>
                </a:solidFill>
                <a:latin typeface="Arial"/>
              </a:rPr>
              <a:t>?</a:t>
            </a:r>
            <a:br>
              <a:rPr sz="3200"/>
            </a:br>
            <a:r>
              <a:rPr b="0" lang="en-US" sz="3200" spc="-1" strike="noStrike">
                <a:solidFill>
                  <a:srgbClr val="ffcc00"/>
                </a:solidFill>
                <a:latin typeface="Arial"/>
              </a:rPr>
              <a:t>Setting a Consensus Course in the 1990s</a:t>
            </a:r>
            <a:endParaRPr b="0" lang="en-US" sz="3200" spc="-1" strike="noStrike">
              <a:solidFill>
                <a:srgbClr val="ffcc00"/>
              </a:solidFill>
              <a:latin typeface="Arial"/>
            </a:endParaRPr>
          </a:p>
        </p:txBody>
      </p:sp>
      <p:sp>
        <p:nvSpPr>
          <p:cNvPr id="10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bcommittee of FACA Chartered OW Management Advisory Group</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MSA (now NACWA members), EPA, States, enviros, consultants . . . lockdowns through much of 1992, then additional internal EPA mtgs.</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posed Jan.19, 1993</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nal Combined Sewer Overflow Policy, 59 Fed. Reg. 18,688 (April 19, 1994)</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658800"/>
            <a:ext cx="8637480" cy="82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is the “Point” of Compliance?</a:t>
            </a:r>
            <a:br>
              <a:rPr sz="2400"/>
            </a:br>
            <a:r>
              <a:rPr b="0" lang="en-US" sz="2400" spc="-1" strike="noStrike">
                <a:solidFill>
                  <a:srgbClr val="ffcc00"/>
                </a:solidFill>
                <a:latin typeface="Arial"/>
              </a:rPr>
              <a:t>Becoming “Legal” in the 21</a:t>
            </a:r>
            <a:r>
              <a:rPr b="0" lang="en-US" sz="2400" spc="-1" strike="noStrike" baseline="30000">
                <a:solidFill>
                  <a:srgbClr val="ffcc00"/>
                </a:solidFill>
                <a:latin typeface="Arial"/>
              </a:rPr>
              <a:t>st</a:t>
            </a:r>
            <a:r>
              <a:rPr b="0" lang="en-US" sz="2400" spc="-1" strike="noStrike">
                <a:solidFill>
                  <a:srgbClr val="ffcc00"/>
                </a:solidFill>
                <a:latin typeface="Arial"/>
              </a:rPr>
              <a:t> Century</a:t>
            </a:r>
            <a:endParaRPr b="0" lang="en-US" sz="2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Each permit, order or decree issued issued pursuant to this Act after [December 15, 2000] shall conform to the Combined Sewer Overflow Policy signed by the Administrator on April 11, 1994.” Consolidated Appropriations Act for Fiscal Year 2001(P.L. 106-554), adding CWA 402(q)(1).</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pliance with the CSO Policy</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OTW must:</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liminate dry weather overflow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lement Nine Minimum Control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a Long Term Control Plan</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lement a Long Term Control Pla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ompliance with the CSO Policy</a:t>
            </a:r>
            <a:endParaRPr b="0" lang="en-US" sz="3600" spc="-1" strike="noStrike">
              <a:solidFill>
                <a:srgbClr val="ffcc00"/>
              </a:solidFill>
              <a:latin typeface="Arial"/>
            </a:endParaRPr>
          </a:p>
        </p:txBody>
      </p:sp>
      <p:sp>
        <p:nvSpPr>
          <p:cNvPr id="11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 as Mu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is enough?</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MC’s requirements for control of solids and floatables, pollution prevention, public notification, monitoring</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TCP’s requirements for monitoring, modeling, public participation, flow control,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7:23:04Z</dcterms:created>
  <dc:creator> </dc:creator>
  <dc:description/>
  <dc:language>en-US</dc:language>
  <cp:lastModifiedBy>LaJuana S. Wilcher</cp:lastModifiedBy>
  <dcterms:modified xsi:type="dcterms:W3CDTF">2006-11-17T14:05:26Z</dcterms:modified>
  <cp:revision>13</cp:revision>
  <dc:subject/>
  <dc:title>NACWA What is the “Point” of Compliance?</dc:title>
</cp:coreProperties>
</file>