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C85-5EE5-4276-A38A-2CDA0E20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0F6-4B7B-40E1-BC13-59A919E3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9E6-986E-4C2A-B5B2-78883D52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C394-1BA6-4CD3-B1EA-8AA97387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09F7-C720-47FB-A67B-BE731F11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908E-BF29-4D2D-A8B7-EEDD5543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5C5F-85E5-49BC-B4A2-C495BEAC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1781-191E-4DE8-8EE4-681F3BEF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9DD9-BECB-44A1-B172-D31888A5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0C28-CB97-48E4-87B2-8CDCDC26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FBC9-6AF1-43EC-B20F-BAD505B7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E2E-8F4B-4FA1-86ED-090F30D7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A013-EFE5-4952-A69D-E56CE474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7910-3600-4589-81B5-10BCCE27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BC9F-993A-4427-9388-961D6194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FD19-3342-48B9-A66F-4A247CCB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8EE9-2593-4CA6-96EE-A5CF1501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C2E3-6D9F-4838-9550-C205A04C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049-1B83-4D71-8288-DDDE2FF5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E73C-FB73-498E-99C4-70278791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7CE-3843-4DA5-A812-A26D6CAC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3A0-448A-43C9-9ADC-9FB7D12D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372-F350-4F48-8041-9C05086B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123-647D-4A93-BB39-BD25AA9F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AE0C-777F-47EE-9166-D576BC1E312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E3C1-83F0-4B9A-8FFB-844767D2DB3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POINT OF COMPLIANCE”</a:t>
            </a:r>
            <a:br>
              <a:rPr sz="4800"/>
            </a:br>
            <a:br>
              <a:rPr sz="4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Karen A. Mignone*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epe &amp; Hazard LLP</a:t>
            </a:r>
            <a:br>
              <a:rPr sz="4800"/>
            </a:b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*with sincere apologies to Stephen Colbert</a:t>
            </a:r>
            <a:br>
              <a:rPr sz="48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OFTEN THEY ARE NOT ON THE SAME PLANET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WITHOUT EPA AND STATE AGENCIES, MANY LAWYERS WOULD HAVE TO FIND NEW JOBS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INT OF COMPLIANCE”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IT KEEPS GOVERNMENT LAWYERS BUSY 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THE GOVERNMENT LAWYERS NEED TO BE PAID DON’T THEY?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NO, OF COURSE THERE IS NO CONFLIC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WHY DOESN’T EPA JUST HAVE A BAKE SALE?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WHO PAYS FOR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BOBBY KENNEDY’S IN-ROOM MOVIES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WE ARE FROM THE GOVERNMENT AND WE ARE HERE TO HELP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EW EPA RUL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O WILL PAY FOR IMPROVEMENTS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ON’T ASK – JUST DO I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EXACTLY HOW MUCH MONEY DO YOU HAVE?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23:32:58Z</dcterms:created>
  <dc:creator>Pepe &amp; Hazard</dc:creator>
  <dc:description/>
  <dc:language>en-US</dc:language>
  <cp:lastModifiedBy>Pepe &amp; Hazard</cp:lastModifiedBy>
  <dcterms:modified xsi:type="dcterms:W3CDTF">2006-11-17T15:13:54Z</dcterms:modified>
  <cp:revision>8</cp:revision>
  <dc:subject/>
  <dc:title>“POINT OF COMPLIANCE”</dc:title>
</cp:coreProperties>
</file>