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9D1A-87D7-4826-B4EE-C77894433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7A9A-3DEC-4C2E-9F8F-DEE49FD67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6257-6FB7-469D-BD36-4560DEDA8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7CAD-0ABD-4350-926A-4E425E375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7280B-9554-445A-9DB1-1968C501F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C01F5-0909-451C-8FCD-3331096F6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99F36-6CC8-4CB0-8E97-05DDD8204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3467A-F779-4116-905D-81EA33CE0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3651D-C663-4163-A9B1-4EDC9464F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719F0-935F-4DE8-BF77-6AC6A13A5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B010D-ED62-402A-B6E8-708A3480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7D3D-4D16-47C2-8F7A-A3832E920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CB58F-52DD-4210-8335-0AC18759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A0BB6-F59C-4B43-BF17-B4EABB481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EAF2B-1862-4B3E-9595-8C6EDEF44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C8BBF-DD44-43A6-9734-5E4B7A39C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52046-8CF7-4CF9-B013-5DF732067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E54F-8096-4E59-B1B1-E0546BE54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AC34-D857-47B9-B3D8-99E53E542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4B67-8F93-4E48-A07E-030F103B6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4893-2D3B-4F74-9417-48F19DA88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B9CC-9DBF-4126-9DCF-E0A188E5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F4B2-280F-4DA9-A89D-7E6521C8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EC21-824B-4EF3-A240-3063D2E84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D6AD8-8303-47B2-BD9A-D2A54BA9F41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9CF57-1A3F-43EC-B391-CABB3125CC1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“</a:t>
            </a: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POINT OF COMPLIANCE”</a:t>
            </a:r>
            <a:br>
              <a:rPr sz="4800"/>
            </a:br>
            <a:br>
              <a:rPr sz="48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Karen A. Mignone*</a:t>
            </a:r>
            <a:br>
              <a:rPr sz="28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Pepe &amp; Hazard LLP</a:t>
            </a:r>
            <a:br>
              <a:rPr sz="4800"/>
            </a:br>
            <a:br>
              <a:rPr sz="2000"/>
            </a:b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*with sincere apologies to Stephen Colbert</a:t>
            </a:r>
            <a:br>
              <a:rPr sz="4800"/>
            </a:b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OFTEN THEY ARE NOT ON THE SAME PLANET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Verdana"/>
              </a:rPr>
              <a:t>WITHOUT EPA AND STATE AGENCIES, MANY LAWYERS WOULD HAVE TO FIND NEW JOBS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“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POINT OF COMPLIANCE”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Verdana"/>
              </a:rPr>
              <a:t>IT KEEPS GOVERNMENT LAWYERS BUSY  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Verdana"/>
              </a:rPr>
              <a:t>THE GOVERNMENT LAWYERS NEED TO BE PAID DON’T THEY?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NO, OF COURSE THERE IS NO CONFLIC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Verdana"/>
              </a:rPr>
              <a:t>WHY DOESN’T EPA JUST HAVE A BAKE SALE?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Verdana"/>
              </a:rPr>
              <a:t>WHO PAYS FOR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Verdana"/>
              </a:rPr>
              <a:t>BOBBY KENNEDY’S IN-ROOM MOVIES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WE ARE FROM THE GOVERNMENT AND WE ARE HERE TO HELP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NEW EPA RULES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O WILL PAY FOR IMPROVEMENTS?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DON’T ASK – JUST DO I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Verdana"/>
              </a:rPr>
              <a:t>EXACTLY HOW MUCH MONEY DO YOU HAVE? 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6T23:32:58Z</dcterms:created>
  <dc:creator>Pepe &amp; Hazard</dc:creator>
  <dc:description/>
  <dc:language>en-US</dc:language>
  <cp:lastModifiedBy>Pepe &amp; Hazard</cp:lastModifiedBy>
  <dcterms:modified xsi:type="dcterms:W3CDTF">2006-11-17T15:13:54Z</dcterms:modified>
  <cp:revision>8</cp:revision>
  <dc:subject/>
  <dc:title>“POINT OF COMPLIANCE”</dc:title>
</cp:coreProperties>
</file>