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40A-4202-44A1-A992-6AF5695C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75E-35D8-4381-9BD8-9986B356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8DB-D135-46A0-8AF3-523590A3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B94-A221-4C7C-AC7B-0B11017B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922-5520-4860-8B43-A4CE5BCF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BAB-5330-434C-B21C-49B5E916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F51-E9BB-473C-9189-1C891115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C30-8FA7-4063-AE18-F055BBF8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401-27EB-40F0-8AB2-27F0805C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B1D-4575-44CC-99BC-2930DC1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B26-FF60-4C34-B5BC-CC611732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860-784A-4091-8122-CF3C9494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D657-BD44-430A-9324-AC404C8CB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ll Models are Wrong, Some are Useful… but when are Models Lawf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WA Clean Water Law Seminar Nov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Karen Han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veridge &amp; Diamond, P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trategies for Model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volved early and sta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“garbage-in, garbage-ou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uncertainties and how to close gap – what are appropriate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agencies on data, assumptions and uncertainty analysis before decision making because of judicial d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good record of data, issues, relevant factors,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ater Quality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water quality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nd why are model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ecides on the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esigns and implements the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ing results tell us…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to address model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at is a water quality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quality model = simul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simulate movement of water/precipitation and pollutants across ground through channels, surface features and receiving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can be by event or continuous, field scale or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“predict” flows,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or of potential impact, magn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y and How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data is expensive and not always available, or, where available, is 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take physical processes (water movement, soil erosion, chemical disposition) and represent these in mathemat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d assumptions are also used (garbage-in, garbage-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ho decides, designs the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gov’t agencies (EPA, USGS, Ag and Natural Resources Conservation Services, state agencies) select model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developed in academia, gov’t, consultancies, originally for agricultural water quality impac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ing between different types of models – what is problem being addressed, how much data exists, how complex is system being studie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ata and assumptions i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rom monitoring as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, e.g., what land use, soil type, rainfall/climate best represents the area, watershed or sub-watershed areas being studied?  What will future use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DL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sting water bodies as impaired, EPA guidance states preference for monitoring data, or integrated monitoring and mode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ata and assumptions in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DL examples (cont’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listing water bodies as impaired, models used to assess relative contributions of different sources of pollutants to the impairment (stress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used provide link between identified stressors and the designate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shed (pollutant load) and water body (pollutant response) models both used in TMD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Uses and Limits of Modeling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ve” capacity of models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an element of uncertainty – issue is how much and how acknowledged and accounted for in agency decision making that is based 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analysis in TMD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/assessment following modeling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at the Courts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deference to selection and use of models b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ry and capricious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 of model, inputs selected and conclusion of model via decision making reasonable and supported in administrative rec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DL cases --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3:25:07Z</dcterms:created>
  <dc:creator>kmh</dc:creator>
  <dc:description/>
  <dc:language>en-US</dc:language>
  <cp:lastModifiedBy>kmh</cp:lastModifiedBy>
  <dcterms:modified xsi:type="dcterms:W3CDTF">2006-10-26T20:40:54Z</dcterms:modified>
  <cp:revision>6</cp:revision>
  <dc:subject/>
  <dc:title>All Models are Wrong, Some are Useful… but when are Models Lawful?</dc:title>
</cp:coreProperties>
</file>