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D67-64CC-4574-885C-6BCB5D87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6A8-C867-4E66-9A8C-7309C2F0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915-873D-4378-9E2F-8F586C1C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FDB-82BD-40E2-A7A2-2EAB0630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715-4322-44CD-B38F-63EE8EE3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7EB-E19B-47D1-B59A-685D29EB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783-4B02-4288-958E-AC1C4D77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4E4-CB69-4566-B04A-0ABB398D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F70-EA75-4ABE-A32D-8B2F9A48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4C0-CAAC-4296-9344-D126504E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58B-0960-4211-A927-877587A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4EA-F306-4E6E-9278-1FC9A3E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090A-52E9-4740-B94D-5D27C6DCC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ll Models are Wrong, Some are Useful… but when are Models Law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WA Clean Water Law Seminar Nov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Karen Ha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veridge &amp; Diamond, P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trategies for Model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volved early and sta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“garbage-in, garbage-ou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uncertainties and how to close gap – what are appropriate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gencies on data, assumptions and uncertainty analysis before decision making because of judicial d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good record of data, issues, relevant factors,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ater Qualit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ater quality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nd why are model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ecides on th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esigns and implements th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ing results tell us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address model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at is a water quality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quality model = simul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simulate movement of water/precipitation and pollutants across ground through channels, surface features and receiving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can be by event or continuous, field scale or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“predict” flows,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 of potential impact, magn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y and How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data is expensive and not always available, or, where available, is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take physical processes (water movement, soil erosion, chemical disposition) and represent these in mathemat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assumptions are also used (garbage-in, garbage-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o decides, designs the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gov’t agencies (EPA, USGS, Ag and Natural Resources Conservation Services, state agencies) select model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developed in academia, gov’t, consultancies, originally for agricultural water quality impac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between different types of models – what is problem being addressed, how much data exists, how complex is system being studi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ta and assumptions i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monitoring as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, e.g., what land use, soil type, rainfall/climate best represents the area, watershed or sub-watershed areas being studied?  What will future use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sting water bodies as impaired, EPA guidance states preference for monitoring data, or integrated monitoring and mod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ta and assumptions i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examples (cont’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listing water bodies as impaired, models used to assess relative contributions of different sources of pollutants to the impairment (stres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used provide link between identified stressors and the design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shed (pollutant load) and water body (pollutant response) models both used in TMD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Uses and Limits of Model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” capacity of models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an element of uncertainty – issue is how much and how acknowledged and accounted for in agency decision making that is based 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analysis in TMD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/assessment following modeling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at the Courts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deference to selection and use of models b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y and capriciou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 of model, inputs selected and conclusion of model via decision making reasonable and supported in administrative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cases --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3:25:07Z</dcterms:created>
  <dc:creator>kmh</dc:creator>
  <dc:description/>
  <dc:language>en-US</dc:language>
  <cp:lastModifiedBy>kmh</cp:lastModifiedBy>
  <dcterms:modified xsi:type="dcterms:W3CDTF">2006-10-26T20:40:54Z</dcterms:modified>
  <cp:revision>6</cp:revision>
  <dc:subject/>
  <dc:title>All Models are Wrong, Some are Useful… but when are Models Lawful?</dc:title>
</cp:coreProperties>
</file>