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31050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319-A6B9-427D-98B5-DB435587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615-4CAE-4C40-AEFD-5D9ADE24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458-90D9-4CE8-9342-96F5D361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AAB-3F99-471F-B19A-58FBD20C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D20B-A965-41F9-BB3D-56C9EEF4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84AF-F5F7-4BA3-92A8-F9BD72FC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D95B-17CA-404D-A191-1218C16C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12A1-D1CB-4247-9ADA-A3EE9A19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6C21-D574-4F46-9ABF-86FDADC5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1712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A546-AFFB-4959-AB5C-C98A5EF4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CB74-2BEC-4E5A-8C8F-6722DB32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021-B2BB-4DE9-AC23-0925CBCA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4704-100F-45D2-8EE0-B5B4F224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924C-FA05-44B4-ADDE-4BF7B597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36D7-BD73-4369-B9D0-C88BC403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B472-BAFE-45DF-A2A4-C9BEA05A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EFF0-C311-412D-86D3-D5A2005B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EE3-ED42-4200-BEA9-EB13045F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A1F-A5B0-48CD-8FB9-5E065598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AE8-001B-4080-8009-FF883098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1712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3C5-E854-4F36-AED8-955A1380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DB4-DD3D-488E-8969-F1BAD8FC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D42-FE58-4EEA-9A1A-0719682C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7E8-1B26-499E-BC3C-2D078375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248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292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99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248dd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248dd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CA12-524A-4279-A71C-40A6748BD542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2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248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292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296F-9661-4513-ABCB-34132F3D740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248ddc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248ddc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Building Virginia’s </a:t>
            </a:r>
            <a:br>
              <a:rPr sz="4400"/>
            </a:b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Chesapeake Bay Nutrient Credit </a:t>
            </a:r>
            <a:br>
              <a:rPr sz="4400"/>
            </a:b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Exchange Pro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28600" y="373356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John A. Sheeha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AquaLaw PL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2006 Developments in Clean Water Law Semina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November 15-17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Boston, M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Guiding Principles of</a:t>
            </a:r>
            <a:br>
              <a:rPr sz="4400"/>
            </a:b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The Exchan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#1 – Trading is volunta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#2 – Benefits for al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#3 – Compliance first (“safety first”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#4 – Never forget the CWA “base case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“</a:t>
            </a: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Credit Exchange Policy” Objectiv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Highly-structured, well-planned progra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78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Convenient and reliable trading mechanis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78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Fair and effective pricing methodolog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78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A practical legal structure that promotes particip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78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b2805"/>
                </a:solidFill>
                <a:latin typeface="Futura"/>
              </a:rPr>
              <a:t>Certainty!  Certainty!  Certainty!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Highly-Structured, </a:t>
            </a:r>
            <a:br>
              <a:rPr sz="4400"/>
            </a:b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Well-Planned Pro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Compliance Plan for each major river basi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Plans look forward through 2015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Participant types:  Sellers, Buyers, Neutra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Class A” Credi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50760" indent="-5119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Upfront commitments to buy and sell credi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50760" indent="-5119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Not at whim of the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50760" indent="-5119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Certainty!  Certainty!  Certainty!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Class B” Credits (surplu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Convenient, Reliable Trading Mechanism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The Exchange is the aggregator (middlema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Brings all dischargers togeth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Avoids many practical and political challenges of 1-to-1 deal mak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Increases flexibility, saves money and provides a safety net for complian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Fair and Effective Pri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Current assumption is credit surplus in early years following coming round of ENR upgrades (2007 – 2011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The Exchange intends to establish relatively low prices initially to encourage deferral of extra upgra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Credit price expected to escalate over ti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The Legal Stru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State-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Nutrient WLA Re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Nutrient Credit Exchange Law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General VPDES Perm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Exchange-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Basin-Level Compliance Pla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Bylaws (including Credit Exchange Policy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Nutrient Credit Services Agree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240" y="21337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Futura"/>
              </a:rPr>
              <a:t>Compliance Pla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"/>
              </a:rPr>
              <a:t>Facilities cover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"/>
              </a:rPr>
              <a:t>Facility WLA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"/>
              </a:rPr>
              <a:t>Combined WLA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"/>
              </a:rPr>
              <a:t>Planned loads &amp; trad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"/>
              </a:rPr>
              <a:t>Special conditions / cavea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"/>
              </a:rPr>
              <a:t>Approved by DEQ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Futura"/>
              </a:rPr>
              <a:t>Credit Exchange Polic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"/>
              </a:rPr>
              <a:t>Class A credits (take-or-pay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"/>
              </a:rPr>
              <a:t>Class B credits (surplus market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"/>
              </a:rPr>
              <a:t>Pricing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"/>
              </a:rPr>
              <a:t>Non-participant transaction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"/>
              </a:rPr>
              <a:t>Participation change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"/>
              </a:rPr>
              <a:t>Multi-layered defense plan for credit shortfall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"/>
              </a:rPr>
              <a:t>Approved by Exchang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2516400" y="457200"/>
            <a:ext cx="45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Key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Nutrient Credit Services Agreement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4191120"/>
            <a:ext cx="2971800" cy="13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2438280"/>
            <a:ext cx="2971800" cy="13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4191120"/>
            <a:ext cx="2971800" cy="13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2666880"/>
            <a:ext cx="25146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trient Credit Services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eement among participants and Th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rporate CP and C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4495680"/>
            <a:ext cx="25909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iance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r each ba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all participating fac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d by D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4495680"/>
            <a:ext cx="2666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Exchange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trading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 by Exchang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895480" y="37339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562360" y="37339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Managing Credit Shortfa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17520" y="2133720"/>
          <a:ext cx="8440560" cy="3789360"/>
        </p:xfrm>
        <a:graphic>
          <a:graphicData uri="http://schemas.openxmlformats.org/drawingml/2006/table">
            <a:tbl>
              <a:tblPr/>
              <a:tblGrid>
                <a:gridCol w="1720800"/>
                <a:gridCol w="3359160"/>
                <a:gridCol w="33606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At-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Pa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Exchange Doe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No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 Have Enough Credits On H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Exchange Has Enough Credits On H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Se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Seller buys Non-Participant or State credits to keep Buyers in compl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Seller sells fewer cre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Seller loses some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Bu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Buyer buys Non-Participant or State credits to keep itself in compl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Buyer buys surplus cre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Sellers receive more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Neu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Neutral buys Non-Participant or State credits to keep itself in compl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"/>
                        </a:rPr>
                        <a:t>Neutral buys surplus cre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Dec. 2006: Credit Exchange Policy adoption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Aug. 2007: Compliance Plans to DEQ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2007 – “2011”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 constr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Compliance Plan updat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: “First” trades implemente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Regulatory Backgrou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1998 EPA 303(d) “over-listing” of Chesapeake Bay and tidal tributari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Pollutants of Concern:  Nitrogen, Phosphorus and Sediment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2000 Chesapeake Bay Agreem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  <a:ea typeface="Times New Roman"/>
              </a:rPr>
              <a:t>The Annual / Daily Load Issue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The Annual/Daily Load Issu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The Clean Water Act (1972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Uses term “total maximum daily load” but does not define i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EPA Regulations (1985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Define TMDL to include “non-daily expression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EPA Implement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Hundreds of non-daily TMDLs approve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Numerous programs based on annual loading averages, including water quality trading progra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The Cour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Prior to DC Circuit decision – three other courts considered this issue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248ddc"/>
              </a:buClr>
              <a:buFont typeface="Futur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Federal District Court – Southern District of NY (May 2000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248ddc"/>
              </a:buClr>
              <a:buFont typeface="Futur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US Court of Appeals – Second Circuit (October 2001) – argument that “daily” means “daily” is “absurd” given the structure of the CW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248ddc"/>
              </a:buClr>
              <a:buFont typeface="Futur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"/>
              </a:rPr>
              <a:t>Federal District Court – the District of Columbia (November 2004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  <a:ea typeface="Times New Roman"/>
              </a:rPr>
              <a:t>Next Up - the U.S. Court of Appeals for the District of Columbia Circuit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Friends of the Earth v. EP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FOE challenged two TMD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BOD and TSS developed by the District and approved by EP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Primary regulated sources – DC CSOs and stormwat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FOE argued – the TMDLs violate the CWA because they did not set </a:t>
            </a:r>
            <a:r>
              <a:rPr b="1" i="1" lang="en-US" sz="3200" spc="-1" strike="noStrike">
                <a:solidFill>
                  <a:srgbClr val="000000"/>
                </a:solidFill>
                <a:latin typeface="Futura"/>
              </a:rPr>
              <a:t>daily</a:t>
            </a: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 loads, but rather set seasonal (TSS) and annual (BOD) loa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The Deci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The oral argument – within minutes – “what happens if we vacate?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First paragraph of opinion: “Daily means daily, nothing else.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Doctors make “daily” roun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Give us this day our “daily bread” – Matthew 6:11 (King Jame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The Deci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Court – no sympathy for EPA because the problem is of their own mak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1978 regulation – “All pollutants are suitable for the calculation of TMDLs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Straightforward regulatory solution” to amend EPA’s reg and take these pollutants out of the TMDL progra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What Does This Mean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Nothing? EPA’s work-around “policy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Just change calculations – all statistical work already implicitly don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Less stringent? Daily limits will be higher than annual, seasonal, monthly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Conf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Big trouble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Current Status of </a:t>
            </a:r>
            <a:br>
              <a:rPr sz="4400"/>
            </a:b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Friends of the Ear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  <a:ea typeface="Times New Roman"/>
              </a:rPr>
              <a:t>DC WASA has filed a petition for certiorari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  <a:ea typeface="Times New Roman"/>
              </a:rPr>
              <a:t>Argument – DC Circuit got it wrong and now there is a circuit split that must be resolved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  <a:ea typeface="Times New Roman"/>
              </a:rPr>
              <a:t>NACWA and Wet Weather Partnership – filed amicus brief in support of DC WASA cert petition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  <a:ea typeface="Times New Roman"/>
              </a:rPr>
              <a:t>Brief stresses that the decision puts in jeopardy hundreds of clean-up plans around the country and other water quality programs, based on an annual loading approa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Current Status of </a:t>
            </a:r>
            <a:br>
              <a:rPr sz="4400"/>
            </a:b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Friends of the Ear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  <a:ea typeface="Times New Roman"/>
              </a:rPr>
              <a:t>EPA brief due on November 24, 2006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  <a:ea typeface="Times New Roman"/>
              </a:rPr>
              <a:t>Although EPA did not seek rehearing in the DC Circuit or seek cert to the Supreme Court, it has stated it will file a brief in opposition to WASA’s petition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0e0"/>
                </a:solidFill>
                <a:latin typeface="Futura"/>
              </a:rPr>
              <a:t>Regulatory Backgrou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UAA / Revised Water Quality Standards (2001 – 2004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Tributary Strategy “TMDLs” (2003 – 2004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Regulatory Wasteload Allocations (2005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Total Nitrogen (TN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Total Phosphorus (TP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  <a:ea typeface="Times New Roman"/>
              </a:rPr>
              <a:t>QUESTIONS?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Virginia Trading Legis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</a:rPr>
              <a:t>Initiated by Virginia Association of Municipal Wastewater Agenci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</a:rPr>
              <a:t>Negotiated with State, Chesapeake Bay Foundation, Manufacturers, and Farm Bureau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Futura"/>
              </a:rPr>
              <a:t>Chesapeake Bay Nutrient Credit Exchange Program”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</a:rPr>
              <a:t>Passed Virginia General Assembly unanimously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603360" indent="-603360">
              <a:lnSpc>
                <a:spcPct val="9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</a:rPr>
              <a:t>Effective July 1, 2005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Virginia Trading Legis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utura"/>
              </a:rPr>
              <a:t>Wastershed General Permit for TN and TP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utura"/>
              </a:rPr>
              <a:t>Compliance Schedule determination process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utura"/>
              </a:rPr>
              <a:t>Owner-developed Compliance Plans including trading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0e0"/>
                </a:solidFill>
                <a:latin typeface="Futura"/>
              </a:rPr>
              <a:t>Virginia Trading Legis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utura"/>
              </a:rPr>
              <a:t>Bubble limit option for facilities under common ownership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utura"/>
              </a:rPr>
              <a:t>Offsets for new / expanded discharges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Futura"/>
              </a:rPr>
              <a:t>State-provided safety net for credit or offset shortfall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Power and Control:</a:t>
            </a:r>
            <a:br>
              <a:rPr sz="4400"/>
            </a:br>
            <a:r>
              <a:rPr b="1" lang="en-US" sz="4400" spc="-1" strike="noStrike" u="sng">
                <a:solidFill>
                  <a:srgbClr val="2920e0"/>
                </a:solidFill>
                <a:uFillTx/>
                <a:latin typeface="Futura"/>
              </a:rPr>
              <a:t>Program</a:t>
            </a: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 Lev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Basic models considere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CT:  State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NC:  Discharger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Virginia Nutrient Credit Exchange Association, Inc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By dischargers, for discharg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State supports and funds The Exchang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Paradigm shift / Partnershi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Power and Control:</a:t>
            </a:r>
            <a:br>
              <a:rPr sz="4400"/>
            </a:br>
            <a:r>
              <a:rPr b="1" lang="en-US" sz="4400" spc="-1" strike="noStrike" u="sng">
                <a:solidFill>
                  <a:srgbClr val="2920e0"/>
                </a:solidFill>
                <a:uFillTx/>
                <a:latin typeface="Futura"/>
              </a:rPr>
              <a:t>Facility</a:t>
            </a: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 Lev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All permittees retain their independenc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Voluntary participation by facility own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Futu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</a:rPr>
              <a:t>Voluntary trading by facility own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"/>
              </a:rPr>
              <a:t>But by accepting a modest degree of interdependence, many benefits are possib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0e0"/>
                </a:solidFill>
                <a:latin typeface="Futura"/>
              </a:rPr>
              <a:t>The Exchan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</a:rPr>
              <a:t>Voluntary association of regulated discharger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"/>
              </a:rPr>
              <a:t>10-Member Board of Governor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governors from clean water agenci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governors from major manufactur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ementation Committee (similar makeup)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Consultant:  Lisa Bacon, CH2M Hill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2920e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Counsel:  Chris Pomeroy, AquaLaw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5:16Z</dcterms:created>
  <dc:creator>amsa</dc:creator>
  <dc:description/>
  <dc:language>en-US</dc:language>
  <cp:lastModifiedBy>John Sheehan</cp:lastModifiedBy>
  <cp:lastPrinted>2002-03-12T16:47:38Z</cp:lastPrinted>
  <dcterms:modified xsi:type="dcterms:W3CDTF">2006-11-14T15:49:03Z</dcterms:modified>
  <cp:revision>175</cp:revision>
  <dc:subject/>
  <dc:title>Storm Water In the 21st Century</dc:title>
</cp:coreProperties>
</file>