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089-4FAB-4B68-8308-A26FC218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B9B-345A-4644-B427-4D523D1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692-0EE1-4625-AF6C-8E2A2E3D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AE6-9991-464C-A6E7-4AEA706A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5774-40BB-4550-878B-2D099B4C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DF4-ED15-43E4-9249-104FACE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C78-F655-434F-9FE4-F2F03E62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6E9F-B8BA-42E8-B889-ED73B25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0EB-AF00-4640-9462-4707C0A4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7316-7467-4E3D-9CC3-793EE5C0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EA2-0C4A-4A38-B59D-E3773110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08-9F8F-4283-A57B-A451A4AC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F4EB-7FED-48BF-9EC2-15947A3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4434-8324-4DCC-8C79-2F735F4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6F60-752B-4FEB-8D18-A8D568A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5F4-C8B8-4368-B902-9A1B1AF2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1D86-24A0-4CC4-A611-E5B1B255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1B1-80C3-4E0A-A96E-591E289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FBE-9744-4C2D-8F55-FBED53C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A3A-62F6-49DD-B3F6-2B3EF78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07A-EC4E-4F77-99A8-6A526E5A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AD6-024E-4E5A-8373-E4588F7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E8A-078D-4047-A1BC-CF42593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AFE-D9D0-4CB4-B9AF-198F2BF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248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292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248dd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248dd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750-D5A9-46A9-889E-2F4993C95AB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2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248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292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2DC-96D9-45A9-B878-2B0C19FB3A6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248ddc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248ddc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Building Virginia’s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hesapeake Bay Nutrient Credit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Exchange Pro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37335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John A. Sheeh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AquaLaw PL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2006 Developments in Clean Water Law Semin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November 15-1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Boston, M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Guiding Principles of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Exchan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1 – Trading is volunt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2 – Benefits for a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3 – Compliance first (“safety first”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4 – Never forget the CWA “base case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“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redit Exchange Policy” Objectiv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Highly-structured, well-planned progra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nvenient and reliable trading mechanis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air and effective pricing method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 practical legal structure that promotes particip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2805"/>
                </a:solidFill>
                <a:latin typeface="Futura"/>
              </a:rPr>
              <a:t>Certainty!  Certainty!  Certainty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Highly-Structured,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Well-Planned Pro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mpliance Plan for each major river bas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lans look forward through 201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articipant types:  Sellers, Buyers, Neutr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lass A” Credi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Upfront commitments to buy and sell credi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ot at whim of the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Certainty!  Certainty!  Certainty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lass B” Credits (surplu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onvenient, Reliable Trading Mechanism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Exchange is the aggregator (middlema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rings all dischargers togeth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voids many practical and political challenges of 1-to-1 deal ma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creases flexibility, saves money and provides a safety net for compli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air and Effective Pri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urrent assumption is credit surplus in early years following coming round of ENR upgrades (2007 – 2011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Exchange intends to establish relatively low prices initially to encourage deferral of extra upgra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redit price expected to escalate over ti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Legal Stru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State-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WLA Re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Credit Exchange La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General VPDES Perm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Exchange-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asin-Level Compliance Pl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ylaws (including Credit Exchange Policy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Credit Services Agre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utura"/>
              </a:rPr>
              <a:t>Compliance Pl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Facilities cover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Facility WL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Combined WL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Planned loads &amp; tra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Special conditions / cavea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Approved by DEQ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utura"/>
              </a:rPr>
              <a:t>Credit Exchange Polic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Class A credits (take-or-pay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Class B credits (surplus market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Pricing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Non-participant transaction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Participation chang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Multi-layered defense plan for credit shortfall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Approved by Exchang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2516400" y="4572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Nutrient Credit Services Agreement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19112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43828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19112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666880"/>
            <a:ext cx="2514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trient Credit Services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ment among participants and Th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porate CP and C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495680"/>
            <a:ext cx="25909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iance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r each ba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all participating fac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by D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2666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Exchange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trading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 by Exchang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95480" y="37339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562360" y="37339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Managing Credit Shor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17520" y="2133720"/>
          <a:ext cx="8440560" cy="3789360"/>
        </p:xfrm>
        <a:graphic>
          <a:graphicData uri="http://schemas.openxmlformats.org/drawingml/2006/table">
            <a:tbl>
              <a:tblPr/>
              <a:tblGrid>
                <a:gridCol w="1720800"/>
                <a:gridCol w="3359160"/>
                <a:gridCol w="33606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At-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Pa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Exchange Do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o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 Have Enough Credits On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Exchange Has Enough Credits On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buys Non-Participant or State credits to keep Buyers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sells fewer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loses some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 buys Non-Participant or State credits to keep itself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 buys surplus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s receive more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 buys Non-Participant or State credits to keep itself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 buys surplus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Dec. 2006: Credit Exchange Policy adoption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ug. 2007: Compliance Plans to DEQ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2007 – “2011”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 co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Compliance Plan updat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: “First” trades implemente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Regulatory Backgrou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1998 EPA 303(d) “over-listing” of Chesapeake Bay and tidal tribut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ollutants of Concern:  Nitrogen, Phosphorus and Sediment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2000 Chesapeake Bay Agre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The Annual / Daily Load Issue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Annual/Daily Load Issu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he Clean Water Act (197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Uses term “total maximum daily load” but does not define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EPA Regulations (1985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Define TMDL to include “non-daily expression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EPA Implemen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Hundreds of non-daily TMDLs approv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Numerous programs based on annual loading averages, including water quality trading progra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Cou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rior to DC Circuit decision – three other courts considered this issu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ederal District Court – Southern District of NY (May 2000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US Court of Appeals – Second Circuit (October 2001) – argument that “daily” means “daily” is “absurd” given the structure of the CW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ederal District Court – the District of Columbia (November 2004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Next Up - the U.S. Court of Appeals for the District of Columbia Circui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 v. EP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OE challenged two TMD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OD and TSS developed by the District and approved by EP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rimary regulated sources – DC CSOs and stormwa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OE argued – the TMDLs violate the CWA because they did not set </a:t>
            </a:r>
            <a:r>
              <a:rPr b="1" i="1" lang="en-US" sz="3200" spc="-1" strike="noStrike">
                <a:solidFill>
                  <a:srgbClr val="000000"/>
                </a:solidFill>
                <a:latin typeface="Futura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 loads, but rather set seasonal (TSS) and annual (BOD) lo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Deci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oral argument – within minutes – “what happens if we vacate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irst paragraph of opinion: “Daily means daily, nothing else.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Doctors make “daily” rou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Give us this day our “daily bread” – Matthew 6:11 (King Jam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Deci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urt – no sympathy for EPA because the problem is of their own ma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1978 regulation – “All pollutants are suitable for the calculation of TMD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Straightforward regulatory solution” to amend EPA’s reg and take these pollutants out of the TMDL progra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Nothing? EPA’s work-around “polic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Just change calculations – all statistical work already implicitly do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Less stringent? Daily limits will be higher than annual, seasonal, monthly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nf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ig troubl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DC WASA has filed a petition for certiorari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Argument – DC Circuit got it wrong and now there is a circuit split that must be resolve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NACWA and Wet Weather Partnership – filed amicus brief in support of DC WASA cert petition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Brief stresses that the decision puts in jeopardy hundreds of clean-up plans around the country and other water quality programs, based on an annual loading appro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  <a:ea typeface="Times New Roman"/>
              </a:rPr>
              <a:t>EPA brief due on November 24, 2006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  <a:ea typeface="Times New Roman"/>
              </a:rPr>
              <a:t>Although EPA did not seek rehearing in the DC Circuit or seek cert to the Supreme Court, it has stated it will file a brief in opposition to WASA’s petition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0e0"/>
                </a:solidFill>
                <a:latin typeface="Futura"/>
              </a:rPr>
              <a:t>Regulatory Backgrou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UAA / Revised Water Quality Standards (2001 – 20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ributary Strategy “TMDLs” (2003 – 20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Regulatory Wasteload Allocations (200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otal Nitrogen (T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otal Phosphorus (TP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QUESTIONS?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Initiated by Virginia Association of Municipal Wastewater Agenci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Negotiated with State, Chesapeake Bay Foundation, Manufacturers, and Farm Bureau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Chesapeake Bay Nutrient Credit Exchange Program”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Passed Virginia General Assembly unanimously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Effective July 1, 2005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Wastershed General Permit for TN and TP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Compliance Schedule determination proces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Owner-developed Compliance Plans including trading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Bubble limit option for facilities under common ownership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Offsets for new / expanded discharge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State-provided safety net for credit or offset shortfal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Power and Control:</a:t>
            </a:r>
            <a:br>
              <a:rPr sz="4400"/>
            </a:br>
            <a:r>
              <a:rPr b="1" lang="en-US" sz="4400" spc="-1" strike="noStrike" u="sng">
                <a:solidFill>
                  <a:srgbClr val="2920e0"/>
                </a:solidFill>
                <a:uFillTx/>
                <a:latin typeface="Futura"/>
              </a:rPr>
              <a:t>Program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 Lev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asic models considere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CT:  State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C:  Discharger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Virginia Nutrient Credit Exchange Association, Inc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y dischargers, for discharg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State supports and funds The Exchan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Paradigm shift / Partnershi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Power and Control:</a:t>
            </a:r>
            <a:br>
              <a:rPr sz="4400"/>
            </a:br>
            <a:r>
              <a:rPr b="1" lang="en-US" sz="4400" spc="-1" strike="noStrike" u="sng">
                <a:solidFill>
                  <a:srgbClr val="2920e0"/>
                </a:solidFill>
                <a:uFillTx/>
                <a:latin typeface="Futura"/>
              </a:rPr>
              <a:t>Facility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 Lev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ll permittees retain their independ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Voluntary participation by facility own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Voluntary trading by facility own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ut by accepting a modest degree of interdependence, many benefits are possib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Exchan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Voluntary association of regulated discharge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10-Member Board of Governo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governors from clean water agenc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governors from major manufactur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Committee (similar makeup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onsultant:  Lisa Bacon, CH2M Hil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Counsel:  Chris Pomeroy, AquaLaw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5:16Z</dcterms:created>
  <dc:creator>amsa</dc:creator>
  <dc:description/>
  <dc:language>en-US</dc:language>
  <cp:lastModifiedBy>John Sheehan</cp:lastModifiedBy>
  <cp:lastPrinted>2002-03-12T16:47:38Z</cp:lastPrinted>
  <dcterms:modified xsi:type="dcterms:W3CDTF">2006-11-14T15:49:03Z</dcterms:modified>
  <cp:revision>175</cp:revision>
  <dc:subject/>
  <dc:title>Storm Water In the 21st Century</dc:title>
</cp:coreProperties>
</file>