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NACWA • November 2006</a:t>
            </a:r>
            <a:br>
              <a:rPr sz="2800"/>
            </a:b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evelopments in Clean Water Law Semin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itizen Suit Trend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orneys’ Fees under the Clean Water Act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st-Judgment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lary Meltzer, Senior Counse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w York City Law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Second Attorneys’ Fees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laintiffs sought fees and cost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intiffs’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micu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ief in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iccosuk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intiffs’ participation in administrative permit procee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 they ins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600" y="1184040"/>
            <a:ext cx="8618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Fees for Post-Judgment Procee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s provisions in CWA derive from Civil Rights Act, 42 U.S.C.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§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ntrolling law in environmental context: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Pennsylvania v. Delaware Valley Citizens’ Counci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, 478 U.S. 546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 Black"/>
              </a:rPr>
              <a:t>PA v. DV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A Citizen Suit to compel Pennsylvania to implement vehicle emission I/M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ent De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agreed to implement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 DOT agreed to seek legislation establishing franchise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legislation not passed, PA DOT would adopt regs to certify private garages for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 Black"/>
              </a:rPr>
              <a:t>PA v. DVCC –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st-jud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4116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gislature did not establish franchis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 DOT published proposed regs as anticip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DVCC com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 Black"/>
              </a:rPr>
              <a:t>PA v. DVCC –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st-jud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gislature enacted statute prohibiting use of State funds for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sought stay of Consent Dec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DVCC opposed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sought EPA approval to reduce scope of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DVCC opposed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ral State Legislators sued PA DOT, challenging use of State funds for I/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DVCC filed amicus brief in op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egal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revailing party is entitled to fees and costs if it substantially prevails in post-judgment proceedings which are 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ful and necessary for securing full enforceme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” the jud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PA v. DVCC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478 U.S. at 556. 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See also Webb v. Board of Ed. Of Dyer Count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471 U.S. 234 (198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atskill Mountains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ttorneys’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ty has complied with obligations in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intiffs participated in permit proceedings to influence outcome, not to enforc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dgment didn’t address specific permit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mit drafted and adopted by State, no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intiffs didn’t prevail in permit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intiffs filed amicus brief in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iccosuke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 of general concern about legal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d Court reversed, plaintiffs would not have right to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icus brief not useful or necessary in determining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intiffs didn’t pre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atskill Mountains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ttorneys’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y tu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Hilary Meltzer, Senior Counse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Environmental Law Division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ew York City Law Depart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100 Church Stree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ew York, NY 10007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212-788-1585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hmeltzer@law.nyc.go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2352" t="1817" r="2352" b="4543"/>
          <a:stretch/>
        </p:blipFill>
        <p:spPr>
          <a:xfrm>
            <a:off x="2419200" y="1328760"/>
            <a:ext cx="430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3452" t="5879" r="4178" b="5175"/>
          <a:stretch/>
        </p:blipFill>
        <p:spPr>
          <a:xfrm>
            <a:off x="1673280" y="1824120"/>
            <a:ext cx="5778360" cy="447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0040" y="6218280"/>
            <a:ext cx="47196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5244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Catskill and Delaw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67760" y="1819440"/>
            <a:ext cx="10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0040" y="6218280"/>
            <a:ext cx="47196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5244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Schoharie Reser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67760" y="1819440"/>
            <a:ext cx="10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87600" y="2006640"/>
            <a:ext cx="596880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0040" y="6218280"/>
            <a:ext cx="47196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5244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Schoharie Reser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67760" y="1819440"/>
            <a:ext cx="10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41600" y="2017800"/>
            <a:ext cx="585936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70040" y="6218280"/>
            <a:ext cx="47196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5244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Black"/>
              </a:rPr>
              <a:t>Shandaken Por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67760" y="1819440"/>
            <a:ext cx="10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36560" y="2027160"/>
            <a:ext cx="58690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Black"/>
              </a:rPr>
              <a:t>Catskill Mountains Ch. of TU v. 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000 Clean Water Act Citizen Suit claiming that City needs NPDES permit to transfer untreate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strict Court dis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versed on appeal: 273 F.3d 481 (2d Cir.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llowing trial, District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sessed over $5M in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rected NY State to issue NPDES per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First Attorneys’ Fees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24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 accordance with District Court’s post-trial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y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2003 App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riefing postponed once Supreme Court granted certiorari in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iccosu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nce appeal was brief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PA issued memo – water transfers not subject to NPDE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ministrative permit process on the draft permit for the Shandaken Tu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une 7, EPA issued proposed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une 13, 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Circuit affirmed 2001 decision on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53:12Z</dcterms:created>
  <dc:creator>FirstName LastName</dc:creator>
  <dc:description/>
  <dc:language>en-US</dc:language>
  <cp:lastModifiedBy>Hilary Meltzer</cp:lastModifiedBy>
  <dcterms:modified xsi:type="dcterms:W3CDTF">2006-10-27T20:59:25Z</dcterms:modified>
  <cp:revision>60</cp:revision>
  <dc:subject/>
  <dc:title>2006 NACWA Summer Conference Cross-Cutting Clean Water and Drinking Water Issues... Challenging Traditional Boundaries July 19, 2006 Source: Water Protection and  Watershed Management Solutions</dc:title>
</cp:coreProperties>
</file>