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CEAE-ACB7-406C-A220-41DD7BA3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A485-21C4-4302-8BD5-E00834EC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BC90-4322-46A1-8BA8-62AF8E0C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7FF-3DE3-4790-82BC-CABBEB76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82DD-5C16-41C2-B9B7-6A724D5A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4C4C-F880-4892-A431-A4ABE16F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1F83-6537-4958-93A0-0F9B08F9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854F-1C3D-4BE5-A09E-5A904008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538C-7616-4C93-9B8A-64B1C424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F403-4548-42FB-8B71-6408AC8A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A941-1858-4B4A-B6ED-F8F7D769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3FA9-E770-47EA-8F72-7B8D1C15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CB8F-1DC3-40CE-B33A-BFB0241A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22C9-739E-40BD-BCD5-881A92A3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25F6-F48D-4EB8-B401-0CB5F1A7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5FA3-5904-4B1F-B73D-29885604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A2FC-0CA9-4D70-BE8C-11DFA91B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65F5-97A4-4191-8D50-6F65D2F0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1AFD-503B-49E6-9CB9-FF9EA6F4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1692-5BD2-4DEE-8B4C-FB9F281D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9C4-0C7E-496D-A7E3-E71D097E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885E-44FC-44B2-A3E4-CA6D1683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53DC-5F68-4140-9DF3-8C44EC28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5361-DCCA-41C6-8875-ADF1F67F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AD44-7406-4709-BB3E-E64060AB167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D51B-958C-44A3-876A-D9B3366C2AC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epowers@btlaw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6400800" cy="275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THE BASIC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 Clean Water Act Overview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23520" y="4343400"/>
            <a:ext cx="6032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rika K. Po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vember 15, 200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36440" y="5904000"/>
            <a:ext cx="3521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57150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CW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velopments in Clean Water La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vember 15-1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ater Quality Based Limits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TMDL Highwa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2559" r="0" b="42032"/>
          <a:stretch/>
        </p:blipFill>
        <p:spPr>
          <a:xfrm>
            <a:off x="2743200" y="1523880"/>
            <a:ext cx="4038480" cy="4419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590920" y="152388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1371600"/>
            <a:ext cx="166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ter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y To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94120" y="2133720"/>
            <a:ext cx="25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 WQ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PA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30481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sting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3276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lcome to Li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38862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lec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17680" y="434340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aluate wa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4724280"/>
            <a:ext cx="2757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e Categor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 Wa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PA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79760" y="5334120"/>
            <a:ext cx="47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Welcome to Impaired Wa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ater Quality Based Limits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TMDL Highwa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49855" r="0" b="0"/>
          <a:stretch/>
        </p:blipFill>
        <p:spPr>
          <a:xfrm>
            <a:off x="2362320" y="1828800"/>
            <a:ext cx="380664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910680" y="183528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lcome to  Your TM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26320" y="2444760"/>
            <a:ext cx="161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lec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79520" y="252108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aluate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30481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ermine Allowabl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ermine Initial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19560" y="38163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DL Submit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60360" y="419724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PA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4648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lcome to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30880" y="5111640"/>
            <a:ext cx="323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cation Revis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ementation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5867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MI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2131800">
            <a:off x="2590560" y="556272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5410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Limi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OTW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treatment standards, local lim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rrative criter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t weather standa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SOs/SS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S4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cteria standa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u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Attainability Analyses (UAAs) to revise inappropriate standa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n Water Act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erm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mitting Proc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mit Cont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ief Mechanis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ermitting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mit appli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ortant for permit shie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gotiation peri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k for pre-public notice draf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et with agency to discuss condi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blic notice draf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ent period, possible public hear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ermitting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PA review and approv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al perm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eal peri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c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ermit Cont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cility descrip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ffluent limitations and monitoring requir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ndard cond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cial cond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treatment progr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 Conten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imits and Monito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mits if reasonable potential to exceed (RPE) water quality standa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ed on waste load allocation (WL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thly average and daily maximum lim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meters can include CBO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SS, Ammonia-nitrogen, pH, DO, TRC, Fecal coliform or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. col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met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 Conten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imits and Monito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itoring includes influent and efflu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y specify test methods, limits of detection and quantification (LODs and LOQ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SO / SSO limitations and cond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 Conten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imits and Monito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rrative limit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thly reporting requir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opening clau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sed WL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sed standa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itoring resul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lean Water Act Bas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gulatory 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mi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mit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forc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TW Iss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 Conten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tandard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l condi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y with the perm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tigate damage from noncompli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 information to agen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pply for renewal permit before expi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nalties for viol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rator cert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pe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 Conten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tandard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agement requirement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d facility operation, maintenance, and quality contr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ypass prohibitions, condi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pset condi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wer fail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ortant to understand for affirmative defen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 Conten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tandard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orting requirement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ility chan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-hour reporting requir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anticipated bypa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gnificant danger to human health or environ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set that exceeds technology requir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S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ry weather CS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xics viol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y significant indirect dischargers subject to pretreatment standa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ify agency of changes in or new indirect discharg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 Conten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pecial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ll reporting and preven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ug discharge preven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llutant minimization requir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omonitoring for whole effluent toxic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osoli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SOs / SS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 Conten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retreatment Pro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wer use ordin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cal limi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mit/control indirect discharg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ug control pla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dustrial user compliance monitor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forc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ting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elief Mechani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liance sched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ria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wide or multiple-discharg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te-specific criter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oavailabi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que receiving water characterist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A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n Water Act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mit as a shield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pollutants specifically limited in the perm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lutants identified as present in appl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ituents of wastestreams, operations and processes identified in appl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n Water Act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nalties for noncompli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gnificant noncompli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al state or federal enforcement initiat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PA overfi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ent decrees / enforcement ord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tizen su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1355760" y="874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2209680"/>
            <a:ext cx="708660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RIKA K. POW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rnes &amp; Thornburg LL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North Wacker Dr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ite 44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cago, IL 606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one (312) 338-590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x (312) 759-564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-mail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epowers@btlaw.co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n Water Act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egulatory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rpose: Maintain chemical, physical, and biological integrity of the Nation’s wa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iminate discharge of pollutants to surface wa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hable / Swimmable” where attain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tection and propagation of fish, shellfish, and wildlif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reation in and on the wa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ean Water Act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Regulatory Structu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76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icies to implement fishable/swimmable goal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Prohibit discharge of toxic pollutants in toxic amou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Provide federal financial assistance for POTW constr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Implement areawide waste treatment management plan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Support research to develop technology to eliminate discharge of polluta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Develop and implement nonpoint source pollution control prog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WA Regulatory Structure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Major Elem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harges prohibited except in accordance with CWA requirem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mits authorize certain dischar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mits control authorized dischar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deral and/or state implemen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ill response, reporting, and preven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mits for dredged and fill materi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forc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WA Regulatory Structure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OTW Issu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tions 201-219 contain details of POTW construction grants progr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tion 212 defines “treatment works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n Water Act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im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tle III of the CW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charges Prohibited, except in compliance with permits contain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hnology Based Lim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ter Quality Based Lim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Limi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Technology Based Lim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ffluent Limitation Guidelines (ELGs): BPT/BCT/BAT/PSES/NSPS requirements for industry categories and clas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ary treatment stand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 6-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SS 45 mg/l and 30 mg/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5% removal of B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S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st Professional Judgment (BPJ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cksliding prohibi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WA Limits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ater Quality Based Limi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licable when technology based limits not sufficient to maint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er Quality Standa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ated u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ter quality criteria (numeric and narrativ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tidegradation poli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MDL Progr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aluating and listing impaired wa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veloping and implementing TMDLs in perm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21:14:23Z</dcterms:created>
  <dc:creator>Barnes &amp; Thornburg</dc:creator>
  <dc:description/>
  <dc:language>en-US</dc:language>
  <cp:lastModifiedBy>Barnes &amp; Thornburg</cp:lastModifiedBy>
  <dcterms:modified xsi:type="dcterms:W3CDTF">2006-11-13T16:49:40Z</dcterms:modified>
  <cp:revision>17</cp:revision>
  <dc:subject/>
  <dc:title>--THE BASICS--   A Clean Water Act &amp; Safe Drinking Water Act Overview</dc:title>
</cp:coreProperties>
</file>