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E61-072C-4E37-9A63-F89567EC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269-8A51-456F-882E-C7CDCACE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439-31B5-4C9D-A3AF-EB0F8730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21B-1144-499A-B594-7299FBCA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304-1D7C-4CC6-86C0-A07CED2C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8637-DEE5-4227-B1C4-63353BA6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0FCB-6336-4E8C-9CEF-38D74CD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92E-4C7B-4EA5-8296-577A36D9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543-BDCD-47C3-8E97-8EB783B4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1AD-F0C7-4203-8B83-BD613A7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A83-41D0-465E-98FB-56F02BF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7F3-96FF-485E-95FA-02F91181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C6DE-9655-4C37-AE3F-289526AA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BD4-A286-49CB-8933-0C25990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9F9A-D70C-4C58-BA88-4EE9E4E9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51C7-7839-4DB5-AD1A-EA5DBDF7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402-B3CC-44F7-8FC5-138544FE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76A-6A12-4DFA-BA95-5888D0AE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F65-0C08-47BB-B522-E8814FA8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556-3FFF-4B1A-9E08-DD41D5E1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1B0-2C91-429B-9627-DECEBB6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B79-6C29-4CD9-B7F6-24A3F40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B9A-0D68-4543-8354-63EE5B8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208-6CDD-444C-92FB-632654B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8175-7AD9-4023-A069-78E536EADB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543-6903-447F-B715-EEEDFB3D99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epowers@btlaw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6400800" cy="275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THE BASI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 Clean Water Act Overview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603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vember 15, 20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5904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15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CW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s in Clean Water La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ember 15-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2559" r="0" b="42032"/>
          <a:stretch/>
        </p:blipFill>
        <p:spPr>
          <a:xfrm>
            <a:off x="2743200" y="15238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90920" y="15238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371600"/>
            <a:ext cx="16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9412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WQ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048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886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7680" y="434340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724280"/>
            <a:ext cx="275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Categor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9760" y="533412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elcome to Impaired Wa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9855" r="0" b="0"/>
          <a:stretch/>
        </p:blipFill>
        <p:spPr>
          <a:xfrm>
            <a:off x="2362320" y="1828800"/>
            <a:ext cx="38066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10680" y="18352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 Your T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6320" y="24447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9520" y="252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0481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Allowa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Initial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9560" y="3816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DL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0360" y="4197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30880" y="5111640"/>
            <a:ext cx="32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on Revi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31800">
            <a:off x="259056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410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treatment standards, local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ive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t weather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Os/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4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teria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ttainability Analyses (UAAs) to revise inappropriate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f Mech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appl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 for permit sh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ion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for pre-public notice dra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et with agency to discuss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notice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 period, possible public he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A review and approv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per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l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y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luent limitations and monitor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treatment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 if reasonable potential to exceed (RPE) 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waste load allocation (W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thly average and daily maximum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can include CB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SS, Ammonia-nitrogen, pH, DO, TRC, Fecal coliform 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et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 includes influent and ef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specify test methods, limits of detection and quantification (LODs and LOQ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 / SSO limitations an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rrative limi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ly report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opening cla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W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lean Water Act Bas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o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W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ondi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y with the per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igate damage from noncompl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information to ag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pply for renewal permit before ex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alties for vio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 cer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require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facility operation, maintenance, and quality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pass prohibitions,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set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to understand for affirmative def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ing requir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ility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-hour report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nticipated byp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 danger to human health or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set that exceeds technolog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y weather C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xics vio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significant indirect dischargers subject to pretreatment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 agency of changes in or new indirect dischar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ecial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ll reporting and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discharge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lutant minimiz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monitoring for whole effluent tox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sol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s / SS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etreatment Pr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wer use ordi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l 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/control indirect dischar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control pl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ustrial user compliance monito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ting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lief Mechani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iance sche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wide or multiple-dischar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-specific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vai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que receiving water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A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as a shiel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ollutants specifically limited in the per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lutants identified as present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ituents of wastestreams, operations and processes identified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alties for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ificant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state or federal enforcement initi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A overfi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 decrees / enforcement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tizen su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3557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0866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rnes &amp; Thornburg LL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rth Wacker Dr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e 44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cago, IL 60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 (312) 338-590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(312) 759-564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powers@btlaw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pose: Maintain chemical, physical, and biological integrity of the Nation’s wa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discharge of pollutants to surface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able / Swimmable” where attain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ection and propagation of fish, shellfish, and wildlif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reation in and on the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to implement fishable/swimmable go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Prohibit discharge of toxic pollutants in toxic amou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rovide federal financial assistance for POTW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mplement areawide waste treatment management pla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Support research to develop technology to eliminate discharge of pollu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evelop and implement nonpoint source pollution control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jor El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harges prohibited except in accordance with CWA requir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authorize certain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control authorized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deral and/or state imple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ll response, reporting, and pre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for dredged and fill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s 201-219 contain details of POTW construction grants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 212 defines “treatment work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III of the CW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harges Prohibited, except in compliance with permits contain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chnology Based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luent Limitation Guidelines (ELGs): BPT/BCT/BAT/PSES/NSPS requirements for industry categories and cla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ary treatment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6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45 mg/l and 30 mg/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% removal of 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 Professional Judgment (BPJ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sliding prohib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ater Quality Based Limi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ble when technology based limits not sufficient to maint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ated 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quality criteria (numeric and narr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degradation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MDL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and listing impaired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ing and implementing TMDLs in perm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21:14:23Z</dcterms:created>
  <dc:creator>Barnes &amp; Thornburg</dc:creator>
  <dc:description/>
  <dc:language>en-US</dc:language>
  <cp:lastModifiedBy>Barnes &amp; Thornburg</cp:lastModifiedBy>
  <dcterms:modified xsi:type="dcterms:W3CDTF">2006-11-13T16:49:40Z</dcterms:modified>
  <cp:revision>17</cp:revision>
  <dc:subject/>
  <dc:title>--THE BASICS--   A Clean Water Act &amp; Safe Drinking Water Act Overview</dc:title>
</cp:coreProperties>
</file>