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09C-9CFF-4297-B563-ABF5BC55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04D-83CF-4036-A14B-B96CCD66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FA8-1BD4-4834-9826-17958C39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E7C-17C9-4375-8D26-0C745A72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462-9D7A-415A-99AC-6B5CA431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653-BA6C-4DA1-9A8D-75521FB1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93D-499A-46B4-AD0F-2E3FC95F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62A-1A0A-469B-8F9A-9288A4A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D85-6CC1-4F8C-9638-DBD59CA5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E60-DE70-4F7E-A237-2F698A6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56C-5833-484B-9B83-BF05E93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298-BA03-4F00-B95A-AFB1AA69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23C-B326-4CA0-8AEE-DAA04AFE0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Providing Treatment to Satellite Systems: Allocating Liabilities and Improving Relationship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s Schlobo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rector of Interceptor Systems, HRS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vember 15, 200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active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y Directors Create Capacity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al Capacity Design &amp; Operating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itary Sewer Evaluation Study (SSES)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Portion of Consent 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andum of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RSD participates fu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city Team Meets Regularly With VDEQ and E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y Directors Draft State Consent Order and Forward to VAD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RSD is included in the draft State 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active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ty Directors Meet Quarterly with VDEQ and 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Utilized Hampton Roads Planning District to Coordinate Meetings and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ty Directors Have Developed a Detailed plan to meet implementation schedule requested by DEQ/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gion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Fa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 to finalize State 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 trigger long-term local control over satellite system capacity and I/I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rders should obviate the need for federal e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benefits to the whole region from minimizing federal invol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-effective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voiding consent decree bagg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Allocating Liabilities With Satellite Communities Who Pee Into Your System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ul Calam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CWA Legal Aff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 15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245280" y="6165720"/>
            <a:ext cx="26240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roblem: Satellite systems delivering excess I/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leaky systems tributary to your system that exceed your design and/or operation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flows triggered in your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responsible for these overflows even if beyond your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leaky systems tributary to your system that simply want to pump wet weather I/I to make it your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ce to the bottom (for the biggest pu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roblem (con’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ng I/I versus SSO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run emergency/standby pum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you take other steps to handle excessive I/I from your satelli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it flow or seek to proactively manage where overflows occur in the overall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A Consent Decree Off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ity shall be responsible for full implementation of the remedial and control measures identified in the [SSO control] Plan.  If the City determines that implementation of some or all of the remedial and control measures are to be performed on or in a sewer system owned by a person or entity other than the City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ity shall ensure the remedial and control measures are implemen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roaches to Allocate Li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-based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ter Agreement with Regu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w-Based Char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treatment systems meter each (or at least significant) points of connection from satellit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e capital and O&amp;M charges based on average and PEAK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W assumes responsibility for handing all peak flows that are delivered to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 with small satellit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OTWs have contracts with satellit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quite d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equently regulate peak f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long-exp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s for updating contracts to address excess peak flow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990720"/>
            <a:ext cx="9144000" cy="3657600"/>
            <a:chOff x="0" y="990720"/>
            <a:chExt cx="9144000" cy="36576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91440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191120"/>
              <a:ext cx="9144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91720" y="1066680"/>
              <a:ext cx="15228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9144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37335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CWA Board Member Intergov Agreement – Addendum to Satellite 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 CM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wet weather peaking to 2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peaking is not reduced to 3 or less within 2 years, morato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ro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m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satellite a co-permittee for your NP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 clear statement of area of responsibility for 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ttle practical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it your interceptor overflow locations to the satellite system serve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k state collection system permit to introduce Satellites to I/I and SSO-related aspects of the NPDES program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m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 a pretreatment permit to the loc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quire amendment to your sewer use ordinance to require CWA permit for some or all satellit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OTWs have regulatory authority to impose I/I and capacity requirements on satellit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assert EPA definition of “excessive” I/I in an effort to force satellite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Enforcement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lites that won’t play ball often draw the interest of EPA/State regu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8 letter follow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9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8 letter can be highly problematic and is a real incentive for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state statutes and regulations prohibit unpermitted discharges (SSOs) and require prompt reporting there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state laws also impose mitigation obligations where unpermitted discharges have occu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satellites need to be reminded that they are in fact regulated through these autho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OTWs have made the case for State/EPA enforcement against satellites before central POTW can make capacity determ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OTWs have allocated liability for excess I/I and SSOs within State enforcement 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Letter Agre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W can seek a “comfort letter” from the State that the State intends not to seek enforcement for interceptor/treatment overflows/bypasses experienced by the POTW owner due to handling excessive satellite system I/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 agency to choose with you where overflows should occ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pproach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s for Ros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98600"/>
          <a:ext cx="8381880" cy="59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8600"/>
                    <a:ext cx="838188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572000" y="4267080"/>
            <a:ext cx="3276720" cy="2133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12840" y="0"/>
            <a:ext cx="44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mpton Roads Sanitation District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by Act of VA Legisla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ntracts between HRSD and Satell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ory Power – used strategic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ssioners Appointed by Govern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90% Force 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mbined se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ordinary WWTP treatment and collection system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ing with Satellites -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ight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perative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al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ty Directors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te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m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used Waste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itary Sewer Overflow Reporting System (SS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mpton Roads Utility Billing Service (HRUB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ory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/HRSD consent orders regarding wet weather capacity/SSOs with two Satell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EPA Region III seek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atellites to be under State consent orde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Decree for HR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ory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lites Agree to Develop State Consent 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SSES in Phas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LTCP in Phas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active Regional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SD declines to date to negotiate federal consent dec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lite systems support HRSD politically and facilitate including HRSD within umbrella of State consent 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A steps back and is evaluating regional progress before deciding whether to pursue HRSD consent dec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8:48:44Z</dcterms:created>
  <dc:creator>RSCHLOBOHM</dc:creator>
  <dc:description/>
  <dc:language>en-US</dc:language>
  <cp:lastModifiedBy> </cp:lastModifiedBy>
  <dcterms:modified xsi:type="dcterms:W3CDTF">2006-10-26T19:03:5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5919949</vt:r8>
  </property>
  <property fmtid="{D5CDD505-2E9C-101B-9397-08002B2CF9AE}" pid="3" name="_AuthorEmail">
    <vt:lpwstr>paul@aqualaw.com</vt:lpwstr>
  </property>
  <property fmtid="{D5CDD505-2E9C-101B-9397-08002B2CF9AE}" pid="4" name="_AuthorEmailDisplayName">
    <vt:lpwstr>Calamita, Paul</vt:lpwstr>
  </property>
  <property fmtid="{D5CDD505-2E9C-101B-9397-08002B2CF9AE}" pid="5" name="_EmailSubject">
    <vt:lpwstr>Legal Affairs Powerpoint</vt:lpwstr>
  </property>
  <property fmtid="{D5CDD505-2E9C-101B-9397-08002B2CF9AE}" pid="6" name="_PreviousAdHocReviewCycleID">
    <vt:r8>-1285300287</vt:r8>
  </property>
</Properties>
</file>