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74C-950F-4DC9-9FB7-CBD4EB85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AC8-B264-478E-AB5B-D9DAFBC7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D85-58C2-4D32-8AE8-DFF6D0FA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877-FB3D-459B-BD7C-6BEE88AD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6C9-829B-486E-8E7F-69AEA828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120-CD9D-4DA1-8455-C9EC8EDD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B93-DABA-435B-9AD8-5517D553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FE2-C841-41CC-9CF1-AB1A65EC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4BE-6E22-44C6-9CD9-5B98072A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2AB-CF1A-496B-AA62-69C121B7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27D-D087-49AB-B8C2-4D922139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B35-0828-49E0-BBBA-91BCE5AC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1BDA-4A63-4D62-9F41-5B762C553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Providing Treatment to Satellite Systems: Allocating Liabilities and Improving Relationship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ss Schlobo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rector of Interceptor Systems, HRS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vember 15, 2006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active 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ty Directors Create Capacity T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onal Capacity Design &amp; Operating 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nitary Sewer Evaluation Study (SSES)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Portion of Consent 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orandum of Agre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RSD participates fu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city Team Meets Regularly With VDEQ and E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ility Directors Draft State Consent Order and Forward to VADE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RSD is included in the draft State o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active 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ty Directors Meet Quarterly with VDEQ and E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Utilized Hampton Roads Planning District to Coordinate Meetings and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ty Directors Have Developed a Detailed plan to meet implementation schedule requested by DEQ/E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gional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Fa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ct to finalize State 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ill trigger long-term local control over satellite system capacity and I/I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rders should obviate the need for federal enfor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ificant benefits to the whole region from minimizing federal invol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-effective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voiding consent decree bagg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Allocating Liabilities With Satellite Communities Who Pee Into Your System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ul Calam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CWA Legal Aff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mber 15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245280" y="6165720"/>
            <a:ext cx="262404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Problem: Satellite systems delivering excess I/I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 leaky systems tributary to your system that exceed your design and/or operation cap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flows triggered in your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are responsible for these overflows even if beyond your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 leaky systems tributary to your system that simply want to pump wet weather I/I to make it your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ace to the bottom (for the biggest pu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roblem (con’t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ng I/I versus SSOs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run emergency/standby pump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you take other steps to handle excessive I/I from your satelli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it flow or seek to proactively manage where overflows occur in the overall syst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A Consent Decree Off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ity shall be responsible for full implementation of the remedial and control measures identified in the [SSO control] Plan.  If the City determines that implementation of some or all of the remedial and control measures are to be performed on or in a sewer system owned by a person or entity other than the City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ity shall ensure the remedial and control measures are implemen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roaches to Allocate Li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-based char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for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ter Agreement with Regu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w-Based Char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treatment systems meter each (or at least significant) points of connection from satellite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e capital and O&amp;M charges based on average and PEAK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W assumes responsibility for handing all peak flows that are delivered to th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mmon with small satellite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r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POTWs have contracts with satellite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quite d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equently regulate peak fl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ten long-exp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es for updating contracts to address excess peak flows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990720"/>
            <a:ext cx="9144000" cy="3657600"/>
            <a:chOff x="0" y="990720"/>
            <a:chExt cx="9144000" cy="36576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1066680"/>
              <a:ext cx="9144000" cy="34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4191120"/>
              <a:ext cx="91440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991720" y="1066680"/>
              <a:ext cx="152280" cy="358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990720"/>
              <a:ext cx="91440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373356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r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CWA Board Member Intergov Agreement – Addendum to Satellite 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 CM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wet weather peaking to 2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peaking is not reduced to 3 or less within 2 years, morato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prov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m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satellite a co-permittee for your NP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 clear statement of area of responsibility for Satel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ttle practical 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it your interceptor overflow locations to the satellite system served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k state collection system permit to introduce Satellites to I/I and SSO-related aspects of the NPDES program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m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 a pretreatment permit to the loca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require amendment to your sewer use ordinance to require CWA permit for some or all satellite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gul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POTWs have regulatory authority to impose I/I and capacity requirements on satellite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s assert EPA definition of “excessive” I/I in an effort to force satellite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Enforcement Or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tellites that won’t play ball often draw the interest of EPA/State regu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8 letter followed b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9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8 letter can be highly problematic and is a real incentive for coop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Enfor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state statutes and regulations prohibit unpermitted discharges (SSOs) and require prompt reporting there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state laws also impose mitigation obligations where unpermitted discharges have occur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satellites need to be reminded that they are in fact regulated through these author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Enfor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POTWs have made the case for State/EPA enforcement against satellites before central POTW can make capacity determ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POTWs have allocated liability for excess I/I and SSOs within State enforcement 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Letter Agre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W can seek a “comfort letter” from the State that the State intends not to seek enforcement for interceptor/treatment overflows/bypasses experienced by the POTW owner due to handling excessive satellite system I/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 agency to choose with you where overflows should occ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ther approach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s for Ros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498600"/>
          <a:ext cx="8381880" cy="59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8600"/>
                    <a:ext cx="838188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572000" y="4267080"/>
            <a:ext cx="3276720" cy="2133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12840" y="0"/>
            <a:ext cx="444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mpton Roads Sanitation District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 by Act of VA Legisla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ntracts between HRSD and Satell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tory Power – used strategica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issioners Appointed by Govern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 90% Force M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mbined sew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ordinary WWTP treatment and collection system re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ing with Satellites -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ight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perative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onal 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ty Directors Committ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ste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orm 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used Waste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nitary Sewer Overflow Reporting System (SS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mpton Roads Utility Billing Service (HRUB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gulatory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/HRSD consent orders regarding wet weather capacity/SSOs with two Satell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er EPA Region III seek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atellites to be under State consent orde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deral Decree for HR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gulatory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tellites Agree to Develop State Consent 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Ph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 SSES in Phas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 LTCP in Phas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active Regional 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SD declines to date to negotiate federal consent dec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tellite systems support HRSD politically and facilitate including HRSD within umbrella of State consent 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PA steps back and is evaluating regional progress before deciding whether to pursue HRSD consent dec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8:48:44Z</dcterms:created>
  <dc:creator>RSCHLOBOHM</dc:creator>
  <dc:description/>
  <dc:language>en-US</dc:language>
  <cp:lastModifiedBy> </cp:lastModifiedBy>
  <dcterms:modified xsi:type="dcterms:W3CDTF">2006-10-26T19:03:5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65919949</vt:r8>
  </property>
  <property fmtid="{D5CDD505-2E9C-101B-9397-08002B2CF9AE}" pid="3" name="_AuthorEmail">
    <vt:lpwstr>paul@aqualaw.com</vt:lpwstr>
  </property>
  <property fmtid="{D5CDD505-2E9C-101B-9397-08002B2CF9AE}" pid="4" name="_AuthorEmailDisplayName">
    <vt:lpwstr>Calamita, Paul</vt:lpwstr>
  </property>
  <property fmtid="{D5CDD505-2E9C-101B-9397-08002B2CF9AE}" pid="5" name="_EmailSubject">
    <vt:lpwstr>Legal Affairs Powerpoint</vt:lpwstr>
  </property>
  <property fmtid="{D5CDD505-2E9C-101B-9397-08002B2CF9AE}" pid="6" name="_PreviousAdHocReviewCycleID">
    <vt:r8>-1285300287</vt:r8>
  </property>
</Properties>
</file>