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313-F2CC-425B-A124-4216C689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EA7-6576-4E82-9BA3-A0945279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2A9-DE55-49A8-88AC-5D2FA8AA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4D6-6691-4433-9863-75700507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50C7-E45C-4E6F-BDB8-CC2F668B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BBA9-A8B6-44FA-AB73-6B9DEB23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CEB2-C88E-4730-927E-E7BDD543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161A-DF88-45C3-A071-98E4F148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636F-5B49-4FF0-882C-7E3A00B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FE6F-03EF-44B2-AAF4-6560B96A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4D6A-D51F-4AD8-8380-0F3FFE3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782-2410-4E47-8AD5-5815DB8B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2D19-3B36-457A-8B94-41E26AE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FA2E-C3EE-42E7-B6B1-129BC16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B6EA-1AA1-4818-9B18-B71F7495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E891-390F-44EF-A4B0-0A2BD064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3B9-6981-41BE-884F-55D2AA4E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DC5-3422-4125-8305-2C2AD6E8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4B1-199E-4DCC-9B4A-D2060AEE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83C-A3B3-4198-B31A-6A3E2674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F12-6078-44EC-873B-84F22F5E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B33-4053-4E3E-96AB-A52AF9F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9A7-A83B-4B19-ADEF-C971CA0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68A-096C-4E1B-811F-B33251B3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97F4-F183-4284-A92B-2E95B7B98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11EC-E9F6-4C88-BD97-FC27612E1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SATELLITE COLLECTION SYSTEMS –                  </a:t>
            </a:r>
            <a:br>
              <a:rPr sz="4000"/>
            </a:b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  CONTRACT ALTERNATIV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0477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ristopher M. Westh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istant City Attor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blic Works General Counse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ty of Los Ang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2E49-391E-493D-8484-9EBE4F7E9AC3}" type="slidenum">
              <a:t>1</a:t>
            </a:fld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MALGAMATED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s - Specific Facilities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 Pay For All Treatment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 Pay For All Conveyance &gt; 30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Treated Like Internal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DF8-D01C-45A0-9232-BF079165FA56}" type="slidenum">
              <a:t>10</a:t>
            </a:fld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PORTIONATE SHAR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s - Flow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- Flow and Str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yance - MGD-m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28E-513A-4DCA-A358-8BFFD4BB2DC5}" type="slidenum">
              <a:t>11</a:t>
            </a:fld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GENCIES PAY FOR SYSTEM CAPAC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s - Agencies Pay Only Upgrade Capital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 Pay Both Upgrade And Expansion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 Share SF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Share Ris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s Arguments Over Upgrade, Expans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DAF-260B-4C56-8778-A3035230993D}" type="slidenum">
              <a:t>12</a:t>
            </a:fld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APACITY IS AVAILABLE FOR AGENCY GROWT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t With The Agencies Paying Expans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Pay SFCs  (hook up charges for new customers’ flows or charges for increased flows of existing customers) like Internal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250-7201-42F5-B254-1E1EBC7F59AC}" type="slidenum">
              <a:t>13</a:t>
            </a:fld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RFACE WATER RUNOFF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Rain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rs Pay No SFCs, Since They Have Interruptible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rs Pay S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810-A385-4B7C-9F84-AA33985D018B}" type="slidenum">
              <a:t>14</a:t>
            </a:fld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LOW AND STRENGTH MONITOR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And The Agencies Will Monitor Flow and Strength At Their Points Of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ion (&lt;0.5 cf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ment (&gt;0.5 cf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Flow Me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rterly Strength S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378-3ED0-4786-931E-9F09A716519A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A IS THE SOLE OWNER AND OPERATOR OF THE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And LA Will Meet Period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May Meet With The Auditors And Value Engin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ory Liability Is Shared With The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3BB-3437-42B7-98F8-42F53C4AF1CD}" type="slidenum">
              <a:t>16</a:t>
            </a:fld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s - Could Withhold Payments With Little Conseq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s - Must Pay At Least 85% And Put Remainder Of Bill In Esc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Binding Medi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CBC-2D6F-409A-B334-7689FBD43E89}" type="slidenum">
              <a:t>17</a:t>
            </a:fld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TRACT TER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 - Perpetual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 Year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Reopen After 10 Years For Changed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not Renegotiate For 1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-Out When Leaving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021-65CA-4F72-BE69-32283181A4A7}" type="slidenum">
              <a:t>18</a:t>
            </a:fld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44E-6A07-40F7-9700-30D697C4D679}" type="slidenum">
              <a:t>19</a:t>
            </a:fld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City’s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26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10516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reatment Plants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700 Miles of Sew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” to 150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6 Pump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 Contract Agencies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ing Other Citi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Property, Cou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 Agencies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403236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48C-0871-4455-8F57-96E7251BCABE}" type="slidenum">
              <a:t>2</a:t>
            </a:fld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CHANGE THE EXISTING CONTRACT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 and Regulatory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Wastewater System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hanges In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ated Contracts Could Not Handle  Modern Regulatory Climate, City’s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Payment And/Or Partial Pa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783-DE61-4A60-8B0C-8B0C22D61865}" type="slidenum">
              <a:t>3</a:t>
            </a:fld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Evolution From Old Contracts to New 30 Year Agreemen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 Proposed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y-SS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igation In Early 199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t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78A-22F2-4A72-BDA9-1A0AF949D137}" type="slidenum">
              <a:t>4</a:t>
            </a:fld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ITY GO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pt and Complete Pa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e Charge System As Internal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ed Term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Control Over Th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face Water Run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033-8CD1-4BDE-ABE2-FE92418EEC42}" type="slidenum">
              <a:t>5</a:t>
            </a:fld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GENCY GO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ful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-Out Pro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ccess To Additional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y 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ute Re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3D9-D357-49AB-84EF-6BFD405CABEA}" type="slidenum">
              <a:t>6</a:t>
            </a:fld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LLECTIVE GO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y With Reg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 And Equitable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r Charges With Reduced Administrat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677-B954-4DD2-9E4A-E3935A9EEFB4}" type="slidenum">
              <a:t>7</a:t>
            </a:fld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NEW SERVICE CONTRACTS –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Key Provision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 Measu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, Liability And Compliance 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 Each Contract Agency is Completely Responsible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Local Collection System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Of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232-FC86-4B91-9B46-10F2ECD8CC52}" type="slidenum">
              <a:t>8</a:t>
            </a:fld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W CONCEP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ated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rtionate Sh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monthly Pay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Pay The Full Costs Of 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Pay For System Capacity Like Internal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722-6FE6-4FC0-A54C-D6AC850FFF7B}" type="slidenum">
              <a:t>9</a:t>
            </a:fld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westho</cp:lastModifiedBy>
  <cp:lastPrinted>1998-05-26T21:31:20Z</cp:lastPrinted>
  <dcterms:modified xsi:type="dcterms:W3CDTF">2006-01-14T01:27:57Z</dcterms:modified>
  <cp:revision>20030</cp:revision>
  <dc:subject/>
  <dc:title>Saturn Project</dc:title>
</cp:coreProperties>
</file>