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8CAF-3899-49D3-A60C-75F1B9FD8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4090-281C-4E4B-9EE2-50DC9BB2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DA95-7B90-45A9-A923-99854AFB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3EE4-A8AF-452E-8B4C-912AFE1C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9F84-CF30-4B9B-B53E-AD8A386E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0433-B9A9-4DBD-8789-C8C42045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996C-C8D7-448E-B636-CC5D01D9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7744-D343-4F4B-97AD-254D1D0D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F9D8-3531-4DBE-92B9-054B9B47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871F-37AC-4DF6-A1AB-32CF8B7F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7B32-5B47-4543-95EE-15015871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BF8C-F628-4237-9692-4A7E07E8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E504-F9D1-476E-8927-AAEEE550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ECD2-05FB-45DC-ADA7-0E998C04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30D5-5907-48AC-A0A3-8CE9BB6F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A2A5-BFE7-4726-9FF5-1F7AE7C24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B4D0-5DEA-4FC8-95E3-65619B515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1F25-A9DB-4B0C-9247-F0B05B3A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5B2A-403A-41B1-B2DA-FCC0C61A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7073-B954-4998-952B-C05BD128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E485-4124-4159-96BE-391F948F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F741-E23F-486B-829F-F7A71402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5E4E-D5E3-4344-A497-A80F90C0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13B6-3671-492B-A645-D5A11D6C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C800-B6F2-40DB-A48E-7B37C5FE2F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D88B-5E8A-49A1-A032-8D68635508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SATELLITE COLLECTION SYSTEMS –                  </a:t>
            </a:r>
            <a:br>
              <a:rPr sz="4000"/>
            </a:b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THE  CONTRACT ALTERNATIVE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905120" y="304776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hristopher M. Westhof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sistant City Attorn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ublic Works General Counsel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ity of Los Ang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B2E4-6AA9-4A89-A8C6-550FF733BFC5}" type="slidenum">
              <a:t>1</a:t>
            </a:fld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AMALGAMATED SYSTE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ld Contracts - Specific Facilities U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Contrac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cies Pay For All Treatment Pl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cies Pay For All Conveyance &gt; 30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ncies Treated Like Internal Custom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445A-67F9-4712-91BF-D213338484E1}" type="slidenum">
              <a:t>10</a:t>
            </a:fld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ROPORTIONATE SHAR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ld Contracts - Flow On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Contra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eatment - Flow and Streng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yance - MGD-m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FE31-DEF5-4C0A-B202-3D146BF1C9ED}" type="slidenum">
              <a:t>11</a:t>
            </a:fld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AGENCIES PAY FOR SYSTEM CAPACIT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ld Contracts - Agencies Pay Only Upgrade Capital Co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Contra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cies Pay Both Upgrade And Expansion Co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cies Share SFC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ncies Share Risk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s Arguments Over Upgrade, Expansion Co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FC72-5F32-4D9C-A614-4190110BE16C}" type="slidenum">
              <a:t>12</a:t>
            </a:fld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APACITY IS AVAILABLE FOR AGENCY GROWTH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stent With The Agencies Paying Expansion Co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ncies Pay SFCs  (hook up charges for new customers’ flows or charges for increased flows of existing customers) like Internal Custom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D608-CDB9-4455-9E07-751953497258}" type="slidenum">
              <a:t>13</a:t>
            </a:fld>
          </a:p>
        </p:txBody>
      </p:sp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URFACE WATER RUNOFF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Rainy Sea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ow Limi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hargers Pay No SFCs, Since They Have Interruptible Serv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hargers Pay S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F87E-A54E-40F1-B2F2-97445266EFBC}" type="slidenum">
              <a:t>14</a:t>
            </a:fld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FLOW AND STRENGTH MONITOR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And The Agencies Will Monitor Flow and Strength At Their Points Of E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imation (&lt;0.5 cf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surement (&gt;0.5 cf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ous Flow Me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arterly Strength Sam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D3EA-D6DF-4A11-B127-806F95228C51}" type="slidenum">
              <a:t>15</a:t>
            </a:fld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LA IS THE SOLE OWNER AND OPERATOR OF THE SYSTE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26665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ncies And LA Will Meet Periodic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ncies May Meet With The Auditors And Value Engine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ory Liability Is Shared With The Ag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0DF4-EA7B-4ECE-9252-1293A9863462}" type="slidenum">
              <a:t>16</a:t>
            </a:fld>
          </a:p>
        </p:txBody>
      </p:sp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DISPUTE RESOLU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ld Contracts - Could Withhold Payments With Little Consequ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Contracts - Must Pay At Least 85% And Put Remainder Of Bill In Escr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Binding Medi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6727-5FFF-4362-B055-3565A66186A0}" type="slidenum">
              <a:t>17</a:t>
            </a:fld>
          </a:p>
        </p:txBody>
      </p:sp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ONTRACT TER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ld Contract - Perpetual Te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Contr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 Year Te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Reopen After 10 Years For Changed Cond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not Renegotiate For 10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y-Out When Leaving The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BBC4-768D-48C3-85C8-DB8BCFF20C37}" type="slidenum">
              <a:t>18</a:t>
            </a:fld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f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17CE-F9EC-41F6-AA79-C641AEF4934F}" type="slidenum">
              <a:t>19</a:t>
            </a:fld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e City’s Syste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426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5105160" y="19807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Treatment Plants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700 Miles of Sew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6” to 150”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6 Pump Pl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6 Contract Agencies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ing Other Cities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deral Property, Coun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nitation Agencies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914400" y="1676520"/>
            <a:ext cx="4032360" cy="518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B3B8-9305-490E-9C75-67BE31A0CEBC}" type="slidenum">
              <a:t>2</a:t>
            </a:fld>
          </a:p>
        </p:txBody>
      </p:sp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Y CHANGE THE EXISTING CONTRACTS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ronmental  and Regulatory Ch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gnificant Wastewater System Ch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ysical Changes In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ancial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dated Contracts Could Not Handle  Modern Regulatory Climate, City’s N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Payment And/Or Partial Pay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FF24-AC7C-48FF-B3F2-95F9C4501FD7}" type="slidenum">
              <a:t>3</a:t>
            </a:fld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Evolution From Old Contracts to New 30 Year Agreement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l Contr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ft Proposed Contr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ncy-SSC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tigation In Early 1990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tl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0A56-02C9-42D4-BE3A-E8CE2CF118AC}" type="slidenum">
              <a:t>4</a:t>
            </a:fld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ITY GOAL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mpt and Complete Pay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me Charge System As Internal Resi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xed Term Contr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tain Control Over The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rface Water Runof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A416-F863-4BEF-8B7D-320CB63AD806}" type="slidenum">
              <a:t>5</a:t>
            </a:fld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AGENCY GOAL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ningful In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y-Out Provi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Access To Additional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y L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ute Re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0417-5FBC-4824-BBD1-76BAFAAB797E}" type="slidenum">
              <a:t>6</a:t>
            </a:fld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OLLECTIVE GOAL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y With Regul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ir And Equitable Char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r Charges With Reduced Administration Co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le Contr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87E2-0462-45CD-9670-F8D479292982}" type="slidenum">
              <a:t>7</a:t>
            </a:fld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NEW SERVICE CONTRACTS –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Key Provision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ge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minis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harge Measur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ration, Liability And Compliance -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  Each Contract Agency is Completely Responsible f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ir Local Collection System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m Of Agre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li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3ECA-656F-4D2E-B25A-56D97E9A2B07}" type="slidenum">
              <a:t>8</a:t>
            </a:fld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NEW CONCEP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algamated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portionate Sh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monthly Pay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ncies Pay The Full Costs Of Servi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ncies Pay For System Capacity Like Internal Custom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422E-0301-4D5B-8799-F38D59766373}" type="slidenum">
              <a:t>9</a:t>
            </a:fld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westho</cp:lastModifiedBy>
  <cp:lastPrinted>1998-05-26T21:31:20Z</cp:lastPrinted>
  <dcterms:modified xsi:type="dcterms:W3CDTF">2006-01-14T01:27:57Z</dcterms:modified>
  <cp:revision>20030</cp:revision>
  <dc:subject/>
  <dc:title>Saturn Project</dc:title>
</cp:coreProperties>
</file>