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A99-5D86-4327-A11E-A5324E62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184-AA20-456A-B115-BEEB62DC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8BC-06BF-479E-8EA1-A79F18D3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68F-4A45-4357-BECE-79E2A427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D421-5530-489E-B74D-F392E054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E3CC-6974-43D9-9DEE-E80656F4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8493-0055-44E9-B9A7-38807F8F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5FB4-1902-4323-881F-66ABB46C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3452-FBEE-4773-AA25-33467A80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678F-3404-459D-9CA5-63E98371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48C1-737D-4CC4-A0A6-8C4134D4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12A-A726-4468-BE60-F3B4F549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492E-9467-4BF3-A8FF-9A69E838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C6A8-277B-4141-9053-78D316E0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55D1-9250-4C92-9B6C-D03EEB7C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192E-26F7-4EF6-AFD8-33E2F0F8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75C8-7508-4BF4-9BD0-02FED317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8B5-7105-4994-9EFA-63625BEE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516-D519-4E68-9035-87C6AF2F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C1B-11BC-4AF6-B210-D0838B9E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273-4799-4D40-9E46-11D31533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9E6-7034-48DE-BA81-6C8403DD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452-D0F9-4310-99B9-D15A1EB3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2C1-2401-477E-87CD-AEE13F32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CEA9-8517-492B-AC15-1FC7541CA5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CDBF-5C1C-4DBD-BE79-E6096612D3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astewater Financial Capability &amp; Affordabil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CWA Legal Affairs Con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ston, November 15-17,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bert Wea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PA CSO Financial Capability Guidance, 1997 cont’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ther Defensible Approach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nce flexibility is an important aspect of the CSO Policy, permittees are encouraged to submit any additional documentation that would create a more accurate and complete picture of their financial capability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PA Financial Capability Guidebook 1994 for Title II Gra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3A7-B790-4014-B163-B74070C01F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ssues Leading to “Other Defensible” Approach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ffordability – customer rate pay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ty w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pop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sts - Policy Rational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WA including separate storm se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DW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CR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deral Mand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Community Infra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nancial Capability and Affordability in Wet Weather Negoti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NACWA White Paper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EB7-EA8C-4464-A366-17AFDA7512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rrent Reviews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PA Study of Affordability for Small Drinking Water System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ACWA White Pap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gulatory Implications fo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mbination Feas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ential SSO Rule, Guid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PA Environmental Finance Advisory Board Review of 1997 CSO Guidance – EPA Water Permits Divis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gressional Extensions of SRF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ean Water Trust Fund Act, H.R.456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PA Paying for Sustainable Infrastructure Conference, March 200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CFB-B408-4503-B270-D86BD61530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rateg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90320" indent="-490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 Community-Specific Financial Impa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tal Federal Regulatory Cost Burd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tility Financial Capability – Multiple Indica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fordabil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360" indent="-3956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tility Wi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96360" indent="-3956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ubpopul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Strong Policy &amp; Legal Ration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itutionalize Financial Impact Model With Capital Planning/ Asset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blish National Infrastructure Financial Data Report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ational Clean Water Trust Fu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0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9B3-4040-495A-957D-5940761567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astewater Financial Capability &amp; Affordabilit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bert C. Wea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lly &amp; Weaver P.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ite 700, 11 Dupont Circle N.W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hington, D.C. 20036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797-7100, fax 202 939-696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aver@kellyweaver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397-5DF0-48A1-93AD-0EA761E50F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R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Financial Capabilit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utility permittee ability to fin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Affordabilit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individual customer rate payers ability to p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821-87DA-4A90-8E2B-65302926D1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QS Review – Financial Impa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WA Requires Attainment of WQS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ttainability Assessment - EPA WQS Regulations – 40 CFR§131.10(g)(6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nge in WQS designated u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stantial Widespread Social and Economic Impa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PA “Interim Economic Guidance for Water Quality Standards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62C-4D95-4992-AFCC-0C94AAEBB8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idespread Social and Economic Impact – Guidance Step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designated use is potential not exist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Entity’s Substantial Economic Imp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Entity’s Financial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 Whether Impacts are Widespr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Economic Benefits of Clean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B27-D65B-4BFB-9DBF-13741622A6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idespread Social and Economic Impact – Guidance Steps cont’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blic Comment/Debate Peri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Widespread Impacts Demonstrated, Determine Which Pollution Reduction Option Should be Implemen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designate WQS Uses and Criteria to Prot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opt Permit Effluent Limit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-evaluate WQSs in 3 Yea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53D-6AD0-4215-81A7-EC8233B89C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QS Implementation Schedu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g-Term includes beyond 5 ye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e Authority to Iss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tar-Kist Carib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PDES Permit Appe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ancial Capability, Affordability A Factor in Setting Schedules in “Enforceable Mechanism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PDES Permits –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Judicial Consent Decre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ministrative Orders:  AOs, AP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016-8DED-4B8B-B90A-41C6D71F82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QS Schedule Fact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iminating Overflows to Sensitive 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Impair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nancial Cap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t and Loan Avail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vious and Current Sewer Use Fees and Rate Struc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ther Viable Funding Mechanisms and Sources of Financ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22F-20B7-4D3A-87B3-37208FE999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PA CSO Financial Capability Guidance, 1997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plies to CSO Correction &amp; Wastewater Facil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lects Municipal Bond Houses Approach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ECA Conducts Detailed Financial Reviews for Penalty Assess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Accounting for Poor Popu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ve to Utility Rate Ma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F50-47C8-4664-B7F8-1C87D65037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PA CSO Financial Capability Guidance, 1997 cont’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ork Sheets to Calculate Customer Rates as % Medium Household Income (MHI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idential Indicator- Costs/Household ÷ Adjusted MH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ancial Capability Indicators by Ran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w – Less than 1% MH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d-Range - 1-2% MH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– Greater than 2% MH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uidance Level- 2% Rates of MH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d on Rates Charged in 1997 and 5% of communities charged mo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accurately Applied as R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F3B-870C-4987-A3B0-994D34655E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6:49:32Z</dcterms:created>
  <dc:creator>Bob Weaver</dc:creator>
  <dc:description/>
  <dc:language>en-US</dc:language>
  <cp:lastModifiedBy>Bob Weaver</cp:lastModifiedBy>
  <dcterms:modified xsi:type="dcterms:W3CDTF">2006-10-27T19:37:49Z</dcterms:modified>
  <cp:revision>18</cp:revision>
  <dc:subject/>
  <dc:title>Wastewater Financial Capability &amp; Affordability</dc:title>
</cp:coreProperties>
</file>