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EEF-6FC0-4E95-885F-9D8ED92A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DDF-DAB9-487F-B6A2-D220AF4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014-6266-4D9B-A343-63BBCCAC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579-5388-4633-9CB1-C3B62FD1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513-824B-46C2-8814-21581D10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1A59-E01E-4276-9747-D63506F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2602-7100-4DC7-8C72-5DD04DD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1AF-CB6B-4A5E-9B03-3B5849F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3CB-A0FE-473F-AEE1-5A8A784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3D7-8646-49F8-881C-AF84EA53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AC6-0CD5-4524-9750-F3A674E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FA0-2D7A-45C8-8B4B-544A210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4E1A-1F3F-4C16-8D8C-BCDAEF6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B7F9-BFF6-471F-8BED-F481C2A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8FA4-A59E-4EE3-A140-DB40869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A54E-CC41-4E4F-87AF-EDF623AA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C35F-7A18-4A0D-913D-E8CED519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EF6-A3E4-4463-A5C1-FE846A6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8F5-891F-4226-A96C-CC837987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D15-B904-42FA-811B-34C0DC1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980-E854-4F05-A4AB-921BCA44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BAD-2996-4242-A510-5D0680B2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942-B91C-4BFB-B4FD-8B362A0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C5B-335D-4C0E-BD36-5993CC4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563D-5A86-4AEE-A112-DA4A0F02DD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9CA-61EF-4130-A816-D1C5378138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stewater Financial Capability &amp; Affordabil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CWA Legal Affairs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ston, November 15-17,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ert Wea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Defensible Approach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flexibility is an important aspect of the CSO Policy, permittees are encouraged to submit any additional documentation that would create a more accurate and complete picture of their financial capability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A Financial Capability Guidebook 1994 for Title II Gra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452-815C-4E23-94BB-5DD0ACC505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ssues Leading to “Other Defensible” Approach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ffordability – customer rate pay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ty w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pop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sts - Policy Ration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WA including separate storm se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DW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R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deral Man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Community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inancial Capability and Affordability in Wet Weather Negoti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NACWA White Paper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8A1-273A-4823-90D3-318D1A259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Reviews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Study of Affordability for Small Drinking Water System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CWA White Pap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ulatory Implications f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bination Fea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SSO Rule, Guid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Environmental Finance Advisory Board Review of 1997 CSO Guidance – EPA Water Permits Divis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gressional Extensions of SRF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ean Water Trust Fund Act, H.R.456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PA Paying for Sustainable Infrastructure Conference, March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F02-1100-43EA-8ACC-1F41908D0F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 Community-Specific Financial Imp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Federal Regulatory Cost Burd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tility Financial Capability – Multiple Indica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forda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360" indent="-3956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ity Wi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96360" indent="-39564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bpopul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Strong Policy &amp; Legal Ration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ize Financial Impact Model With Capital Planning/ Asset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 National Infrastructure Financial Data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-490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ational Clean Water Trust Fu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0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3F8-14AB-42AE-B260-E84A1722FC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astewater Financial Capability &amp; Affordabilit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ert C. Wea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lly &amp; Weaver P.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e 700, 11 Dupont Circle N.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hington, D.C. 20036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797-7100, fax 202 939-696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aver@kellyweav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325-3997-4BC6-AA91-B4080CC8AD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Financial Capabil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utility permittee ability to fin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Affordabilit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individual customer rate payers ability to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312-0F62-4238-AD71-D3D447593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QS Review – Financial Imp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WA Requires Attainment of WQS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ttainability Assessment - EPA WQS Regulations – 40 CFR§131.10(g)(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nge in WQS designated u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stantial Widespread Social and Economic Imp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PA “Interim Economic Guidance for Water Quality Standards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F5D-2477-4203-BCDF-C6C9FF205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idespread Social and Economic Impact – Guidance Step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esignated use is potential not exis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Entity’s Substantial Economic Imp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Entity’s Financial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Whether Impacts are Widesp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Economic Benefits of Clean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879-3E25-4D39-88D7-807D366D04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idespread Social and Economic Impact – Guidance Steps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Comment/Debate Peri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Widespread Impacts Demonstrated, Determine Which Pollution Reduction Option Should be 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esignate WQS Uses and Criteria to Prot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opt Permit Effluent Limi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-evaluate WQSs in 3 Yea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788-1FD7-42DA-9F83-13491A390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QS Implementation Schedu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g-Term includes beyond 5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Authority to Iss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tar-Kist Carib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PDES Permit App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ancial Capability, Affordability A Factor in Setting Schedules in “Enforceable Mechanism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PDES Permits –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udicial Consent Decre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ministrative Orders:  AOs, AP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5B3-59AB-40B5-AE21-C8B33249D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QS Schedule Fac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iminating Overflows to Sensitive 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Impair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nancial Cap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t and Loan Avail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vious and Current Sewer Use Fees and Rate Stru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Viable Funding Mechanisms and Sources of Finan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5D4-356E-4534-88F1-CB7A4428C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lies to CSO Correction &amp; Wastewater Fac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s Municipal Bond Houses Approach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ECA Conducts Detailed Financial Reviews for Penalty Assess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Accounting for Poor Pop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ve to Utility Rate Ma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B0E-5300-419E-BFC5-2DB172CB3A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PA CSO Financial Capability Guidance, 1997 cont’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k Sheets to Calculate Customer Rates as % Medium Household Income (M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idential Indicator- Costs/Household ÷ Adjusted MH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ncial Capability Indicators by Ran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– Less than 1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d-Range - 1-2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– Greater than 2% MH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nce Level- 2% Rates of MH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Rates Charged in 1997 and 5% of communities charged mo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accurately Applied as R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DE4-9193-418B-8B10-BAF76317C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6:49:32Z</dcterms:created>
  <dc:creator>Bob Weaver</dc:creator>
  <dc:description/>
  <dc:language>en-US</dc:language>
  <cp:lastModifiedBy>Bob Weaver</cp:lastModifiedBy>
  <dcterms:modified xsi:type="dcterms:W3CDTF">2006-10-27T19:37:49Z</dcterms:modified>
  <cp:revision>18</cp:revision>
  <dc:subject/>
  <dc:title>Wastewater Financial Capability &amp; Affordability</dc:title>
</cp:coreProperties>
</file>