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wmf" ContentType="image/x-wmf"/>
  <Override PartName="/ppt/media/image13.wmf" ContentType="image/x-wmf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7008813" cy="9374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7009200" cy="937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8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dt" idx="7"/>
          </p:nvPr>
        </p:nvSpPr>
        <p:spPr>
          <a:xfrm>
            <a:off x="3970440" y="-360"/>
            <a:ext cx="3038400" cy="468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Img"/>
          </p:nvPr>
        </p:nvSpPr>
        <p:spPr>
          <a:xfrm>
            <a:off x="1161720" y="703080"/>
            <a:ext cx="4686120" cy="35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body"/>
          </p:nvPr>
        </p:nvSpPr>
        <p:spPr>
          <a:xfrm>
            <a:off x="701280" y="4451400"/>
            <a:ext cx="5607000" cy="4217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ftr" idx="8"/>
          </p:nvPr>
        </p:nvSpPr>
        <p:spPr>
          <a:xfrm>
            <a:off x="0" y="8902440"/>
            <a:ext cx="3038400" cy="468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 type="sldNum" idx="9"/>
          </p:nvPr>
        </p:nvSpPr>
        <p:spPr>
          <a:xfrm>
            <a:off x="3970440" y="8902440"/>
            <a:ext cx="3038400" cy="468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B9F18ABE-ED26-438D-B322-8283542AA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6208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01280" y="4451400"/>
            <a:ext cx="5607000" cy="4217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in retention times from Ed’s d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FA26-E096-40A7-9308-108AF3647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ACC9-0B30-4F16-B5C2-B74C4A55A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EB1F-881B-4E77-92CC-D7CF6B049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06D4-F730-4855-B44B-3313EF0CC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5255E-40CD-45DA-9418-73D4C97BC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AA453-74DF-4F64-B90C-12D88F12B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C87D8-A76A-48AE-B68C-5BEBAE325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BC614-2EE2-4747-A039-496B247AB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FA73B-98A9-4F7B-A111-7F939129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B21E7-B2A2-4633-A7A7-6F4DD31BE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1F9AF-7F19-4407-8D55-8A685B84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4F76-FBB2-4821-BA36-CBD3302DF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B0CE3-8872-4883-ADC5-DFAF3C59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5E8BE-AD5A-4302-A09B-927F980E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0652E-146F-4A26-BC87-9E12AB25F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A47EE-8FF3-43EE-BB8A-98CE8376A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5D572-00C3-4C45-84A0-FA61FE137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4956-D187-4D87-BD0A-0FDABF072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D255-B49E-4A70-AC9C-7C61A67ED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8EE9-E74C-46B5-9C4F-EC61C9C85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F556-B474-4A0B-9D20-9704EBCAE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F660-A9B7-4500-92D4-F5C6E293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01DA-3CB4-4B09-BCEE-827F5C46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43FC-585A-471E-856B-7D44B2D5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F9E78-03C6-41F1-A2DA-710DDC95C15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7F9E2-F276-4C4C-8C27-CCDFFF25954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RECORDS RETENTION:</a:t>
            </a: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Should I delete that?</a:t>
            </a: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A case study.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36520" y="2467080"/>
            <a:ext cx="7778880" cy="36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b Thomas, Director-Legal Department Metro Wastewater Reclamation Distri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61C2-9ECE-43B2-9C7A-25BD4D7E3B8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1066680" y="674640"/>
          <a:ext cx="7620120" cy="557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674640"/>
                    <a:ext cx="7620120" cy="557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7175-C83E-4CFC-9EB8-05750BEC01A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Records Retention and </a:t>
            </a: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Disposition Schedule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spcBef>
                <a:spcPts val="799"/>
              </a:spcBef>
              <a:buClr>
                <a:srgbClr val="ff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rst developed 198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43160" indent="-443160">
              <a:spcBef>
                <a:spcPts val="1599"/>
              </a:spcBef>
              <a:buClr>
                <a:srgbClr val="ff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pdated 1987, 2000, 200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43160" indent="-443160">
              <a:spcBef>
                <a:spcPts val="1599"/>
              </a:spcBef>
              <a:buClr>
                <a:srgbClr val="ff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unting task – cites with retention ti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31240" indent="-276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S 4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31240" indent="-276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CR 7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31240" indent="-276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C 8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31240" indent="-276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FR 99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481D-1056-4914-8503-D00708F87A1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Records Retention and 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isposition Schedul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 all records have specific retention ti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re record has no retention time, used most applicable statute of limi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4F41-C685-446F-9B69-1B4FFA9512C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1143000" y="733320"/>
          <a:ext cx="7620120" cy="549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733320"/>
                    <a:ext cx="7620120" cy="549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02DC-A70F-4ED0-8B18-B545650E9A5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Records Retention and </a:t>
            </a: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Disposition Schedule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verriding them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31240" indent="-276840">
              <a:lnSpc>
                <a:spcPct val="90000"/>
              </a:lnSpc>
              <a:spcBef>
                <a:spcPts val="1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duce amount of recor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31240" indent="-276840">
              <a:lnSpc>
                <a:spcPct val="90000"/>
              </a:lnSpc>
              <a:spcBef>
                <a:spcPts val="1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ld records no longer than necessar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31240" indent="-276840">
              <a:lnSpc>
                <a:spcPct val="90000"/>
              </a:lnSpc>
              <a:spcBef>
                <a:spcPts val="1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ep records minimal amount statute or regulation allow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31240" indent="-276840">
              <a:lnSpc>
                <a:spcPct val="90000"/>
              </a:lnSpc>
              <a:spcBef>
                <a:spcPts val="1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re multiple retention times are applicable, use longest to avoid piecemeal destruc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0C6A-25BD-4746-8919-88F23D576D1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1066680" y="1000080"/>
          <a:ext cx="7696440" cy="524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000080"/>
                    <a:ext cx="7696440" cy="52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6B7E-D9C8-4CB1-8E7C-90ACAD44B17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Records Retention and </a:t>
            </a: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Disposition Schedule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tention times: 3 for each file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08200" indent="-351000">
              <a:spcBef>
                <a:spcPts val="1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gal: Time required by statute, regulation or statute of limit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08200" indent="-351000">
              <a:spcBef>
                <a:spcPts val="1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WRD: Time which District needs to retain record for operational reas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08200" indent="-351000">
              <a:spcBef>
                <a:spcPts val="1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tal: Longer of 2 periods (can’t be shorter than legal or longer than MWRD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E9B1-DEB6-4410-8B39-FC04E1BCEC6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Records Retention and </a:t>
            </a: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Disposition Schedule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tention Periods – dictate the start of the retention ti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93800" indent="-368640">
              <a:spcBef>
                <a:spcPts val="1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T: While equipment, facility, entity is                                        ac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93800" indent="-3686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UD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tain until after aud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93800" indent="-3686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Y:  Current ye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93800" indent="-3686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:  Indefinite (similar to PERM, below, but possibility of being destroyed in futur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5258-55DD-4BAC-898D-E303C00B9AA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Records Retention and</a:t>
            </a: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Disposition Schedule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tention Periods (con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53920" indent="-396720">
              <a:spcBef>
                <a:spcPts val="1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M: Permanent (continuous preservation, e.g. Board minut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3920" indent="-396720">
              <a:spcBef>
                <a:spcPts val="1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L: Settl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3920" indent="-396720">
              <a:spcBef>
                <a:spcPts val="1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P:  Superceded (e.g. MSDS sheet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883F-D35B-4F6D-80E8-FE405D095CAB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1219320" y="838080"/>
          <a:ext cx="7543800" cy="543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838080"/>
                    <a:ext cx="7543800" cy="54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3F54-E842-443C-B808-E5AE7DE15A6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1295280" y="990720"/>
          <a:ext cx="739152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990720"/>
                    <a:ext cx="739152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089C-E697-4312-88A8-8531221A7C77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1219320" y="685800"/>
          <a:ext cx="7543800" cy="55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685800"/>
                    <a:ext cx="7543800" cy="55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47EA-4A6D-419C-B67A-BD0133D6DA1F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Records Retention and</a:t>
            </a: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Disposition Schedule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7543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0">
              <a:spcBef>
                <a:spcPts val="1800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Holds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60440" indent="-343080">
              <a:lnSpc>
                <a:spcPct val="90000"/>
              </a:lnSpc>
              <a:spcBef>
                <a:spcPts val="1599"/>
              </a:spcBef>
              <a:buClr>
                <a:srgbClr val="ffff99"/>
              </a:buClr>
              <a:buSzPct val="70000"/>
              <a:buFont typeface="Wingdings" charset="2"/>
              <a:buChar char=""/>
              <a:tabLst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Legal hol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Records retained past retention time on recommendation of counsel for pending or threatened litig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60440" indent="-343080">
              <a:lnSpc>
                <a:spcPct val="90000"/>
              </a:lnSpc>
              <a:spcBef>
                <a:spcPts val="1599"/>
              </a:spcBef>
              <a:buClr>
                <a:srgbClr val="ffff99"/>
              </a:buClr>
              <a:buSzPct val="70000"/>
              <a:buFont typeface="Wingdings" charset="2"/>
              <a:buChar char=""/>
              <a:tabLst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taff hol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Used when staff requests records be retained past retention time, requires Department Head approv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1CED-F887-48EE-AF13-49CB29E19EA2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1219320" y="709560"/>
          <a:ext cx="7238880" cy="553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709560"/>
                    <a:ext cx="7238880" cy="553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98F4-AC31-47C9-A8CC-C59030C03A0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Records Retention and </a:t>
            </a: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Disposition Schedule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otice of Destruction Schedule (NOD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66440" indent="-3276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sts all records eligible for destruction as of January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66440" indent="-3276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rst review by Central Records Dep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24080" indent="-335160">
              <a:spcBef>
                <a:spcPts val="601"/>
              </a:spcBef>
              <a:buClr>
                <a:srgbClr val="ffffcc"/>
              </a:buClr>
              <a:buSzPct val="5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quires manual search of active and electronic files (emails excluded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66440" indent="-3276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viewed by legal counsel and department hea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2F21-DD3E-46A1-8F6B-212FFE17D68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Records Retention and </a:t>
            </a: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Disposition Schedule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12840" indent="-3128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OD (con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22960" indent="-407160">
              <a:lnSpc>
                <a:spcPct val="90000"/>
              </a:lnSpc>
              <a:spcBef>
                <a:spcPts val="14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nal Approval by Records Management Administrator, legal counsel and District Manag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22960" indent="-407160">
              <a:lnSpc>
                <a:spcPct val="90000"/>
              </a:lnSpc>
              <a:spcBef>
                <a:spcPts val="14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D currently uses a manual (paper) system approval proces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22960" indent="-407160">
              <a:lnSpc>
                <a:spcPct val="90000"/>
              </a:lnSpc>
              <a:spcBef>
                <a:spcPts val="14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truction is at the container (box) or folder level, never at the document level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241280" indent="-315360">
              <a:lnSpc>
                <a:spcPct val="90000"/>
              </a:lnSpc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e exception: service contracts approved individuall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D0D4-5CF6-42E9-89FC-91C631FBE1D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1096920" y="533520"/>
          <a:ext cx="766620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6920" y="533520"/>
                    <a:ext cx="76662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1A80-8D20-404B-B7B2-5AF2426BF785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2514600" y="152280"/>
          <a:ext cx="4925880" cy="662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152280"/>
                    <a:ext cx="492588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D789-6711-4ED4-B86F-C4BB635799B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lectronic Records/Email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46400" indent="-446400">
              <a:spcBef>
                <a:spcPts val="700"/>
              </a:spcBef>
              <a:buClr>
                <a:srgbClr val="ff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uge problem for all public/private ent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71560" indent="-2739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pen records reques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71560" indent="-2739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covery in litig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46400" indent="-446400">
              <a:spcBef>
                <a:spcPts val="1400"/>
              </a:spcBef>
              <a:buClr>
                <a:srgbClr val="ff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WRD developed EFR (Electronic File Repository), Xfi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6400" indent="-446400">
              <a:spcBef>
                <a:spcPts val="1400"/>
              </a:spcBef>
              <a:buClr>
                <a:srgbClr val="ff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trict employees required to file all permanent electronic documents in EFR, excluding emai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B12F-0281-4724-95F9-543441DD604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lectronic Records/Email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599"/>
              </a:spcBef>
              <a:buClr>
                <a:srgbClr val="ff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ystem was cumbersome to u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1599"/>
              </a:spcBef>
              <a:buClr>
                <a:srgbClr val="ff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departments adapted well, and others (e.g. Legal) ………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1599"/>
              </a:spcBef>
              <a:buClr>
                <a:srgbClr val="ff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fficult to monitor for destruction purpo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59320" indent="-4294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irculation to persons and depart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9320" indent="-4294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o is to file (creator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9320" indent="-4294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pies not tracked, only EFR cop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7EF1-DD3E-4A9B-BCBB-26FEC4713A1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lectronic Records/Email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lnSpc>
                <a:spcPct val="90000"/>
              </a:lnSpc>
              <a:spcBef>
                <a:spcPts val="1599"/>
              </a:spcBef>
              <a:buClr>
                <a:srgbClr val="ff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ctronic “convenience copies” and emails not tracked through Xfi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65120" indent="-465120">
              <a:lnSpc>
                <a:spcPct val="90000"/>
              </a:lnSpc>
              <a:spcBef>
                <a:spcPts val="2001"/>
              </a:spcBef>
              <a:buClr>
                <a:srgbClr val="ff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WRD’s Electronic Media Policy puts burden on employee to delete “convenience copies” and emai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65120" indent="-465120">
              <a:lnSpc>
                <a:spcPct val="90000"/>
              </a:lnSpc>
              <a:spcBef>
                <a:spcPts val="2001"/>
              </a:spcBef>
              <a:buClr>
                <a:srgbClr val="ff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truction of “convenience copies” and emails on the honor 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B705-42A3-45C7-B028-62137932B5B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848720" cy="5715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Honus Wagner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BA17-EA98-42FD-A998-FBC59066CC9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MWRD’s New System</a:t>
            </a: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FileSurf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599"/>
              </a:spcBef>
              <a:buClr>
                <a:srgbClr val="ff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bines elements of both Records Retention system and Xfi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1599"/>
              </a:spcBef>
              <a:buClr>
                <a:srgbClr val="ff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ository for final District docu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ctronic, including email and CA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15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cks down document into final version, no edi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E0C4-FD6E-4BE7-89E9-70024543C9B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MWRD’s New System</a:t>
            </a: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FileSurf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jor Advanta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spcBef>
                <a:spcPts val="14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rong search capabil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spcBef>
                <a:spcPts val="14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miliarity – paper version of current Retention Schedule and NOD will look nearly identical to FileSurf ver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spcBef>
                <a:spcPts val="14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ludes its own browser allowing user to view any form of document fil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6AE4-C748-49A7-AA78-D5FB36D1893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1143000" y="380880"/>
          <a:ext cx="7639200" cy="5902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80880"/>
                    <a:ext cx="7639200" cy="590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CBB3-6D1C-448E-A8E1-C9ED189C85B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MWRD’s New System</a:t>
            </a: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FileSurf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leSurf N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86960" indent="-3664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lly automated, no more manual searches for active or electronic reco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86960" indent="-3664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ows viewing of container contents including individually filed reco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86960" indent="-3664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mits electronic approval of destru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86960" indent="-3664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nal NOD list still requires signatures of Records Management Administrator, legal counsel, and the District Manag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433A-5B2E-44B6-9DEF-BC57AE55B9F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ORA and Electronic Record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320" y="21337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lnSpc>
                <a:spcPct val="90000"/>
              </a:lnSpc>
              <a:spcBef>
                <a:spcPts val="1599"/>
              </a:spcBef>
              <a:buClr>
                <a:srgbClr val="ff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lorado Open Records Act (CORA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65120" indent="-465120">
              <a:lnSpc>
                <a:spcPct val="90000"/>
              </a:lnSpc>
              <a:spcBef>
                <a:spcPts val="1599"/>
              </a:spcBef>
              <a:buClr>
                <a:srgbClr val="ff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96 General Assembly amended CORA requiring a policy on monitoring of electronic mail and notice that email may be a public reco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65120" indent="-465120">
              <a:lnSpc>
                <a:spcPct val="90000"/>
              </a:lnSpc>
              <a:spcBef>
                <a:spcPts val="1599"/>
              </a:spcBef>
              <a:buClr>
                <a:srgbClr val="ff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response, MWRD developed its Electronic Media Poli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0536-318A-452A-9884-668BB31703A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2362320" y="228600"/>
          <a:ext cx="495288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28600"/>
                    <a:ext cx="495288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21E3-71E9-40B7-BBD4-109686CADAB3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ORA and Electronic Record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18320" indent="-41832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WRD still struggles with production of electronic records, both under CORA and discove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16840" indent="-256680">
              <a:lnSpc>
                <a:spcPct val="90000"/>
              </a:lnSpc>
              <a:spcBef>
                <a:spcPts val="1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duce electronic records and email on stand-alone computer (read only forma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6840" indent="-256680">
              <a:lnSpc>
                <a:spcPct val="90000"/>
              </a:lnSpc>
              <a:spcBef>
                <a:spcPts val="1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ail trails lead to many duplica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6840" indent="-256680">
              <a:lnSpc>
                <a:spcPct val="90000"/>
              </a:lnSpc>
              <a:spcBef>
                <a:spcPts val="1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uplicate production from multiple receiv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6840" indent="-256680">
              <a:lnSpc>
                <a:spcPct val="90000"/>
              </a:lnSpc>
              <a:spcBef>
                <a:spcPts val="1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ual privilege checks, cumbersome/ expens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6E57-77BC-43F7-94F0-C6634D25F93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ORA and Electronic Record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sonal emails, public record or not - an issue because emails done on public time and a public system.  Resolved b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enver Publ. Co. v. Board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121 P.3d 190 (Colo. 2005) - sexually explicit emails were not public records solely because county email system used or because created while public servant being paid; must relate to public functions or the receipt or expenditure of public fun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AF63-40EA-4424-8BDF-FFA9B3461B8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How we got ther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ff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83 first Record Retention Poli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1599"/>
              </a:spcBef>
              <a:buClr>
                <a:srgbClr val="ff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83 identified as PRP at LLF Superfund Si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1599"/>
              </a:spcBef>
              <a:buClr>
                <a:srgbClr val="ff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gal counsel directs MWRD to stop destroying recor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1599"/>
              </a:spcBef>
              <a:buClr>
                <a:srgbClr val="ff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LF cases 1989 – 200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A270-55F1-4153-B596-4231697644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How we got ther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ff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covered 1996 MWRD destroying no recor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2520" indent="-452520">
              <a:spcBef>
                <a:spcPts val="1599"/>
              </a:spcBef>
              <a:buClr>
                <a:srgbClr val="ff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97 decision made to implement records destruction policy ag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2520" indent="-452520">
              <a:spcBef>
                <a:spcPts val="1599"/>
              </a:spcBef>
              <a:buClr>
                <a:srgbClr val="ff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cumulated ~6,500 cubic feet of recor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2520" indent="-452520">
              <a:spcBef>
                <a:spcPts val="1599"/>
              </a:spcBef>
              <a:buClr>
                <a:srgbClr val="ff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rst destruction ~1,100 cubic fe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7B3F-75E9-4B23-8626-13BEF9E74F5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WRD’s  File  Cod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599"/>
              </a:spcBef>
              <a:buClr>
                <a:srgbClr val="ff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District records broken down into file cod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1599"/>
              </a:spcBef>
              <a:buClr>
                <a:srgbClr val="ff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~260 file cod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1599"/>
              </a:spcBef>
              <a:buClr>
                <a:srgbClr val="ff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le codes identify documents in broad catego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6539-6CBB-42AC-A416-39A652B3B3A0}" type="slidenum">
              <a:t>6</a:t>
            </a:fld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WRD’s File Cod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le Code describ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53920" indent="-396720"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ode seri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853920" indent="-396720"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Department(s) of record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853920" indent="-396720"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rmat (paper/electronic/microfilm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853920" indent="-396720"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ubject matter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853920" indent="-396720"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Miscellaneous comment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853920" indent="-396720"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Retention time (legal/MWRD/total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8539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FA1D-E37D-4180-A51F-C9A0F58E811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1066680" y="2806560"/>
          <a:ext cx="3695760" cy="246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806560"/>
                    <a:ext cx="3695760" cy="24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1219320" y="849240"/>
          <a:ext cx="7467480" cy="5399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849240"/>
                    <a:ext cx="7467480" cy="539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5B44-9C6A-41A5-8BEB-BDF22ADEECB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WRD’s File Cod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ff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ch file code has one or more retention ti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342720"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Based upon multiple types of record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342720"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Based upon multiple applicable  retention tim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12CF-B3C1-4655-B643-E6F55A3ED3C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5T16:00:20Z</dcterms:created>
  <dc:creator>Bob Thomas</dc:creator>
  <dc:description/>
  <dc:language>en-US</dc:language>
  <cp:lastModifiedBy>whall</cp:lastModifiedBy>
  <dcterms:modified xsi:type="dcterms:W3CDTF">2006-11-01T17:32:28Z</dcterms:modified>
  <cp:revision>20</cp:revision>
  <dc:subject/>
  <dc:title>Slide 1</dc:title>
</cp:coreProperties>
</file>