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008813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70092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970440" y="-36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61720" y="703080"/>
            <a:ext cx="468612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701280" y="4451400"/>
            <a:ext cx="5607000" cy="4217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0" y="890244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970440" y="890244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A7F83B2-77E1-4634-AE11-8A2A10778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6208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51400"/>
            <a:ext cx="5607000" cy="4217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in retention times from Ed’s 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A74-2485-4C0B-96EF-13A81AF5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28F-318E-4608-85B9-15143765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C87-4363-4D9B-917D-FC752257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CE62-9B09-4D34-999D-11E39CDC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82E1-8C06-4394-AC46-6C0C22F5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E597-6537-43A9-9878-6BE33CB7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F31F-F001-44A3-8B14-E0541E1D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8607-D54C-41B7-A993-D58CA5A7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872D-2557-4585-B1A0-E2BFBEC8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ABBB-A31E-44B4-A366-EAE6BA49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64E4-DE6C-4510-AEA4-988ABD2A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509-BD23-4B3D-9DA5-CEC20D39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C853-9D0A-4DFF-87A2-9D8409B7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3E17-6B89-43F8-9480-8A8DCC2E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B778-FA46-405E-BE7A-FC69FFF1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BF43-B432-4566-B3DF-30ADDA64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7B10-5D0A-42B1-B947-20F46100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F437-CAD1-4B87-BECF-1FC2CC71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B9B1-9CE4-4E7F-9AB6-39724057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387-7851-4F7C-8FF6-0CF85CA9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B22D-9171-4005-9662-92340108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1C4-374E-4E8E-9C19-EB500B0F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5F7-F8C5-49E9-B0DD-4E8EC79B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6AD-595C-40E8-8660-30902A6E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7B50-4C9F-4C44-9587-A1029107FEC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E8BB-530F-48C6-AC34-E8504DFFC5C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CORDS RETENTION: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hould I delete that?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A case study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36520" y="2467080"/>
            <a:ext cx="777888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b Thomas, Director-Legal Department Metro Wastewater Reclamation Distri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EBF-6413-4C17-90C3-C2C4E43739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1066680" y="674640"/>
          <a:ext cx="7620120" cy="55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74640"/>
                    <a:ext cx="7620120" cy="55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991F-4934-4B0A-B569-1F846AB539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cords Retention and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sposition Schedu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developed 198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3160" indent="-44316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pdated 1987, 2000, 200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3160" indent="-44316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unting task – cites with retention ti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31240" indent="-276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S 4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31240" indent="-276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CR 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31240" indent="-276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C 8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31240" indent="-276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FR 99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D2D5-3E80-43AB-AF6B-C60D288ADB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cords Retention and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sposition Schedul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all records have specific retention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record has no retention time, used most applicable statute of limi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0FE3-8414-4DB3-9266-EBF611B414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143000" y="733320"/>
          <a:ext cx="7620120" cy="549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33320"/>
                    <a:ext cx="7620120" cy="54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BB5E-A96B-402C-AA7D-EE93022BE83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cords Retention and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sposition Schedu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riding them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31240" indent="-27684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e amount of reco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31240" indent="-27684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d records no longer than necessa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31240" indent="-27684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records minimal amount statute or regulation allow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31240" indent="-27684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multiple retention times are applicable, use longest to avoid piecemeal destru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E70D-803C-4086-ABF8-E653E44FDB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066680" y="1000080"/>
          <a:ext cx="7696440" cy="52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00080"/>
                    <a:ext cx="769644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7E07-33DB-49D6-9E69-78E6393D6B1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cords Retention and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sposition Schedu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ention times: 3 for each file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35100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al: Time required by statute, regulation or statute of limit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35100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WRD: Time which District needs to retain record for operational reas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35100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: Longer of 2 periods (can’t be shorter than legal or longer than MWR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045D-5137-4FD7-A437-729A6D405E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cords Retention and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sposition Schedu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ention Periods – dictate the start of the retention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93800" indent="-36864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: While equipment, facility, entity is                                        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93800" indent="-3686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D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ain until after aud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93800" indent="-3686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Y:  Current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93800" indent="-3686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:  Indefinite (similar to PERM, below, but possibility of being destroyed in futu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92C-353D-4240-97EF-36CDDF56D3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cords Retention and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sposition Schedu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ention Periods (co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9672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: Permanent (continuous preservation, e.g. Board minut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9672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L: Sett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9672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:  Superceded (e.g. MSDS shee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D8D-68ED-44A1-BF31-5C9AF97B35D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219320" y="838080"/>
          <a:ext cx="7543800" cy="54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754380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73C-A689-49FC-A031-5FB1D13ED0D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295280" y="990720"/>
          <a:ext cx="73915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73915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A4C-8F64-4FF0-8251-D47D97A5A6E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219320" y="685800"/>
          <a:ext cx="75438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85800"/>
                    <a:ext cx="75438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BEC8-28E2-47F8-BE75-7C35DF3B2EB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cords Retention and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sposition Schedu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0">
              <a:spcBef>
                <a:spcPts val="18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old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60440" indent="-343080">
              <a:lnSpc>
                <a:spcPct val="90000"/>
              </a:lnSpc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egal hol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Records retained past retention time on recommendation of counsel for pending or threatened litig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60440" indent="-343080">
              <a:lnSpc>
                <a:spcPct val="90000"/>
              </a:lnSpc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aff hol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Used when staff requests records be retained past retention time, requires Department Head approv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64D-4359-4238-825E-331FF0CDE9E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1219320" y="709560"/>
          <a:ext cx="7238880" cy="55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09560"/>
                    <a:ext cx="723888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FFD2-7D85-4165-9F4E-9268472C01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cords Retention and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sposition Schedu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tice of Destruction Schedule (NO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66440" indent="-327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s all records eligible for destruction as of January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66440" indent="-327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review by Central Records Dep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24080" indent="-335160">
              <a:spcBef>
                <a:spcPts val="601"/>
              </a:spcBef>
              <a:buClr>
                <a:srgbClr val="ffffcc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ires manual search of active and electronic files (emails exclude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66440" indent="-327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ed by legal counsel and department hea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0A8B-6532-4C7B-8294-0A30C6ED90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cords Retention and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sposition Schedu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12840" indent="-3128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D (co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22960" indent="-40716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al Approval by Records Management Administrator, legal counsel and District Manag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2960" indent="-40716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D currently uses a manual (paper) system approval proc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2960" indent="-40716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truction is at the container (box) or folder level, never at the document lev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41280" indent="-31536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exception: service contracts approved individual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30E2-E06A-4C15-ABF6-6ACEE4C91D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096920" y="533520"/>
          <a:ext cx="76662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533520"/>
                    <a:ext cx="76662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25E-23AA-47D4-8149-E3820666082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514600" y="152280"/>
          <a:ext cx="492588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52280"/>
                    <a:ext cx="49258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624-C4D1-43B2-9B7A-08C771A1ED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lectronic Records/Emai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6400" indent="-446400">
              <a:spcBef>
                <a:spcPts val="700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ge problem for all public/private ent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273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n records requ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273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very in litig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6400" indent="-446400">
              <a:spcBef>
                <a:spcPts val="1400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WRD developed EFR (Electronic File Repository), Xf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6400" indent="-446400">
              <a:spcBef>
                <a:spcPts val="1400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rict employees required to file all permanent electronic documents in EFR, excluding em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060C-B044-4FB3-8454-9219E72827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lectronic Records/Emai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 was cumbersome to 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departments adapted well, and others (e.g. Legal) …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icult to monitor for destruction purpo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59320" indent="-4294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culation to persons and depart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9320" indent="-4294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is to file (creat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9320" indent="-4294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pies not tracked, only EFR co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B4D-08BA-4810-A0EB-32A6FF5A061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lectronic Records/Emai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ic “convenience copies” and emails not tracked through Xf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lnSpc>
                <a:spcPct val="90000"/>
              </a:lnSpc>
              <a:spcBef>
                <a:spcPts val="2001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WRD’s Electronic Media Policy puts burden on employee to delete “convenience copies” and ema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lnSpc>
                <a:spcPct val="90000"/>
              </a:lnSpc>
              <a:spcBef>
                <a:spcPts val="2001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truction of “convenience copies” and emails on the honor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973-24B1-4B82-BF0A-FB3443716B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848720" cy="5715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Honus Wagner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94D-463F-4807-92D6-62EC82F4E4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WRD’s New System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FileSurf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bines elements of both Records Retention system and Xf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ository for final District docu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ic, including email and CA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5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ks down document into final version, no ed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BD32-82FB-40B2-AC10-C02881D3F7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WRD’s New System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FileSurf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jor Advant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ong search capabi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iliarity – paper version of current Retention Schedule and NOD will look nearly identical to FileSurf ver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s its own browser allowing user to view any form of document fi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00F9-CDAE-4277-B5DC-1418A4AA070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143000" y="380880"/>
          <a:ext cx="7639200" cy="590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880"/>
                    <a:ext cx="7639200" cy="590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C93-38DB-47F0-B079-ABBD4C8EE8C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WRD’s New System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FileSurf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leSurf N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6960" indent="-366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lly automated, no more manual searches for active or electronic rec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6960" indent="-366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viewing of container contents including individually filed rec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6960" indent="-366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its electronic approval of de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6960" indent="-366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al NOD list still requires signatures of Records Management Administrator, legal counsel, and the District Mana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CBE-2D37-4958-9459-C605374A5B6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RA and Electronic Recor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rado Open Records Act (CORA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lnSpc>
                <a:spcPct val="90000"/>
              </a:lnSpc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96 General Assembly amended CORA requiring a policy on monitoring of electronic mail and notice that email may be a public re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lnSpc>
                <a:spcPct val="90000"/>
              </a:lnSpc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response, MWRD developed its Electronic Media Poli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F21F-C74B-4639-91AC-2E0E819421E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362320" y="228600"/>
          <a:ext cx="49528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28600"/>
                    <a:ext cx="49528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1DB-A9D1-42A4-9C13-86963D89662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RA and Electronic Recor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8320" indent="-4183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WRD still struggles with production of electronic records, both under CORA and discov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6840" indent="-2566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e electronic records and email on stand-alone computer (read only form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6840" indent="-2566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ail trails lead to many duplic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6840" indent="-2566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plicate production from multiple receiv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6840" indent="-2566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ual privilege checks, cumbersome/ expens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E5C-385C-4277-B44A-7F651BD3639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RA and Electronic Recor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 emails, public record or not - an issue because emails done on public time and a public system.  Resolved b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nver Publ. Co. v. Board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121 P.3d 190 (Colo. 2005) - sexually explicit emails were not public records solely because county email system used or because created while public servant being paid; must relate to public functions or the receipt or expenditure of public fu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2B4-F2A4-43B4-A979-52CD06805EF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we got the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83 first Record Retention Poli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83 identified as PRP at LLF Superfund S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al counsel directs MWRD to stop destroying rec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LF cases 1989 – 200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DE1-AAFA-4815-B11A-D2CEDA05B8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we got the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overed 1996 MWRD destroying no rec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97 decision made to implement records destruction policy a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umulated ~6,500 cubic feet of rec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destruction ~1,100 cubic f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E11B-7CCA-48CF-95B6-CD540C3D0A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WRD’s  File  Cod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District records broken down into file co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~260 file co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le codes identify documents in broad categ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E8E5-77BA-4EAA-AAEB-C2FEF117A718}" type="slidenum">
              <a:t>6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WRD’s File Cod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le Code describ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9672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de ser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9672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partment(s) of recor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9672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rmat (paper/electronic/microfilm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9672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ubject matt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9672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iscellaneous comme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9672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tention time (legal/MWRD/total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7013-5EC4-4846-B168-F09067D137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066680" y="2806560"/>
          <a:ext cx="3695760" cy="246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06560"/>
                    <a:ext cx="369576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219320" y="849240"/>
          <a:ext cx="7467480" cy="5399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849240"/>
                    <a:ext cx="7467480" cy="53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05F-B4BA-40FA-918C-08A058BBBCD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WRD’s File Cod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file code has one or more retention ti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34272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ased upon multiple types of record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34272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ased upon multiple applicable  retention tim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934-74B4-4715-A779-2E98054C82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6:00:20Z</dcterms:created>
  <dc:creator>Bob Thomas</dc:creator>
  <dc:description/>
  <dc:language>en-US</dc:language>
  <cp:lastModifiedBy>whall</cp:lastModifiedBy>
  <dcterms:modified xsi:type="dcterms:W3CDTF">2006-11-01T17:32:28Z</dcterms:modified>
  <cp:revision>20</cp:revision>
  <dc:subject/>
  <dc:title>Slide 1</dc:title>
</cp:coreProperties>
</file>