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image20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gif" ContentType="image/gif"/>
  <Override PartName="/ppt/media/image14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693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693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693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693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693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693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693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693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693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4501"/>
              </a:spcBef>
              <a:spcAft>
                <a:spcPts val="22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559800" indent="-11196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784080" indent="-11196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008000" indent="-11196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008000" indent="-11196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008000" indent="-111960">
              <a:spcBef>
                <a:spcPts val="4501"/>
              </a:spcBef>
              <a:spcAft>
                <a:spcPts val="225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4.png"/><Relationship Id="rId17" Type="http://schemas.openxmlformats.org/officeDocument/2006/relationships/image" Target="../media/image15.gif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9072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457200"/>
            <a:ext cx="71629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df9a3"/>
                </a:solidFill>
                <a:uFillTx/>
                <a:latin typeface="Arial"/>
              </a:rPr>
              <a:t>Clean Water Act Compliance Issues – Challenges, Priorities, and Innovations</a:t>
            </a:r>
            <a:r>
              <a:rPr b="0" lang="en-US" sz="4000" spc="-1" strike="noStrike">
                <a:solidFill>
                  <a:srgbClr val="7df9a3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States’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6 NACWA Clean Water Law Seminar – Boston, 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any A.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ember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novative and New Appro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Quality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Policies and Legal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9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novative and New Approach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shed Based Permitting – Look at the Whole Instead of the P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A Guid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tershed General Permi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 River/LIS TMD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mwater – ICM TMD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2056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England Innovative TMDL Group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-line Repor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DES Issuance Cyc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iteria and Standard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spcAft>
                <a:spcPts val="22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trient Crite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spcAft>
                <a:spcPts val="22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tidegrad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spcAft>
                <a:spcPts val="22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24280" y="4191120"/>
          <a:ext cx="3702240" cy="24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191120"/>
                    <a:ext cx="37022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724280" y="1752480"/>
            <a:ext cx="37386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orit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O/SSO Eli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luent Nutrient Lim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FO Compliance -- CN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spcAft>
                <a:spcPts val="1500"/>
              </a:spcAft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mwater -- MS4 Compliance -- M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486400" y="4994280"/>
            <a:ext cx="248616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191120" y="3505320"/>
            <a:ext cx="2449440" cy="183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400800" y="2514600"/>
            <a:ext cx="2495520" cy="187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572000" y="1752480"/>
            <a:ext cx="2203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nicipal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and long-term financ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ation of Phased TMD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ormwa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 Manageme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-Based Inspectio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SzPct val="240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l Permi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A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TCP Implemen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251"/>
              </a:spcBef>
              <a:spcAft>
                <a:spcPts val="1125"/>
              </a:spcAft>
              <a:buSzPct val="2056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ing Infrastructure and Facility Mainten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58080" y="4800600"/>
          <a:ext cx="3085920" cy="1438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58080" y="4800600"/>
                    <a:ext cx="3085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791320" y="1752480"/>
            <a:ext cx="542880" cy="5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62920" y="1447920"/>
            <a:ext cx="81900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629400" y="2743200"/>
          <a:ext cx="2190600" cy="16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9400" y="2743200"/>
                    <a:ext cx="219060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ational Policies and Legal Issues to Watch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spcAft>
                <a:spcPts val="2001"/>
              </a:spcAft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t Weather SN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spcAft>
                <a:spcPts val="2001"/>
              </a:spcAft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shed Based Permitting Guid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spcAft>
                <a:spcPts val="2001"/>
              </a:spcAft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d TMDL Guid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spcAft>
                <a:spcPts val="2001"/>
              </a:spcAft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WA Jurisdiction Interpre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943600" y="1219320"/>
            <a:ext cx="2933640" cy="197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248520" y="3886200"/>
            <a:ext cx="18144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33412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1080" y="762120"/>
            <a:ext cx="5334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hany A.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IWP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6 John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tt Mills 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ll, MA 01852-1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978) 323 – 7929 ext. 2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bcard@neiwpc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8381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9:25:18Z</dcterms:created>
  <dc:creator>couellette</dc:creator>
  <dc:description/>
  <dc:language>en-US</dc:language>
  <cp:lastModifiedBy>NEI_USR</cp:lastModifiedBy>
  <dcterms:modified xsi:type="dcterms:W3CDTF">2006-10-26T14:54:03Z</dcterms:modified>
  <cp:revision>93</cp:revision>
  <dc:subject/>
  <dc:title>Presentation name</dc:title>
</cp:coreProperties>
</file>