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203AA-F103-480A-9711-04330B65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al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on 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8FB-B09B-4BBB-810D-E2652945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DA1-331E-496B-B83C-C6B05708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D61-5814-4EE9-978E-A47E7560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CBE-59DC-432D-99F0-4D3CEAD6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A93-C40C-4776-8236-68C8D7AE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D9B-BEBA-43EE-BE4A-55C528E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951-2078-4871-9BA5-D307AFA3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47D-7E69-4E52-99E4-17114DC5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54D-3CFA-43BB-8B2D-2E0B30F7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A17-5857-4B08-8590-9D7771A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1A7-EE0A-4F23-AFC1-EED15A4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BD4-508D-475A-BC03-D53D02A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A375-D98A-4601-8BD6-813F88B1F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emura@limno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pa.gov/nerl/news/forum2006/brenner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8.jpeg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How to be “Passionate About Pathogens”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rienne  Nemura, P.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mno-Tech, Inc. (LTI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 Arbor, M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ura@limn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734) 332-1200 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631800"/>
            <a:ext cx="3789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 Clean Water Law Semina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rsday November 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raton Bo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5334120"/>
            <a:ext cx="4665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hio River Model (Demonstration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ORS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83" t="0" r="0" b="3185"/>
          <a:stretch/>
        </p:blipFill>
        <p:spPr>
          <a:xfrm>
            <a:off x="228600" y="1828800"/>
            <a:ext cx="857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971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iver Mod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ally Looks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977" t="0" r="0" b="0"/>
          <a:stretch/>
        </p:blipFill>
        <p:spPr>
          <a:xfrm>
            <a:off x="3200400" y="380880"/>
            <a:ext cx="5715000" cy="285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0" b="4046"/>
          <a:stretch/>
        </p:blipFill>
        <p:spPr>
          <a:xfrm>
            <a:off x="3200400" y="3733920"/>
            <a:ext cx="5715000" cy="28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004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urs La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tput can be processed to evaluate exceedances of cri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6386"/>
          <a:stretch/>
        </p:blipFill>
        <p:spPr>
          <a:xfrm>
            <a:off x="304920" y="2057400"/>
            <a:ext cx="8589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ver (Fate and Transport)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ed method of evalua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load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transported down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diluted by water from cleaner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increased due to other sources (sometimes resuspen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“lost”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by U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ing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876920"/>
            <a:ext cx="3352680" cy="1447560"/>
            <a:chOff x="4800600" y="4876920"/>
            <a:chExt cx="3352680" cy="1447560"/>
          </a:xfrm>
        </p:grpSpPr>
        <p:sp>
          <p:nvSpPr>
            <p:cNvPr id="112" name=""/>
            <p:cNvSpPr/>
            <p:nvPr/>
          </p:nvSpPr>
          <p:spPr>
            <a:xfrm>
              <a:off x="4800600" y="4876920"/>
              <a:ext cx="380880" cy="14475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5410080"/>
              <a:ext cx="27432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ecay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ecay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66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instream measurements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66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vary, generally between 1-2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3716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75248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905120"/>
            <a:ext cx="4114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01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1905120"/>
            <a:ext cx="426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istical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developed for understanding and predicting beach clo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a 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ay bef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 x Onshor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c x Wave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d x Rain…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 high quality, robust data set; experts; tru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isk analysis proces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TI / EOA (Adam Olivieri) / Drexel (Chuck Haas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1981080"/>
            <a:ext cx="7586280" cy="4666680"/>
            <a:chOff x="1219320" y="1981080"/>
            <a:chExt cx="7586280" cy="4666680"/>
          </a:xfrm>
        </p:grpSpPr>
        <p:grpSp>
          <p:nvGrpSpPr>
            <p:cNvPr id="125" name=""/>
            <p:cNvGrpSpPr/>
            <p:nvPr/>
          </p:nvGrpSpPr>
          <p:grpSpPr>
            <a:xfrm>
              <a:off x="1294920" y="2118600"/>
              <a:ext cx="6224040" cy="4529160"/>
              <a:chOff x="1294920" y="2118600"/>
              <a:chExt cx="6224040" cy="45291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512080" y="2118600"/>
                <a:ext cx="2351520" cy="574560"/>
                <a:chOff x="2512080" y="2118600"/>
                <a:chExt cx="2351520" cy="5745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512080" y="2118600"/>
                  <a:ext cx="2351520" cy="574560"/>
                </a:xfrm>
                <a:prstGeom prst="rect">
                  <a:avLst/>
                </a:prstGeom>
                <a:solidFill>
                  <a:srgbClr val="ffffff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545560" y="2207520"/>
                  <a:ext cx="2298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azard Ident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4936320" y="3176280"/>
                <a:ext cx="2582640" cy="735480"/>
              </a:xfrm>
              <a:prstGeom prst="rect">
                <a:avLst/>
              </a:prstGeom>
              <a:solidFill>
                <a:srgbClr val="99ffcc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94640" y="3265200"/>
                <a:ext cx="2448360" cy="36324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posure Assess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44520" y="2693160"/>
                <a:ext cx="897840" cy="367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294920" y="3107160"/>
                <a:ext cx="2687040" cy="505440"/>
                <a:chOff x="1294920" y="3107160"/>
                <a:chExt cx="2687040" cy="505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294920" y="3107160"/>
                  <a:ext cx="2687040" cy="505440"/>
                </a:xfrm>
                <a:prstGeom prst="rect">
                  <a:avLst/>
                </a:prstGeom>
                <a:solidFill>
                  <a:srgbClr val="99ffcc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414080" y="3127320"/>
                  <a:ext cx="2504160" cy="363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ose Response 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 flipH="1">
                <a:off x="1988280" y="2624040"/>
                <a:ext cx="472680" cy="367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9200" y="4417920"/>
                <a:ext cx="2457360" cy="505440"/>
              </a:xfrm>
              <a:prstGeom prst="rect">
                <a:avLst/>
              </a:prstGeom>
              <a:solidFill>
                <a:srgbClr val="99ffcc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7240" y="4462200"/>
                <a:ext cx="2348640" cy="36324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sk Characteriz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889160" y="3911760"/>
                <a:ext cx="1112400" cy="390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5960" y="3728160"/>
                <a:ext cx="764640" cy="643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821680" y="5797440"/>
                <a:ext cx="3216240" cy="850320"/>
                <a:chOff x="2821680" y="5797440"/>
                <a:chExt cx="3216240" cy="850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821680" y="5797440"/>
                  <a:ext cx="3216240" cy="850320"/>
                </a:xfrm>
                <a:prstGeom prst="ellipse">
                  <a:avLst/>
                </a:prstGeom>
                <a:solidFill>
                  <a:srgbClr val="ffffff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94800" y="5886360"/>
                  <a:ext cx="220320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ecision Making - Risk Manag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282200" y="4900680"/>
                <a:ext cx="0" cy="850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137000" y="6050520"/>
              <a:ext cx="16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AS, 19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1981080"/>
              <a:ext cx="6448320" cy="31035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3160" y="2187720"/>
              <a:ext cx="225792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k Assess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ational risk assessment for pathog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33680"/>
            <a:ext cx="3047760" cy="21686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zard is illnes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zoa: Crypto &amp; Gi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– Norwalk-like &amp; rot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- Salmonella spp. &amp; Shigella s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91120"/>
            <a:ext cx="3429000" cy="1202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se-response model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ial (protoz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 Poisson (virus &amp; bac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133720"/>
            <a:ext cx="3657600" cy="1477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osure occurs 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eational users inges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wimmers ingest a lot, boaters ingest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4257720"/>
            <a:ext cx="4496040" cy="10598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sk characterization determ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hazard occurrences based on rates of exposure to 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6095880"/>
            <a:ext cx="5410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of risk reduction fr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28954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809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724280" y="5334120"/>
            <a:ext cx="990720" cy="7617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99172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 /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der, J.S.,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urveillance for Waterborne-Disease Outbreaks Associated with Recreational Water – United States, 2001-200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In: Surveillance Summaries, October 22, 2004. MMWR 2004; 53 (No. SS-8): 1-2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1). Protocol for Developing Pathogen TMDLs, First Edition. EPA 841-R-00-002. Office of Wa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4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and Great Lakes Recreation Waters; Final Ru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40 CFR Part 131. Federal Register, Vol. 69, No. 220, pages 67218-6724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6a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Recreation Waters: Considerations for States as They Select Appropriate Risk Level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-823-F-06-012, August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6b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Recreation Waters: Using Single Sample Maximum Values in State Water Quality  Standard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-823-F-06-013, August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Brenner, et al. (2006c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apid Health-Based Method For Measuring Microbial Indicators Of Recreational Water Quality. EPA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pa.gov/nerl/news/forum2006/brenner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al Research Council. (1983).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“Risk Assessment in the Federal Government: Managing the Process,”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al Academy Press, Washington, D.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SA. (2004). Creating Successful Total Maximum Daily Load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ra, S. (1997). Surface Water-Quality Modeling. The McGraw-Hill Companies, Inc. N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ppenberger, F., K.J. Beven. (2006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gnorance is Bliss: Or seven reasons not to use uncertainty analysis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 Resources Research, Vol. 42, W05302, doi:10.1029/2005WR004820, pages 1-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ter quality criteria a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models applied to determine if the (recreational) water is sa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e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19047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odels in NPDES Perm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666880" y="228600"/>
          <a:ext cx="62755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"/>
                    <a:ext cx="6275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Reliability vs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82880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86728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4343400"/>
            <a:ext cx="3733560" cy="1523880"/>
          </a:xfrm>
          <a:custGeom>
            <a:avLst/>
            <a:gdLst/>
            <a:ahLst/>
            <a:rect l="l" t="t" r="r" b="b"/>
            <a:pathLst>
              <a:path w="2352" h="960">
                <a:moveTo>
                  <a:pt x="0" y="960"/>
                </a:moveTo>
                <a:cubicBezTo>
                  <a:pt x="132" y="720"/>
                  <a:pt x="264" y="480"/>
                  <a:pt x="432" y="336"/>
                </a:cubicBezTo>
                <a:cubicBezTo>
                  <a:pt x="600" y="192"/>
                  <a:pt x="792" y="144"/>
                  <a:pt x="1008" y="96"/>
                </a:cubicBezTo>
                <a:cubicBezTo>
                  <a:pt x="1224" y="48"/>
                  <a:pt x="1528" y="0"/>
                  <a:pt x="1728" y="48"/>
                </a:cubicBezTo>
                <a:cubicBezTo>
                  <a:pt x="1928" y="96"/>
                  <a:pt x="2104" y="232"/>
                  <a:pt x="2208" y="384"/>
                </a:cubicBezTo>
                <a:cubicBezTo>
                  <a:pt x="2312" y="536"/>
                  <a:pt x="2332" y="748"/>
                  <a:pt x="2352" y="960"/>
                </a:cubicBezTo>
              </a:path>
            </a:pathLst>
          </a:custGeom>
          <a:noFill/>
          <a:ln w="507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76520" y="1905120"/>
            <a:ext cx="2286000" cy="3962160"/>
          </a:xfrm>
          <a:prstGeom prst="line">
            <a:avLst/>
          </a:prstGeom>
          <a:ln w="507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2286000" cy="685800"/>
          </a:xfrm>
          <a:custGeom>
            <a:avLst/>
            <a:gdLst/>
            <a:ahLst/>
            <a:rect l="l" t="t" r="r" b="b"/>
            <a:pathLst>
              <a:path w="2352" h="960">
                <a:moveTo>
                  <a:pt x="0" y="960"/>
                </a:moveTo>
                <a:cubicBezTo>
                  <a:pt x="132" y="720"/>
                  <a:pt x="264" y="480"/>
                  <a:pt x="432" y="336"/>
                </a:cubicBezTo>
                <a:cubicBezTo>
                  <a:pt x="600" y="192"/>
                  <a:pt x="792" y="144"/>
                  <a:pt x="1008" y="96"/>
                </a:cubicBezTo>
                <a:cubicBezTo>
                  <a:pt x="1224" y="48"/>
                  <a:pt x="1528" y="0"/>
                  <a:pt x="1728" y="48"/>
                </a:cubicBezTo>
                <a:cubicBezTo>
                  <a:pt x="1928" y="96"/>
                  <a:pt x="2104" y="232"/>
                  <a:pt x="2208" y="384"/>
                </a:cubicBezTo>
                <a:cubicBezTo>
                  <a:pt x="2312" y="536"/>
                  <a:pt x="2332" y="748"/>
                  <a:pt x="2352" y="960"/>
                </a:cubicBezTo>
              </a:path>
            </a:pathLst>
          </a:custGeom>
          <a:noFill/>
          <a:ln w="507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2860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 Black"/>
              </a:rPr>
              <a:t>Infinit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495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Substant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 Black"/>
              </a:rPr>
              <a:t>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19400" y="369360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257800"/>
            <a:ext cx="381240" cy="30492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648320"/>
            <a:ext cx="380880" cy="30456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3352680"/>
            <a:ext cx="381240" cy="30492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76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Black"/>
              </a:rPr>
              <a:t>Where we want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65512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le, Accurate Mo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514600"/>
            <a:ext cx="510516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514600"/>
            <a:ext cx="5105160" cy="32767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5559480"/>
            <a:ext cx="36648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57400" y="5321160"/>
            <a:ext cx="36540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22800" y="5089320"/>
            <a:ext cx="360360" cy="23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83160" y="4857840"/>
            <a:ext cx="36504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048200" y="4619520"/>
            <a:ext cx="36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4680" y="4387680"/>
            <a:ext cx="36540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780080" y="4155840"/>
            <a:ext cx="368280" cy="23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48360" y="3917880"/>
            <a:ext cx="35856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06920" y="3686040"/>
            <a:ext cx="36540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872320" y="3447720"/>
            <a:ext cx="3664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238800" y="2984400"/>
            <a:ext cx="725400" cy="46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8720" y="555300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5560" y="5307120"/>
            <a:ext cx="1220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24120" y="4984920"/>
            <a:ext cx="123840" cy="11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0960" y="4753080"/>
            <a:ext cx="122400" cy="11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7800" y="4508640"/>
            <a:ext cx="122040" cy="11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2840" y="440208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91120" y="4178160"/>
            <a:ext cx="120600" cy="11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48240" y="376380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15080" y="3517920"/>
            <a:ext cx="1220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3308400"/>
            <a:ext cx="12240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64480" y="2752560"/>
            <a:ext cx="438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7560" y="27748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le, Less Accurate Mo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14600" y="562896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97280" y="539100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9600" y="5146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662280" y="4908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44960" y="4670280"/>
            <a:ext cx="3826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4433400"/>
            <a:ext cx="38412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11760" y="4194000"/>
            <a:ext cx="38088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92640" y="3949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75320" y="3711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58000" y="347328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40320" y="2990880"/>
            <a:ext cx="76536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6800" y="551484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075280"/>
            <a:ext cx="12852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2160" y="48942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4480" y="5175360"/>
            <a:ext cx="12888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67160" y="4309920"/>
            <a:ext cx="128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51280" y="42163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33960" y="444672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16640" y="419400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99320" y="345276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80200" y="37051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9200" y="2687760"/>
            <a:ext cx="3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3840" y="27097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ed Model (Unreliable and not Accurat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14600" y="562896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97280" y="539100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9600" y="5146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62280" y="4908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044960" y="4670280"/>
            <a:ext cx="3826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27640" y="4433400"/>
            <a:ext cx="38412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811760" y="4194000"/>
            <a:ext cx="38088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92640" y="3949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575320" y="3711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958000" y="347328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40320" y="2990880"/>
            <a:ext cx="76536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72428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67160" y="4309920"/>
            <a:ext cx="128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2163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441972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6640" y="419400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2900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380988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9200" y="2687760"/>
            <a:ext cx="3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43840" y="27097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480060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480060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45720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3048120"/>
            <a:ext cx="12852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3276720"/>
            <a:ext cx="12852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45720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41418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15156" r="3460" b="8501"/>
          <a:stretch/>
        </p:blipFill>
        <p:spPr>
          <a:xfrm>
            <a:off x="6904080" y="1327320"/>
            <a:ext cx="1660320" cy="17524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3704" r="0" b="3704"/>
          <a:stretch/>
        </p:blipFill>
        <p:spPr>
          <a:xfrm>
            <a:off x="3548160" y="40384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1327320"/>
            <a:ext cx="2514600" cy="179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0" t="0" r="0" b="3494"/>
          <a:stretch/>
        </p:blipFill>
        <p:spPr>
          <a:xfrm>
            <a:off x="3505320" y="1327320"/>
            <a:ext cx="2827080" cy="179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5861" t="0" r="29296" b="0"/>
          <a:stretch/>
        </p:blipFill>
        <p:spPr>
          <a:xfrm>
            <a:off x="6916680" y="4191120"/>
            <a:ext cx="1635120" cy="167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440" y="31226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 Feeding Operations &amp;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70400" y="3274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tewater Treatment Plants (WWT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86680" y="319896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icipalities &amp; Utilities with CSOs, SSOs, and stormwater dis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6019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sh Produce Suppliers/Pack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184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Treatment Plants (WT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6680" y="6019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by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eational water-associated outbreak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reased significan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2001-2002 [since 197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gastroenteriti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yptosporidium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. coli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and noro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s (2001-2002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 WB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36 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 hospitaliz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dea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3571920" cy="2219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91280" y="228600"/>
            <a:ext cx="1747800" cy="158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59436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Yode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t. 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62720" y="1905120"/>
            <a:ext cx="2438280" cy="2286000"/>
            <a:chOff x="5562720" y="1905120"/>
            <a:chExt cx="2438280" cy="2286000"/>
          </a:xfrm>
        </p:grpSpPr>
        <p:sp>
          <p:nvSpPr>
            <p:cNvPr id="74" name=""/>
            <p:cNvSpPr/>
            <p:nvPr/>
          </p:nvSpPr>
          <p:spPr>
            <a:xfrm>
              <a:off x="5562720" y="1905120"/>
              <a:ext cx="2438280" cy="228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rcRect l="23763" t="85030" r="3916" b="-982"/>
            <a:stretch/>
          </p:blipFill>
          <p:spPr>
            <a:xfrm>
              <a:off x="5715000" y="3505320"/>
              <a:ext cx="21337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rcRect l="26833" t="9566" r="15322" b="77661"/>
            <a:stretch/>
          </p:blipFill>
          <p:spPr>
            <a:xfrm>
              <a:off x="5715000" y="2057400"/>
              <a:ext cx="2133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rcRect l="26833" t="28731" r="15322" b="60091"/>
            <a:stretch/>
          </p:blipFill>
          <p:spPr>
            <a:xfrm>
              <a:off x="5715000" y="2819520"/>
              <a:ext cx="21337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533520" y="167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C Morbidity and Mortal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523880"/>
            <a:ext cx="27432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25146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2590920" cy="10670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What their side leaves ou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of the 30 (60%) gastrointestinal outbreaks were associated with swimming or wad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due to individual cases of exposure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aegleria fow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common ele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ence of diaper-aged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per-changing on the b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shing of you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fants &amp; children going swimming with diarrhe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3200400"/>
            <a:ext cx="8229600" cy="3078000"/>
            <a:chOff x="533520" y="3200400"/>
            <a:chExt cx="8229600" cy="30780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858360" y="3200400"/>
              <a:ext cx="174312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33520" y="5715000"/>
              <a:ext cx="82296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DC: don’t open your mouth in the swimming pool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EPA Recommend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Indicator) Bacteria Criteria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PA 2004, 2006a, 2006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1523880"/>
          <a:ext cx="8382240" cy="433548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1524240"/>
                <a:gridCol w="1331640"/>
                <a:gridCol w="1422720"/>
                <a:gridCol w="1589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>
                      <a:noFill/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c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fu/100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>
                      <a:noFill/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Sample Maximum (cfu/100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d Beach Area (75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2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ly Used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equently Used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-cocci (Mar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-cocci (F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col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6200000">
            <a:off x="5733720" y="3180600"/>
            <a:ext cx="228600" cy="590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3720 h 5905800"/>
              <a:gd name="textAreaBottom" fmla="*/ 5752080 h 590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8"/>
                </a:lnTo>
                <a:cubicBezTo>
                  <a:pt x="10800" y="9958"/>
                  <a:pt x="5400" y="10858"/>
                  <a:pt x="0" y="10858"/>
                </a:cubicBezTo>
                <a:cubicBezTo>
                  <a:pt x="5400" y="10858"/>
                  <a:pt x="10800" y="11758"/>
                  <a:pt x="10800" y="1265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61722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beach closure and notification (not an acute criteri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103800"/>
            <a:ext cx="2895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st estimate of illness r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-10 in 1,000 for fresh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 in 1,000 for m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1942920" y="5371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echniques for measuring indica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PCR (Quantitative Polymerase Chain Reaction) (Brenner et al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riteria for specific pathoge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sporidia, Gi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c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monella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for site-specific risk 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-duration curves (not cover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e and transport of indicator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shed, sewer system, and river (instream)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assess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9621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ptual Model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ton (NY) Watershed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37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 relative risk for 12 watersh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makes deterministic modeling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risk-ranking used to evaluate potent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363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5:46:47Z</dcterms:created>
  <dc:creator>ADN</dc:creator>
  <dc:description/>
  <dc:language>en-US</dc:language>
  <cp:lastModifiedBy>Adrienne Nemura</cp:lastModifiedBy>
  <dcterms:modified xsi:type="dcterms:W3CDTF">2006-11-16T15:55:15Z</dcterms:modified>
  <cp:revision>32</cp:revision>
  <dc:subject/>
  <dc:title>2006 Clean Water Law Seminar All Models are Wrong; Some are Useful: How to Make a Model Work for Your Case Thursday November 16  Sheraton Boston</dc:title>
</cp:coreProperties>
</file>