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85115-F82D-4EC4-8A3E-1EB3CFD0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5134-70FE-4C87-BCEC-9267171E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BB011-3EF7-4539-9AE7-CDA00826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7E34-15A8-4A31-AA4A-13D260EE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874C-EB31-40F0-99C3-346DA63C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6AD4-C0DE-4A78-93A8-3E110289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2E97-12B9-45D1-8A93-FA441FB4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2287-3BF8-4DE2-BA89-ED4B7BBC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B6A6-5275-4569-984F-FA2890D4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C14F-9B63-4401-AE2E-32E07F8C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C144-9A91-4492-B809-8F89CFF1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C189-CBCC-4EBE-85B1-2B61F589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7F7F-0D5F-4B5B-B5A8-287AA776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880F-811B-443E-A79D-A45859B1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FACE-4E44-456F-9524-C659039F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2295-46FF-4025-ADA2-30E3EA6A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9E9E-B648-4872-B5FE-F7B42A8A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1935E-D6CE-46BC-916F-7D24E6C2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9A612-819C-4E00-92ED-FF4EDFD7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F3C89-C0EF-4E6A-A661-406FBD0C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220D3-B634-4719-AD77-AD533FEA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248A7-2567-422D-A111-C0E0D1C1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ED15A-133D-41CA-837A-2BA3D18E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5B9D-893E-4C07-992B-1B5637FD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52E4-3DAC-4BC8-8315-DAED4848C8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482B-021C-4E0B-A285-03CADA713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609480"/>
            <a:ext cx="8381880" cy="71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Tahoma"/>
              </a:rPr>
              <a:t>CSO ENFORCEMENT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ahoma"/>
              </a:rPr>
              <a:t>WET WEATHER PARTNERSHIP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Tahoma"/>
              </a:rPr>
              <a:t>WALKER B. SMI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Tahoma"/>
              </a:rPr>
              <a:t>MARK POLL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ahoma"/>
              </a:rPr>
              <a:t>OFFICE OF ENFORCEMENT AND COMPLIANCE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ahoma"/>
              </a:rPr>
              <a:t>U.S. E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ahoma"/>
              </a:rPr>
              <a:t>-June 2, 2006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8E53-595B-41AF-A77E-53CCBAEF20A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Tahoma"/>
              </a:rPr>
              <a:t>CSO Significant Non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EPA’s 1986 </a:t>
            </a:r>
            <a:r>
              <a:rPr b="0" i="1" lang="en-US" sz="2000" spc="-1" strike="noStrike">
                <a:solidFill>
                  <a:srgbClr val="00007d"/>
                </a:solidFill>
                <a:latin typeface="Tahoma"/>
              </a:rPr>
              <a:t>NPDES Enforcement Management System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(which contains Significant Noncompliance criteria)</a:t>
            </a:r>
            <a:r>
              <a:rPr b="1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pre-dates EPA’s 1994 CSO Policy</a:t>
            </a:r>
            <a:r>
              <a:rPr b="0" i="1" lang="en-US" sz="2000" spc="-1" strike="noStrike">
                <a:solidFill>
                  <a:srgbClr val="00007d"/>
                </a:solidFill>
                <a:latin typeface="Tahoma"/>
              </a:rPr>
              <a:t>. 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Therefore, EPA’s current SNC criteria do not address CSO viol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December 2005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: EPA started a workgroup with states to develop an addendum to the existing SNC policy for “wet weather” violations (including CSOs and SSO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For CSOs, the goal is to develop appropriate, comprehensive, and clear criteria to prioritize CSO violators in accordance with the 1994 CSO Poli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Fourth quarter 2006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: estimated time for final SNC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B746D-E146-4D5B-9F32-410FDE04FB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Tahoma"/>
              </a:rPr>
              <a:t>CSO Significant Noncomp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The SNC Policy is being closely coordinated with a project to modernize the Permit Compliance System to ensure that SNC systems are tracked appropri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States are providing input on the SNC Policy through the workgroup started by EPA in 2005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Stakeholders may submit informal comments expressing their view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355B-6CAE-4D38-BB52-CC7978B7529C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ahoma"/>
              </a:rPr>
              <a:t>Background: </a:t>
            </a:r>
            <a:r>
              <a:rPr b="1" i="1" lang="en-US" sz="3200" spc="-1" strike="noStrike">
                <a:solidFill>
                  <a:srgbClr val="00007d"/>
                </a:solidFill>
                <a:latin typeface="Tahoma"/>
              </a:rPr>
              <a:t>CSO Enforcement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Combined sewer overflows (CSOs)/sanitary sewer overflows (SSOs) were redesignated a national enforcement priority for 2005-2007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CSOs/SSOs have been designated a national enforcement priority since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EPA’s national priorities were selected based on three 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Significant environmental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Patterns of non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Appropriate EPA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For the priority-setting process, OECA hosted a meeting of HQ, regions, states, tribes and state associations to discuss the 16 candidate prioriti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83F7-7882-453F-9E1A-C60A790D8FE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ahoma"/>
              </a:rPr>
              <a:t>Background: </a:t>
            </a:r>
            <a:r>
              <a:rPr b="1" i="1" lang="en-US" sz="3200" spc="-1" strike="noStrike">
                <a:solidFill>
                  <a:srgbClr val="00007d"/>
                </a:solidFill>
                <a:latin typeface="Tahoma"/>
              </a:rPr>
              <a:t>CSO Enforcement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Participants received detailed descriptions of potential priorities, participated in facilitated discussions of candidates and were requested to rank their choice of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The Wet Weather priority (which includes CSOs and SSOs) received the broadest support in the 2005-2007 priority-setting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CSOs/SSOs will likely be redesignated a national enforcement priority for the next priority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9AB2-2D84-4EB5-9CAF-DEA69469E4D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7d"/>
                </a:solidFill>
                <a:latin typeface="Tahoma"/>
              </a:rPr>
              <a:t>Background: </a:t>
            </a:r>
            <a:r>
              <a:rPr b="1" i="1" lang="en-US" sz="3400" spc="-1" strike="noStrike">
                <a:solidFill>
                  <a:srgbClr val="00007d"/>
                </a:solidFill>
                <a:latin typeface="Tahoma"/>
              </a:rPr>
              <a:t>Reasons for Enforce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Federal enforcement targeting for authorized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Most egregious viol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Failure to achieve compliance despite prior enfor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Larges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Costly and complex injunctive rel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Where there is significant public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Where states request EPA invol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Where EPA is the NPDES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3A7D-A655-444B-B831-B8A264961D8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Tahoma"/>
              </a:rPr>
              <a:t>Federal-Stat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Under the CWA, EPA may authorize states to administer the NPDES program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States with authorized permit programs have the lead in the day-to-day administration of these progra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In the majority of water enforcement cases (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including hundreds of CSO and SSO cases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), authorized states in fact take the lead in responding to vio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Since 1987, states have taken approximately 750 administrative actions and 5 civil judicial actions against municipalities for SSO violations, and 75 administrative actions and 15 judicial actions for CSO violations.  (</a:t>
            </a:r>
            <a:r>
              <a:rPr b="0" i="1" lang="en-US" sz="1800" spc="-1" strike="noStrike">
                <a:solidFill>
                  <a:srgbClr val="00007d"/>
                </a:solidFill>
                <a:latin typeface="Tahoma"/>
              </a:rPr>
              <a:t>2004 Report to Congress</a:t>
            </a: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).</a:t>
            </a: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EPA retains concurrent authority under Section 402(i) of the CWA to take enforcement a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576FA-43FF-43FC-8354-A3BC9E80C5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Tahoma"/>
              </a:rPr>
              <a:t>Federal-State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EPA and ECOS developed the</a:t>
            </a: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Guidelines for Federal Enforcement in CSO/SSO Cases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(April 10, 2005) (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Guidelines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) to clarify EPA’s role in CSO/SSO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State participants included Ohio, Indiana, and Pennsylv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The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Guidelines</a:t>
            </a:r>
            <a:r>
              <a:rPr b="0" i="1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memorandum sets forth circumstances where it may be appropriate for EPA to take action to address CSO violations.  </a:t>
            </a:r>
            <a:r>
              <a:rPr b="0" i="1" lang="en-US" sz="2000" spc="-1" strike="noStrike">
                <a:solidFill>
                  <a:srgbClr val="00007d"/>
                </a:solidFill>
                <a:latin typeface="Tahoma"/>
              </a:rPr>
              <a:t>These are not limited to cases where a state fails to take timely and appropriate action – they also include cases with multi-state impacts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Taking action to address multi-state impacts ensures consistent and fair treatment of municipal violators in the same watersh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Example: Ohio River (Hamilton County, OH; Louisville, KY; Covington, K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DE32-0F9C-4EEF-8184-EC8BE65532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Tahoma"/>
              </a:rPr>
              <a:t>Federal-Stat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The goal of the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Guidelines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is to set the stage for early, open, and ongoing communication between EPA and states on addressing CSO/SSO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The</a:t>
            </a:r>
            <a:r>
              <a:rPr b="0" i="1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Guidelines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memorandum is intended to enhance the federal-state partnership that has been a central aspect of CSO/SSO enforc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States were co-plaintiffs in nearly 70% of federal CSO and SSO judicial cases since 199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40D77-5F50-4903-9656-68C68C5B1B4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Tahoma"/>
              </a:rPr>
              <a:t>Federal-Stat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EPA regions and authorized states have Performance Partnership Agreements and other agreements governing how CWA violations will be addres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These include workshare agreements dividing the CSO/SSO case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Regions and states are encouraged to incorporate the CSO/SSO guidelines in their enforcement agre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The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Guidelines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memorandum encourages regions and states to engage in full communication and coordination to define state and federal enforcement roles in CSO/SSO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C8E1-8759-4547-B127-317411DF9F0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ahoma"/>
              </a:rPr>
              <a:t>OECA’s Role in CSO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EPA’s Office of Enforcement and Compliance Assurance is the point of contact for enforcement actions against CSO communitie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OECA applies EPA policy and guidance (including the 1994 CSO Policy) on a case-by-case basis in its enforcement 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OECA coordinates with the Office of Water, as appropriate, on issues that arise in enforcement actions to ensure consistency with EPA policy and guidanc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OECA applies the 1995 Clean Water Act Penalty Policy.  Penalties are assessed under a separate table for municipa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OECA may waive the penalty under circumstances specified in the CSO Poli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CD7A-B346-4C83-AAE3-071328BBEF9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8:24:58Z</dcterms:created>
  <dc:creator>Region VIII</dc:creator>
  <dc:description/>
  <dc:language>en-US</dc:language>
  <cp:lastModifiedBy>mmorel</cp:lastModifiedBy>
  <dcterms:modified xsi:type="dcterms:W3CDTF">2006-06-02T17:14:22Z</dcterms:modified>
  <cp:revision>2114</cp:revision>
  <dc:subject/>
  <dc:title>Storm Water  Compliance at Construction Sites </dc:title>
</cp:coreProperties>
</file>