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7636-E5D1-49D2-B059-E0D318A5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6391-EC20-4020-8F8B-2756A728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4882-064E-4142-BFC4-5F2B98D2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083D-F751-406D-B97B-D85C2DAB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A45C-8B9A-4ABB-903F-386D7D89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6CAB-0FD1-45CC-A14D-53DE3281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7F79-FD59-49AB-821F-4D75386C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7FC8-2FE3-4A81-8321-7D22BC2B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F61D-8581-448E-92D1-253E06D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4096-DF88-4404-9AF6-EF9715B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03FB-29B5-4A8C-9DC4-D13C0E15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805B-831E-44BF-A597-613EB8D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599-9868-4820-90EB-67E407A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3FE4-418C-4770-99C2-572A9353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9F5D-6AAE-4A8D-A2AD-F1AA3A3B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CAED-D349-4B63-89E9-3928B15B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BDDD-6C10-4A85-9D4B-AD870A8F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1054-53F2-46C9-AEC3-DE3FC68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D9D8-0095-4CE2-9E6B-DCD9F04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11D7-C455-4E71-AC07-2AEE4649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E34C-3B04-4A02-A2FE-2798B3B1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930C-996B-4DEF-B4FC-2F9420A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8B57-2579-4205-9841-0B756E07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61F2-B2A7-4AB7-8C5D-8CE924D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4071-3195-46E3-9C96-85C171EB1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101E-43C7-4518-8D5D-C163C0434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609480"/>
            <a:ext cx="838188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CSO ENFORCEMENT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WET WEATHER PARTNERSHIP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Tahoma"/>
              </a:rPr>
              <a:t>WALKER B. SMI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Tahoma"/>
              </a:rPr>
              <a:t>MARK POLL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OFFICE OF ENFORCEMENT AND COMPLIANCE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U.S. E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ahoma"/>
              </a:rPr>
              <a:t>-June 2, 2006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0B71-0AB2-4107-B26A-BDE8AE9FFB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ahoma"/>
              </a:rPr>
              <a:t>CSO Significant Non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’s 1986 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NPDES Enforcement Management System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(which contains Significant Noncompliance criteria)</a:t>
            </a:r>
            <a:r>
              <a:rPr b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pre-dates EPA’s 1994 CSO Policy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. 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refore, EPA’s current SNC criteria do not address CSO viol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December 2005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: EPA started a workgroup with states to develop an addendum to the existing SNC policy for “wet weather” violations (including CSOs and SSO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For CSOs, the goal is to develop appropriate, comprehensive, and clear criteria to prioritize CSO violators in accordance with the 1994 CSO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Fourth quarter 2006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: estimated time for final SNC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7029-9444-4D22-BA30-2454F05237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CSO Significant Noncom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SNC Policy is being closely coordinated with a project to modernize the Permit Compliance System to ensure that SNC systems are tracked appropr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States are providing input on the SNC Policy through the workgroup started by EPA in 2005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takeholders may submit informal comments expressing their vie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B3D4-A358-4031-AE29-93DC203CCBBD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Background: </a:t>
            </a:r>
            <a:r>
              <a:rPr b="1" i="1" lang="en-US" sz="3200" spc="-1" strike="noStrike">
                <a:solidFill>
                  <a:srgbClr val="00007d"/>
                </a:solidFill>
                <a:latin typeface="Tahoma"/>
              </a:rPr>
              <a:t>CSO Enforcemen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Combined sewer overflows (CSOs)/sanitary sewer overflows (SSOs) were redesignated a national enforcement priority for 2005-200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CSOs/SSOs have been designated a national enforcement priority since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’s national priorities were selected based on three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ignificant environmental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Patterns of non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Appropriate EPA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For the priority-setting process, OECA hosted a meeting of HQ, regions, states, tribes and state associations to discuss the 16 candidate priorit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6177-5BF5-4595-8C15-86699CCF294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Background: </a:t>
            </a:r>
            <a:r>
              <a:rPr b="1" i="1" lang="en-US" sz="3200" spc="-1" strike="noStrike">
                <a:solidFill>
                  <a:srgbClr val="00007d"/>
                </a:solidFill>
                <a:latin typeface="Tahoma"/>
              </a:rPr>
              <a:t>CSO Enforcemen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Participants received detailed descriptions of potential priorities, participated in facilitated discussions of candidates and were requested to rank their choice of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Wet Weather priority (which includes CSOs and SSOs) received the broadest support in the 2005-2007 priority-sett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CSOs/SSOs will likely be redesignated a national enforcement priority for the next priority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F9E7-8C64-4D6A-B3EB-38442F6FEE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d"/>
                </a:solidFill>
                <a:latin typeface="Tahoma"/>
              </a:rPr>
              <a:t>Background: </a:t>
            </a:r>
            <a:r>
              <a:rPr b="1" i="1" lang="en-US" sz="3400" spc="-1" strike="noStrike">
                <a:solidFill>
                  <a:srgbClr val="00007d"/>
                </a:solidFill>
                <a:latin typeface="Tahoma"/>
              </a:rPr>
              <a:t>Reasons for Enforce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Federal enforcement targeting for authorize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Most egregious vio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Failure to achieve compliance despite prior e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Larges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Costly and complex injunctive r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Where there is significant public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Where states request EPA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Where EPA is the NPDES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76BB-598A-4992-BF2D-C7B9E1EF2A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Under the CWA, EPA may authorize states to administer the NPDES progra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tates with authorized permit programs have the lead in the day-to-day administration of these progra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In the majority of water enforcement cases (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including hundreds of CSO and SSO cas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), authorized states in fact take the lead in responding to vio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ince 1987, states have taken approximately 750 administrative actions and 5 civil judicial actions against municipalities for SSO violations, and 75 administrative actions and 15 judicial actions for CSO violations.  (</a:t>
            </a:r>
            <a:r>
              <a:rPr b="0" i="1" lang="en-US" sz="1800" spc="-1" strike="noStrike">
                <a:solidFill>
                  <a:srgbClr val="00007d"/>
                </a:solidFill>
                <a:latin typeface="Tahoma"/>
              </a:rPr>
              <a:t>2004 Report to Congress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).</a:t>
            </a: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 retains concurrent authority under Section 402(i) of the CWA to take enforcement 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463A-4E09-44FA-B965-F180F0B60E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 and ECOS developed the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 for Federal Enforcement in CSO/SSO Cas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(April 10, 2005) (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) to clarify EPA’s role in CSO/SSO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State participants included Ohio, Indiana, and Pennsylv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memorandum sets forth circumstances where it may be appropriate for EPA to take action to address CSO violations.  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These are not limited to cases where a state fails to take timely and appropriate action – they also include cases with multi-state impact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aking action to address multi-state impacts ensures consistent and fair treatment of municipal violators in the same watersh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xample: Ohio River (Hamilton County, OH; Louisville, KY; Covington, K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CF8D-244C-4B29-8B8D-FD089E8663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goal of the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is to set the stage for early, open, and ongoing communication between EPA and states on addressing CSO/SSO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</a:t>
            </a:r>
            <a:r>
              <a:rPr b="0" i="1" lang="en-US" sz="20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memorandum is intended to enhance the federal-state partnership that has been a central aspect of CSO/SSO enforc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States were co-plaintiffs in nearly 70% of federal CSO and SSO judicial cases since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801F-1948-41EE-AAD8-B502D2ADA3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Tahoma"/>
              </a:rPr>
              <a:t>Federal-Stat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 regions and authorized states have Performance Partnership Agreements and other agreements governing how CWA violations will be addres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These include workshare agreements dividing the CSO/SSO case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Regions and states are encouraged to incorporate the CSO/SSO guidelines in their enforcement agre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The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Guidelines</a:t>
            </a: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 memorandum encourages regions and states to engage in full communication and coordination to define state and federal enforcement roles in CSO/SSO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C606-EC2D-46F5-BC29-CED087C5D8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ahoma"/>
              </a:rPr>
              <a:t>OECA’s Role in CSO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EPA’s Office of Enforcement and Compliance Assurance is the point of contact for enforcement actions against CSO communiti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OECA applies EPA policy and guidance (including the 1994 CSO Policy) on a case-by-case basis in its enforcement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OECA coordinates with the Office of Water, as appropriate, on issues that arise in enforcement actions to ensure consistency with EPA policy and guid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ahoma"/>
              </a:rPr>
              <a:t>OECA applies the 1995 Clean Water Act Penalty Policy.  Penalties are assessed under a separate table for municipa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OECA may waive the penalty under circumstances specified in the CSO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D9B1-FB78-4C8D-9020-30ADE41BFD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8:24:58Z</dcterms:created>
  <dc:creator>Region VIII</dc:creator>
  <dc:description/>
  <dc:language>en-US</dc:language>
  <cp:lastModifiedBy>mmorel</cp:lastModifiedBy>
  <dcterms:modified xsi:type="dcterms:W3CDTF">2006-06-02T17:14:22Z</dcterms:modified>
  <cp:revision>2114</cp:revision>
  <dc:subject/>
  <dc:title>Storm Water  Compliance at Construction Sites </dc:title>
</cp:coreProperties>
</file>